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3.jpeg" ContentType="image/jpeg"/>
  <Override PartName="/ppt/media/image23.png" ContentType="image/png"/>
  <Override PartName="/ppt/media/image12.png" ContentType="image/png"/>
  <Override PartName="/ppt/media/image9.png" ContentType="image/png"/>
  <Override PartName="/ppt/media/image11.png" ContentType="image/png"/>
  <Override PartName="/ppt/media/image7.jpeg" ContentType="image/jpeg"/>
  <Override PartName="/ppt/media/image18.png" ContentType="image/png"/>
  <Override PartName="/ppt/media/image20.png" ContentType="image/png"/>
  <Override PartName="/ppt/media/image8.png" ContentType="image/png"/>
  <Override PartName="/ppt/media/image14.jpeg" ContentType="image/jpeg"/>
  <Override PartName="/ppt/media/image16.wmf" ContentType="image/x-wmf"/>
  <Override PartName="/ppt/media/image6.jpeg" ContentType="image/jpeg"/>
  <Override PartName="/ppt/media/image24.png" ContentType="image/png"/>
  <Override PartName="/ppt/media/image22.png" ContentType="image/png"/>
  <Override PartName="/ppt/media/image1.jpeg" ContentType="image/jpeg"/>
  <Override PartName="/ppt/media/image21.png" ContentType="image/png"/>
  <Override PartName="/ppt/media/image19.png" ContentType="image/png"/>
  <Override PartName="/ppt/media/image3.jpeg" ContentType="image/jpeg"/>
  <Override PartName="/ppt/media/image17.png" ContentType="image/png"/>
  <Override PartName="/ppt/media/image15.jpeg" ContentType="image/jpeg"/>
  <Override PartName="/ppt/media/image2.jpeg" ContentType="image/jpeg"/>
  <Override PartName="/ppt/media/image4.jpeg" ContentType="image/jpeg"/>
  <Override PartName="/ppt/media/image25.jpeg" ContentType="image/jpeg"/>
  <Override PartName="/ppt/media/image5.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ゴシック"/>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B4D12-8F07-446F-9E98-406AF0178140}" type="slidenum">
              <a:rPr b="0" lang="ja-JP"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73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3C3E1-12C1-42AD-8DC2-3885FE54E690}" type="slidenum">
              <a:rPr b="0" lang="ja-JP" sz="1200" spc="-1" strike="noStrike">
                <a:solidFill>
                  <a:srgbClr val="000000"/>
                </a:solidFill>
                <a:latin typeface="Calibri"/>
                <a:ea typeface="ＭＳ Ｐゴシック"/>
              </a:rPr>
              <a:t>&lt;number&gt;</a:t>
            </a:fld>
            <a:endParaRPr b="0" lang="en-US" sz="1200" spc="-1" strike="noStrike">
              <a:solidFill>
                <a:srgbClr val="663300"/>
              </a:solidFill>
              <a:latin typeface="Century Schoolbook"/>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73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4A932-7B14-4F1C-A352-7CF2FB53CA69}" type="slidenum">
              <a:rPr b="0" lang="ja-JP" sz="1200" spc="-1" strike="noStrike">
                <a:solidFill>
                  <a:srgbClr val="000000"/>
                </a:solidFill>
                <a:latin typeface="Calibri"/>
                <a:ea typeface="ＭＳ Ｐゴシック"/>
              </a:rPr>
              <a:t>&lt;number&gt;</a:t>
            </a:fld>
            <a:endParaRPr b="0" lang="en-US" sz="1200" spc="-1" strike="noStrike">
              <a:solidFill>
                <a:srgbClr val="663300"/>
              </a:solidFill>
              <a:latin typeface="Century Schoolboo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0256B-5783-4403-BA9A-1E7E224C5E35}" type="slidenum">
              <a:rPr b="0" lang="ja-JP" sz="1200" spc="-1" strike="noStrike">
                <a:solidFill>
                  <a:srgbClr val="000000"/>
                </a:solidFill>
                <a:latin typeface="Calibri"/>
                <a:ea typeface="ＭＳ Ｐゴシック"/>
              </a:rPr>
              <a:t>&lt;number&gt;</a:t>
            </a:fld>
            <a:endParaRPr b="0" lang="en-US" sz="1200" spc="-1" strike="noStrike">
              <a:solidFill>
                <a:srgbClr val="663300"/>
              </a:solidFill>
              <a:latin typeface="Century Schoolboo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918A36-0425-4727-B492-260EE31472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41BB20-0C12-4B9F-87D7-FC7DE3CCF3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42CDE6-1DC6-4777-89CE-675340CE76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FD99E5-82BF-49DF-AF5C-5C50998043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467041-BFCF-43D2-9832-AC8AB5D6E8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868735-0BC7-40D7-96C0-B29F6CA027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F0F139-1B65-4181-813F-330FF13CD9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E85D58-FF64-4678-895E-D779CA5C20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E43A53-C6FE-4128-91E0-E6736B5FF7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3F81CC-F51E-46C0-A2BF-CB8AB46EC9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64CB1E-A7B2-4187-9E25-6C346485EB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FA339F-6D8C-4191-B423-84251FB69A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65D80E-AD3C-4A4E-8699-9F24D764F6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EEDFE3-D6D3-4C8D-A7F4-331EBBCFF0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5BC32E-6C65-4A65-BC68-13D5096243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7FEEB2-7DDA-4584-8EED-888BA3D814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EF574B-A2E0-4DD1-9C0D-8272F45125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41B8B260-1E05-40DA-A7A9-AA07FF597E6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90CF16F-BE5C-4D24-B0F4-6759CEC988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D3D0DBC-5584-4F8E-9420-27B57BFC70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4CB75EE-0523-4B3C-A6A2-51E148DE13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C6DFB57-B8BE-4491-9E07-566D8EF1C6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168B2F-289B-4109-814D-BC9C67741A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A8A4E71-CDB6-456F-A305-E38FE8F134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296E5F2-36DA-4785-924E-DDCB6B03C9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ACEB4D0-5366-4063-AB3C-F63D8EE181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F6A8FBF-451B-4E45-A7EB-C8493A39CE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9EE2446-FB61-40E9-84E1-BAAAB8CF6A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CA4639A4-A91B-455D-AD3D-20810736793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5F6B019-0D10-4EBB-AB60-361681343C7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F28822F-96B7-418B-B04A-ED25EF5A12B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ED5C91-D0E2-4341-9FE8-A10724DE96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D459FF-9693-489F-BEA6-0E1B863EEA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0E3747-A1B7-4ED4-A000-94384350F6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C7CC1C-8BE2-4E48-9EE8-4214678D08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192244-E25F-4349-BE8D-93A9004311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BD2899-2D6E-4CCD-9568-845B756968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64ACBF-297F-4C42-9FB1-04DBDDD650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FCCC90-17EA-4CD6-9C60-981621BFD8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192795-EF9F-4BDE-93F9-B491533E94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25E76E-D01F-4BF0-AEF9-93181FC9C8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72FB4BC-1D7A-40DE-AF1B-71CE386AAB3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8EC9175-7333-445B-B081-9E53D28520D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4AA7E99-799E-4583-A783-18F8D66244E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7D081-5FB6-4318-82B8-0C7905E6D7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E9696DD-96B7-4DD0-89ED-6C72F9B81B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24D97D4-F390-41CC-88D1-F80A736774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864B285-C403-4C6B-9A3E-2CB1CBC469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C0172C0-2153-4593-8703-88EAB5ACBD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9590100-8C14-4B80-816E-E62160F57A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FB68C2F-B8B4-41DB-B344-6B6C0C0A8E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52DB787-DE43-4388-835C-171A441A63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6B1886F-A9A2-4C05-8A2A-06BD3973E5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D46169E-7541-48E4-8475-1088868918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3E243DF0-BFB8-43CB-8F47-29FF1EBDA19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4CA8D6-58D3-46E3-B822-E195239B1C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3CDB9150-84DE-46DF-A14E-9C898B79B88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5B84F71B-258A-47FE-A650-615BC0786C8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CFFD3F97-A87C-4B79-B0B2-34C5FDC1E2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9B680A85-99D4-4D34-9C4D-4964070FD0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9596DE21-6020-4F33-B766-F7FA532D6E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34DE8AA9-4C50-4103-9E61-8EA6CB6C0C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1CAB29A-F040-4F69-88EF-C01E597AEE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2EC552B-5D00-4D77-AF2D-F57CBE59A8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54A60D0-2655-4B88-A8E5-0D59CAFFD2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8BBD45B-6DF6-491C-A00C-CA189C1219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F8C2D-46EC-45D6-948C-E29FC4710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650C7D8F-FB9D-4298-A777-C7D52820D66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DB40AC0B-E010-4223-98CD-9B9223047EF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0D7E3B93-1902-4B1E-80B1-9926AA5F92E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E2EE4919-2514-482A-8999-51CB85589AD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CEB2003-A6FF-4798-8465-C99E16FC13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12244C4-6E97-45A5-BB1A-F0E6299043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2DF04FD-E3BB-4080-99B7-002AA4D7B6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6ED09D2-CD8C-49F2-B648-0A165229C1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6E9543C-5630-45B7-8EE3-7242DB3662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1E150CF-C171-42FF-B041-44DEF44548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E4691-4660-47A4-8E4B-ECE0D0C13D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B64E838-4598-4C74-9B38-393F22D8B2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9912E5F-0204-45E3-8E05-33E9693300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EE55E0B-364F-4552-860F-6BB93C2208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572A2994-88D0-4499-8CFC-0D747A4C619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69CA6EBA-7036-4A60-890F-FE3EF92B8BE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A94F6-58CA-40AE-9734-32682CC4EB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直線コネクタ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F1EB1-0B0A-44D8-8551-D3F3D3B9BA5D}" type="datetime">
              <a:rPr b="0" lang="ja-JP" sz="1200" spc="-1" strike="noStrike">
                <a:solidFill>
                  <a:srgbClr val="575f6d"/>
                </a:solidFill>
                <a:latin typeface="Times New Roman"/>
              </a:rPr>
              <a:t>26/07/29</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5" name="直線コネクタ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6" name="直線コネクタ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7" name="正方形/長方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8" name="直線コネクタ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9" name="円/楕円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3E412-251B-48AF-9623-2252A542E707}" type="slidenum">
              <a:rPr b="1" lang="ja-JP"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正方形/長方形 9"/>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48" name="正方形/長方形 11"/>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49" name="正方形/長方形 13"/>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50" name="正方形/長方形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51" name="直線コネクタ 10"/>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52" name="直線コネクタ 17"/>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53" name="直線コネクタ 19"/>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54" name="直線コネクタ 15"/>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55" name="直線コネクタ 1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56" name="直線コネクタ 21"/>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57" name="正方形/長方形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58" name="円/楕円 20"/>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59" name="円/楕円 22"/>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60" name="円/楕円 23"/>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61" name="円/楕円 25"/>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62" name="円/楕円 24"/>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DAA1C-1005-4663-9661-61F543A5C861}" type="datetime">
              <a:rPr b="0" lang="ja-JP" sz="1200" spc="-1" strike="noStrike">
                <a:solidFill>
                  <a:srgbClr val="575f6d"/>
                </a:solidFill>
                <a:latin typeface="Times New Roman"/>
              </a:rPr>
              <a:t>26/07/29</a:t>
            </a:fld>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BC29D-57DF-4686-B0D8-097D83156720}" type="slidenum">
              <a:rPr b="1" lang="ja-JP"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直線コネクタ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105" name="直線コネクタ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106" name="直線コネクタ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107" name="正方形/長方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108" name="直線コネクタ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109" name="円/楕円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10230-F79C-468E-8114-EDD81121F7BB}" type="datetime">
              <a:rPr b="0" lang="ja-JP" sz="1200" spc="-1" strike="noStrike">
                <a:solidFill>
                  <a:srgbClr val="575f6d"/>
                </a:solidFill>
                <a:latin typeface="Times New Roman"/>
              </a:rPr>
              <a:t>26/07/29</a:t>
            </a:fld>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0E682-0EE0-4A11-B01E-34FA322F6AC0}" type="slidenum">
              <a:rPr b="1" lang="ja-JP"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正方形/長方形 8"/>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152" name="正方形/長方形 9"/>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153" name="正方形/長方形 10"/>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154" name="正方形/長方形 11"/>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155" name="直線コネクタ 12"/>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156" name="直線コネクタ 13"/>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157" name="直線コネクタ 14"/>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158" name="直線コネクタ 15"/>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159" name="直線コネクタ 16"/>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160" name="正方形/長方形 1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161" name="円/楕円 1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162" name="円/楕円 19"/>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163" name="円/楕円 2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164" name="円/楕円 21"/>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165" name="円/楕円 22"/>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166" name="直線コネクタ 25"/>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AB756-FB79-4AB2-880B-906CA30F25F1}" type="datetime">
              <a:rPr b="0" lang="ja-JP" sz="1200" spc="-1" strike="noStrike">
                <a:solidFill>
                  <a:srgbClr val="fff39d"/>
                </a:solidFill>
                <a:latin typeface="Times New Roman"/>
              </a:rPr>
              <a:t>26/07/29</a:t>
            </a:fld>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326F6-CB55-4214-9FD7-21F20D9A7CE3}" type="slidenum">
              <a:rPr b="1" lang="ja-JP"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直線コネクタ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209" name="直線コネクタ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210" name="直線コネクタ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211" name="正方形/長方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212" name="直線コネクタ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213" name="円/楕円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CD5D7-53FC-487F-A52E-6313B6AA6DF4}" type="datetime">
              <a:rPr b="0" lang="ja-JP" sz="1200" spc="-1" strike="noStrike">
                <a:solidFill>
                  <a:srgbClr val="575f6d"/>
                </a:solidFill>
                <a:latin typeface="Times New Roman"/>
              </a:rPr>
              <a:t>26/07/29</a:t>
            </a:fld>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DED7F-25F9-4ED4-B34B-909531DE2900}" type="slidenum">
              <a:rPr b="1" lang="ja-JP"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直線コネクタ 9"/>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256" name="直線コネクタ 7"/>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257" name="直線コネクタ 8"/>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258" name="直線コネクタ 10"/>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259" name="正方形/長方形 11"/>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260" name="直線コネクタ 12"/>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261" name="円/楕円 13"/>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D48E0-A4E5-4809-9E30-967F9D9B9AAF}" type="datetime">
              <a:rPr b="0" lang="ja-JP" sz="1200" spc="-1" strike="noStrike">
                <a:solidFill>
                  <a:srgbClr val="575f6d"/>
                </a:solidFill>
                <a:latin typeface="Times New Roman"/>
              </a:rPr>
              <a:t>26/07/29</a:t>
            </a:fld>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6BE90-3F49-47F6-AE2F-12F5BE0BB975}" type="slidenum">
              <a:rPr b="1" lang="ja-JP"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直線コネクタ 8"/>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304" name="円/楕円 12"/>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305" name="直線コネクタ 9"/>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306" name="正方形/長方形 10"/>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307" name="直線コネクタ 11"/>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308" name="直線コネクタ 18"/>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309" name="直線コネクタ 19"/>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4DC5D-A709-4396-8E73-319817A425B0}" type="datetime">
              <a:rPr b="0" lang="ja-JP" sz="1200" spc="-1" strike="noStrike">
                <a:solidFill>
                  <a:srgbClr val="575f6d"/>
                </a:solidFill>
                <a:latin typeface="Times New Roman"/>
              </a:rPr>
              <a:t>26/07/29</a:t>
            </a:fld>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1F0EF-A39B-4DED-B991-C3F4C293142C}" type="slidenum">
              <a:rPr b="1" lang="ja-JP"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hyperlink" Target="http://www.awareness.jp/index.html" TargetMode="External"/><Relationship Id="rId2" Type="http://schemas.openxmlformats.org/officeDocument/2006/relationships/hyperlink" Target="http://www.pythagoras.co.jp/fmg_index.html" TargetMode="External"/><Relationship Id="rId3" Type="http://schemas.openxmlformats.org/officeDocument/2006/relationships/hyperlink" Target="http://allabout.co.jp/" TargetMode="External"/><Relationship Id="rId4"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2285640" y="1571760"/>
            <a:ext cx="6172200" cy="1893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575f6d"/>
                </a:solidFill>
                <a:latin typeface="Century Schoolbook"/>
              </a:rPr>
              <a:t>カラーバリエーションが</a:t>
            </a:r>
            <a:br>
              <a:rPr sz="3000"/>
            </a:br>
            <a:r>
              <a:rPr b="1" lang="ja-JP" sz="3000" spc="-1" strike="noStrike">
                <a:solidFill>
                  <a:srgbClr val="575f6d"/>
                </a:solidFill>
                <a:latin typeface="Century Schoolbook"/>
              </a:rPr>
              <a:t>顧客満足度に与える影響</a:t>
            </a:r>
            <a:endParaRPr b="0" lang="en-US" sz="3000" spc="-1" strike="noStrike">
              <a:solidFill>
                <a:srgbClr val="575f6d"/>
              </a:solidFill>
              <a:latin typeface="Century Schoolbook"/>
            </a:endParaRPr>
          </a:p>
        </p:txBody>
      </p:sp>
      <p:sp>
        <p:nvSpPr>
          <p:cNvPr id="359" name="PlaceHolder 2"/>
          <p:cNvSpPr>
            <a:spLocks noGrp="1"/>
          </p:cNvSpPr>
          <p:nvPr>
            <p:ph type="subTitle"/>
          </p:nvPr>
        </p:nvSpPr>
        <p:spPr>
          <a:xfrm>
            <a:off x="2285640" y="5143680"/>
            <a:ext cx="6429240" cy="13716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575f6d"/>
                </a:solidFill>
                <a:latin typeface="Century Schoolbook"/>
              </a:rPr>
              <a:t>東洋大学　峰尾ゼミ　３年</a:t>
            </a:r>
            <a:endParaRPr b="0" lang="en-US" sz="1800" spc="-1" strike="noStrike">
              <a:solidFill>
                <a:srgbClr val="000000"/>
              </a:solidFill>
              <a:latin typeface="Century Schoolbook"/>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575f6d"/>
                </a:solidFill>
                <a:latin typeface="Century Schoolbook"/>
              </a:rPr>
              <a:t>　　　鞍掛　諒宇　　　佐土原　歩　　　長谷川　和正　　　穂山　咲</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575f6d"/>
                </a:solidFill>
                <a:latin typeface="Century Schoolbook"/>
              </a:rPr>
              <a:t>　</a:t>
            </a:r>
            <a:endParaRPr b="0" lang="en-US" sz="1800" spc="-1" strike="noStrike">
              <a:solidFill>
                <a:srgbClr val="000000"/>
              </a:solidFill>
              <a:latin typeface="Century Schoolbook"/>
            </a:endParaRPr>
          </a:p>
        </p:txBody>
      </p:sp>
      <p:sp>
        <p:nvSpPr>
          <p:cNvPr id="360" name="スライド番号プレースホルダ 5"/>
          <p:cNvSpPr/>
          <p:nvPr/>
        </p:nvSpPr>
        <p:spPr>
          <a:xfrm>
            <a:off x="1325520" y="4929120"/>
            <a:ext cx="609480" cy="517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0E2E8-9C8A-49A1-A3A7-E78B0418BE8D}" type="slidenum">
              <a:rPr b="1" lang="ja-JP" sz="2800" spc="-1" strike="noStrike">
                <a:solidFill>
                  <a:srgbClr val="ffffff"/>
                </a:solidFill>
                <a:latin typeface="Century Schoolbook"/>
              </a:rPr>
              <a:t>&lt;number&gt;</a:t>
            </a:fld>
            <a:endParaRPr b="0" lang="en-US" sz="2800" spc="-1" strike="noStrike">
              <a:solidFill>
                <a:srgbClr val="663300"/>
              </a:solidFill>
              <a:latin typeface="Century Schoolboo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6840" y="274680"/>
            <a:ext cx="7467480" cy="58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575f6d"/>
                </a:solidFill>
                <a:latin typeface="Century Schoolbook"/>
              </a:rPr>
              <a:t>顧客満足度を得ることのメリット</a:t>
            </a:r>
            <a:endParaRPr b="0" lang="en-US" sz="3000" spc="-1" strike="noStrike">
              <a:solidFill>
                <a:srgbClr val="575f6d"/>
              </a:solidFill>
              <a:latin typeface="Century Schoolbook"/>
            </a:endParaRPr>
          </a:p>
        </p:txBody>
      </p:sp>
      <p:sp>
        <p:nvSpPr>
          <p:cNvPr id="415" name=""/>
          <p:cNvSpPr txBox="1"/>
          <p:nvPr/>
        </p:nvSpPr>
        <p:spPr>
          <a:xfrm>
            <a:off x="457200" y="1214280"/>
            <a:ext cx="7686720" cy="50724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rPr>
              <a:t>ロイヤリティの向上</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rPr>
              <a:t>　　→同じ製品の再購入や、そのメーカーの他の製品の購入につながる。全く新しい顧客を獲得するよりも、既存の顧客の再購入を促す方が販促に要する経費が安く済む。</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rPr>
              <a:t>口コミによる推奨</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rPr>
              <a:t>　　→満足はコミュニケーションを伴うという特性があり、満足した顧客は口コミという形で評判を作ってくれる。よって、顧客満足の獲得は、新規顧客の獲得にもつながる。</a:t>
            </a:r>
            <a:endParaRPr b="0" lang="en-US" sz="2400" spc="-1" strike="noStrike">
              <a:solidFill>
                <a:srgbClr val="000000"/>
              </a:solidFill>
              <a:latin typeface="Century Schoolbook"/>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a:t>
            </a:r>
            <a:r>
              <a:rPr b="0" lang="ja-JP" sz="2000" spc="-1" strike="noStrike">
                <a:solidFill>
                  <a:srgbClr val="000000"/>
                </a:solidFill>
                <a:latin typeface="Century Schoolbook"/>
              </a:rPr>
              <a:t>佐野良夫　（１９９６年）　ｐ</a:t>
            </a:r>
            <a:r>
              <a:rPr b="0" lang="en-US" sz="2000" spc="-1" strike="noStrike">
                <a:solidFill>
                  <a:srgbClr val="000000"/>
                </a:solidFill>
                <a:latin typeface="Century Schoolbook"/>
              </a:rPr>
              <a:t>.</a:t>
            </a:r>
            <a:r>
              <a:rPr b="0" lang="ja-JP" sz="2000" spc="-1" strike="noStrike">
                <a:solidFill>
                  <a:srgbClr val="000000"/>
                </a:solidFill>
                <a:latin typeface="Century Schoolbook"/>
              </a:rPr>
              <a:t>５６</a:t>
            </a:r>
            <a:r>
              <a:rPr b="0" lang="en-US" sz="2000" spc="-1" strike="noStrike">
                <a:solidFill>
                  <a:srgbClr val="000000"/>
                </a:solidFill>
                <a:latin typeface="Century Schoolbook"/>
              </a:rPr>
              <a:t>]</a:t>
            </a:r>
            <a:endParaRPr b="0" lang="en-US" sz="2000" spc="-1" strike="noStrike">
              <a:solidFill>
                <a:srgbClr val="000000"/>
              </a:solidFill>
              <a:latin typeface="Century Schoolbook"/>
            </a:endParaRPr>
          </a:p>
        </p:txBody>
      </p:sp>
      <p:sp>
        <p:nvSpPr>
          <p:cNvPr id="416" name="スライド番号プレースホルダ 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1086D-AF86-474D-AF14-7E4A75503020}" type="slidenum">
              <a:rPr b="1" lang="ja-JP" sz="1400" spc="-1" strike="noStrike">
                <a:solidFill>
                  <a:srgbClr val="ffffff"/>
                </a:solidFill>
                <a:latin typeface="Century Schoolbook"/>
              </a:rPr>
              <a:t>&lt;number&gt;</a:t>
            </a:fld>
            <a:endParaRPr b="0" lang="en-US" sz="1400" spc="-1" strike="noStrike">
              <a:solidFill>
                <a:srgbClr val="663300"/>
              </a:solidFill>
              <a:latin typeface="Century Schoolbook"/>
            </a:endParaRPr>
          </a:p>
        </p:txBody>
      </p:sp>
      <p:sp>
        <p:nvSpPr>
          <p:cNvPr id="417" name="フローチャート : 代替処理 4"/>
          <p:cNvSpPr/>
          <p:nvPr/>
        </p:nvSpPr>
        <p:spPr>
          <a:xfrm>
            <a:off x="1619280" y="5373720"/>
            <a:ext cx="5092560" cy="1359000"/>
          </a:xfrm>
          <a:prstGeom prst="flowChartAlternateProcess">
            <a:avLst/>
          </a:prstGeom>
          <a:solidFill>
            <a:srgbClr val="fedaea"/>
          </a:solidFill>
          <a:ln w="38160">
            <a:solidFill>
              <a:srgbClr val="fb9b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663300"/>
                </a:solidFill>
                <a:latin typeface="Century Schoolbook"/>
              </a:rPr>
              <a:t>既存顧客の再購入だけでなく</a:t>
            </a:r>
            <a:endParaRPr b="0" lang="en-US" sz="28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663300"/>
                </a:solidFill>
                <a:latin typeface="Century Schoolbook"/>
              </a:rPr>
              <a:t>新規顧客の獲得にも効果がある。</a:t>
            </a:r>
            <a:endParaRPr b="0" lang="en-US" sz="2800" spc="-1" strike="noStrike">
              <a:solidFill>
                <a:srgbClr val="663300"/>
              </a:solidFill>
              <a:latin typeface="Century Schoolbook"/>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417"/>
                                        </p:tgtEl>
                                        <p:attrNameLst>
                                          <p:attrName>style.visibility</p:attrName>
                                        </p:attrNameLst>
                                      </p:cBhvr>
                                      <p:to>
                                        <p:strVal val="visible"/>
                                      </p:to>
                                    </p:set>
                                    <p:animEffect filter="blinds(horizontal)" transition="in">
                                      <p:cBhvr additive="repl">
                                        <p:cTn id="29"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356760" y="4857480"/>
            <a:ext cx="7929720" cy="161604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000000"/>
                </a:solidFill>
                <a:latin typeface="Century Schoolbook"/>
              </a:rPr>
              <a:t>本質的機能</a:t>
            </a:r>
            <a:r>
              <a:rPr b="0" lang="ja-JP" sz="2200" spc="-1" strike="noStrike">
                <a:solidFill>
                  <a:srgbClr val="000000"/>
                </a:solidFill>
                <a:latin typeface="Century Schoolbook"/>
              </a:rPr>
              <a:t>：充実度がある地点Ｂを超えると</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entury Schoolbook"/>
              </a:rPr>
              <a:t>　　　　　　　　　　　　　　　　　　　　　　　　　満足度は上昇しない。</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000000"/>
                </a:solidFill>
                <a:latin typeface="Century Schoolbook"/>
              </a:rPr>
              <a:t>表層的機能</a:t>
            </a:r>
            <a:r>
              <a:rPr b="0" lang="ja-JP" sz="2200" spc="-1" strike="noStrike">
                <a:solidFill>
                  <a:srgbClr val="000000"/>
                </a:solidFill>
                <a:latin typeface="Century Schoolbook"/>
              </a:rPr>
              <a:t>：充実度を高めれば高めるほど</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entury Schoolbook"/>
              </a:rPr>
              <a:t>　　　　　　　　　　　　　　　　　　　　　　　　　満足度の上昇に結び付く。</a:t>
            </a:r>
            <a:endParaRPr b="0" lang="en-US" sz="2200" spc="-1" strike="noStrike">
              <a:solidFill>
                <a:srgbClr val="000000"/>
              </a:solidFill>
              <a:latin typeface="Century Schoolbook"/>
            </a:endParaRPr>
          </a:p>
        </p:txBody>
      </p:sp>
      <p:sp>
        <p:nvSpPr>
          <p:cNvPr id="419" name="スライド番号プレースホルダ 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F2584-187D-43D3-93B1-26782CAD7C45}" type="slidenum">
              <a:rPr b="1" lang="ja-JP" sz="1400" spc="-1" strike="noStrike">
                <a:solidFill>
                  <a:srgbClr val="ffffff"/>
                </a:solidFill>
                <a:latin typeface="Century Schoolbook"/>
              </a:rPr>
              <a:t>&lt;number&gt;</a:t>
            </a:fld>
            <a:endParaRPr b="0" lang="en-US" sz="1400" spc="-1" strike="noStrike">
              <a:solidFill>
                <a:srgbClr val="663300"/>
              </a:solidFill>
              <a:latin typeface="Century Schoolbook"/>
            </a:endParaRPr>
          </a:p>
        </p:txBody>
      </p:sp>
      <p:sp>
        <p:nvSpPr>
          <p:cNvPr id="420" name="テキスト ボックス 2"/>
          <p:cNvSpPr/>
          <p:nvPr/>
        </p:nvSpPr>
        <p:spPr>
          <a:xfrm>
            <a:off x="214200" y="214200"/>
            <a:ext cx="8286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Century Schoolbook"/>
              </a:rPr>
              <a:t>◆</a:t>
            </a:r>
            <a:r>
              <a:rPr b="1" lang="ja-JP" sz="2800" spc="-1" strike="noStrike">
                <a:solidFill>
                  <a:srgbClr val="000000"/>
                </a:solidFill>
                <a:latin typeface="Century Schoolbook"/>
              </a:rPr>
              <a:t>本質的機能と表層的機能の達成度・満足度の関係</a:t>
            </a:r>
            <a:endParaRPr b="0" lang="en-US" sz="2800" spc="-1" strike="noStrike">
              <a:solidFill>
                <a:srgbClr val="663300"/>
              </a:solidFill>
              <a:latin typeface="Century Schoolbook"/>
            </a:endParaRPr>
          </a:p>
        </p:txBody>
      </p:sp>
      <p:sp>
        <p:nvSpPr>
          <p:cNvPr id="421" name="正方形/長方形 4"/>
          <p:cNvSpPr/>
          <p:nvPr/>
        </p:nvSpPr>
        <p:spPr>
          <a:xfrm>
            <a:off x="214200" y="1071720"/>
            <a:ext cx="3857760" cy="3643200"/>
          </a:xfrm>
          <a:prstGeom prst="rect">
            <a:avLst/>
          </a:prstGeom>
          <a:solidFill>
            <a:srgbClr val="fff08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cxnSp>
        <p:nvCxnSpPr>
          <p:cNvPr id="422" name="直線矢印コネクタ 10"/>
          <p:cNvCxnSpPr/>
          <p:nvPr/>
        </p:nvCxnSpPr>
        <p:spPr>
          <a:xfrm>
            <a:off x="500040" y="4285800"/>
            <a:ext cx="3286800" cy="2520"/>
          </a:xfrm>
          <a:prstGeom prst="straightConnector1">
            <a:avLst/>
          </a:prstGeom>
          <a:ln w="19080">
            <a:solidFill>
              <a:srgbClr val="ff6903"/>
            </a:solidFill>
            <a:miter/>
            <a:tailEnd len="med" type="arrow" w="med"/>
          </a:ln>
        </p:spPr>
      </p:cxnSp>
      <p:cxnSp>
        <p:nvCxnSpPr>
          <p:cNvPr id="423" name="直線矢印コネクタ 13"/>
          <p:cNvCxnSpPr/>
          <p:nvPr/>
        </p:nvCxnSpPr>
        <p:spPr>
          <a:xfrm flipV="1">
            <a:off x="498960" y="1428480"/>
            <a:ext cx="1080" cy="2859840"/>
          </a:xfrm>
          <a:prstGeom prst="straightConnector1">
            <a:avLst/>
          </a:prstGeom>
          <a:ln w="19080">
            <a:solidFill>
              <a:srgbClr val="ff6903"/>
            </a:solidFill>
            <a:miter/>
            <a:tailEnd len="med" type="arrow" w="med"/>
          </a:ln>
        </p:spPr>
      </p:cxnSp>
      <p:cxnSp>
        <p:nvCxnSpPr>
          <p:cNvPr id="424" name="直線矢印コネクタ 18"/>
          <p:cNvCxnSpPr/>
          <p:nvPr/>
        </p:nvCxnSpPr>
        <p:spPr>
          <a:xfrm flipH="1">
            <a:off x="1285200" y="4287600"/>
            <a:ext cx="1080" cy="356040"/>
          </a:xfrm>
          <a:prstGeom prst="straightConnector1">
            <a:avLst/>
          </a:prstGeom>
          <a:ln w="38160">
            <a:solidFill>
              <a:srgbClr val="00b0f0"/>
            </a:solidFill>
            <a:miter/>
            <a:tailEnd len="med" type="triangle" w="med"/>
          </a:ln>
        </p:spPr>
      </p:cxnSp>
      <p:sp>
        <p:nvSpPr>
          <p:cNvPr id="425" name="直線コネクタ 22"/>
          <p:cNvSpPr/>
          <p:nvPr/>
        </p:nvSpPr>
        <p:spPr>
          <a:xfrm flipV="1">
            <a:off x="1285920" y="3357360"/>
            <a:ext cx="1357200" cy="928440"/>
          </a:xfrm>
          <a:prstGeom prst="line">
            <a:avLst/>
          </a:prstGeom>
          <a:ln w="38160">
            <a:solidFill>
              <a:srgbClr val="00b0f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426" name="直線コネクタ 24"/>
          <p:cNvSpPr/>
          <p:nvPr/>
        </p:nvSpPr>
        <p:spPr>
          <a:xfrm>
            <a:off x="2643120" y="3357720"/>
            <a:ext cx="1071720" cy="0"/>
          </a:xfrm>
          <a:prstGeom prst="line">
            <a:avLst/>
          </a:prstGeom>
          <a:ln w="38160">
            <a:solidFill>
              <a:srgbClr val="00b0f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427" name="直線コネクタ 27"/>
          <p:cNvSpPr/>
          <p:nvPr/>
        </p:nvSpPr>
        <p:spPr>
          <a:xfrm>
            <a:off x="2643120" y="3357720"/>
            <a:ext cx="0" cy="928440"/>
          </a:xfrm>
          <a:prstGeom prst="line">
            <a:avLst/>
          </a:prstGeom>
          <a:ln w="12600">
            <a:solidFill>
              <a:srgbClr val="ff6903"/>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428" name="正方形/長方形 28"/>
          <p:cNvSpPr/>
          <p:nvPr/>
        </p:nvSpPr>
        <p:spPr>
          <a:xfrm>
            <a:off x="4357800" y="1071720"/>
            <a:ext cx="3929040" cy="3643200"/>
          </a:xfrm>
          <a:prstGeom prst="rect">
            <a:avLst/>
          </a:prstGeom>
          <a:solidFill>
            <a:srgbClr val="fff08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cxnSp>
        <p:nvCxnSpPr>
          <p:cNvPr id="429" name="直線矢印コネクタ 29"/>
          <p:cNvCxnSpPr/>
          <p:nvPr/>
        </p:nvCxnSpPr>
        <p:spPr>
          <a:xfrm flipV="1">
            <a:off x="4642200" y="1428480"/>
            <a:ext cx="2520" cy="2859840"/>
          </a:xfrm>
          <a:prstGeom prst="straightConnector1">
            <a:avLst/>
          </a:prstGeom>
          <a:ln w="19080">
            <a:solidFill>
              <a:srgbClr val="ff6903"/>
            </a:solidFill>
            <a:miter/>
            <a:tailEnd len="med" type="arrow" w="med"/>
          </a:ln>
        </p:spPr>
      </p:cxnSp>
      <p:cxnSp>
        <p:nvCxnSpPr>
          <p:cNvPr id="430" name="直線矢印コネクタ 30"/>
          <p:cNvCxnSpPr/>
          <p:nvPr/>
        </p:nvCxnSpPr>
        <p:spPr>
          <a:xfrm>
            <a:off x="4642920" y="4285800"/>
            <a:ext cx="3287160" cy="2520"/>
          </a:xfrm>
          <a:prstGeom prst="straightConnector1">
            <a:avLst/>
          </a:prstGeom>
          <a:ln w="19080">
            <a:solidFill>
              <a:srgbClr val="ff6903"/>
            </a:solidFill>
            <a:miter/>
            <a:tailEnd len="med" type="arrow" w="med"/>
          </a:ln>
        </p:spPr>
      </p:cxnSp>
      <p:sp>
        <p:nvSpPr>
          <p:cNvPr id="431" name="フリーフォーム 31"/>
          <p:cNvSpPr/>
          <p:nvPr/>
        </p:nvSpPr>
        <p:spPr>
          <a:xfrm>
            <a:off x="4643280" y="1682640"/>
            <a:ext cx="3265560" cy="2603520"/>
          </a:xfrm>
          <a:custGeom>
            <a:avLst/>
            <a:gdLst/>
            <a:ahLst/>
            <a:rect l="l" t="t" r="r" b="b"/>
            <a:pathLst>
              <a:path w="3264408" h="2606040">
                <a:moveTo>
                  <a:pt x="0" y="2606040"/>
                </a:moveTo>
                <a:cubicBezTo>
                  <a:pt x="479298" y="2366772"/>
                  <a:pt x="958596" y="2127504"/>
                  <a:pt x="1298448" y="1819656"/>
                </a:cubicBezTo>
                <a:cubicBezTo>
                  <a:pt x="1638300" y="1511808"/>
                  <a:pt x="1844040" y="1016508"/>
                  <a:pt x="2039112" y="758952"/>
                </a:cubicBezTo>
                <a:cubicBezTo>
                  <a:pt x="2234184" y="501396"/>
                  <a:pt x="2318004" y="393192"/>
                  <a:pt x="2468880" y="274320"/>
                </a:cubicBezTo>
                <a:cubicBezTo>
                  <a:pt x="2619756" y="155448"/>
                  <a:pt x="2811780" y="91440"/>
                  <a:pt x="2944368" y="45720"/>
                </a:cubicBezTo>
                <a:cubicBezTo>
                  <a:pt x="3076956" y="0"/>
                  <a:pt x="3264408" y="0"/>
                  <a:pt x="3264408" y="0"/>
                </a:cubicBezTo>
                <a:lnTo>
                  <a:pt x="3264408" y="0"/>
                </a:lnTo>
                <a:lnTo>
                  <a:pt x="3264408" y="0"/>
                </a:lnTo>
                <a:lnTo>
                  <a:pt x="3264408" y="0"/>
                </a:lnTo>
                <a:lnTo>
                  <a:pt x="3264408" y="0"/>
                </a:lnTo>
              </a:path>
            </a:pathLst>
          </a:custGeom>
          <a:noFill/>
          <a:ln w="38160">
            <a:solidFill>
              <a:srgbClr val="0070c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432" name="テキスト ボックス 32"/>
          <p:cNvSpPr/>
          <p:nvPr/>
        </p:nvSpPr>
        <p:spPr>
          <a:xfrm>
            <a:off x="1000080" y="3929040"/>
            <a:ext cx="285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entury Schoolbook"/>
              </a:rPr>
              <a:t>Ａ</a:t>
            </a:r>
            <a:endParaRPr b="0" lang="en-US" sz="1800" spc="-1" strike="noStrike">
              <a:solidFill>
                <a:srgbClr val="663300"/>
              </a:solidFill>
              <a:latin typeface="Century Schoolbook"/>
            </a:endParaRPr>
          </a:p>
        </p:txBody>
      </p:sp>
      <p:sp>
        <p:nvSpPr>
          <p:cNvPr id="433" name="テキスト ボックス 33"/>
          <p:cNvSpPr/>
          <p:nvPr/>
        </p:nvSpPr>
        <p:spPr>
          <a:xfrm>
            <a:off x="2643120" y="3929040"/>
            <a:ext cx="428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entury Schoolbook"/>
              </a:rPr>
              <a:t>Ｂ</a:t>
            </a:r>
            <a:endParaRPr b="0" lang="en-US" sz="1800" spc="-1" strike="noStrike">
              <a:solidFill>
                <a:srgbClr val="663300"/>
              </a:solidFill>
              <a:latin typeface="Century Schoolbook"/>
            </a:endParaRPr>
          </a:p>
        </p:txBody>
      </p:sp>
      <p:sp>
        <p:nvSpPr>
          <p:cNvPr id="434" name="テキスト ボックス 35"/>
          <p:cNvSpPr/>
          <p:nvPr/>
        </p:nvSpPr>
        <p:spPr>
          <a:xfrm>
            <a:off x="2286000" y="4286160"/>
            <a:ext cx="200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entury Schoolbook"/>
              </a:rPr>
              <a:t>機能の充実度　＋</a:t>
            </a:r>
            <a:endParaRPr b="0" lang="en-US" sz="1600" spc="-1" strike="noStrike">
              <a:solidFill>
                <a:srgbClr val="663300"/>
              </a:solidFill>
              <a:latin typeface="Century Schoolbook"/>
            </a:endParaRPr>
          </a:p>
        </p:txBody>
      </p:sp>
      <p:sp>
        <p:nvSpPr>
          <p:cNvPr id="435" name="テキスト ボックス 36"/>
          <p:cNvSpPr/>
          <p:nvPr/>
        </p:nvSpPr>
        <p:spPr>
          <a:xfrm>
            <a:off x="149400" y="1214280"/>
            <a:ext cx="423720" cy="15717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entury Schoolbook"/>
              </a:rPr>
              <a:t>＋　満足度</a:t>
            </a:r>
            <a:endParaRPr b="0" lang="en-US" sz="1600" spc="-1" strike="noStrike">
              <a:solidFill>
                <a:srgbClr val="663300"/>
              </a:solidFill>
              <a:latin typeface="Century Schoolbook"/>
            </a:endParaRPr>
          </a:p>
        </p:txBody>
      </p:sp>
      <p:sp>
        <p:nvSpPr>
          <p:cNvPr id="436" name="テキスト ボックス 37"/>
          <p:cNvSpPr/>
          <p:nvPr/>
        </p:nvSpPr>
        <p:spPr>
          <a:xfrm>
            <a:off x="4292640" y="1214280"/>
            <a:ext cx="423720" cy="15717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entury Schoolbook"/>
              </a:rPr>
              <a:t>＋　満足度</a:t>
            </a:r>
            <a:endParaRPr b="0" lang="en-US" sz="1600" spc="-1" strike="noStrike">
              <a:solidFill>
                <a:srgbClr val="663300"/>
              </a:solidFill>
              <a:latin typeface="Century Schoolbook"/>
            </a:endParaRPr>
          </a:p>
        </p:txBody>
      </p:sp>
      <p:sp>
        <p:nvSpPr>
          <p:cNvPr id="437" name="テキスト ボックス 38"/>
          <p:cNvSpPr/>
          <p:nvPr/>
        </p:nvSpPr>
        <p:spPr>
          <a:xfrm>
            <a:off x="285840" y="4214880"/>
            <a:ext cx="500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entury Schoolbook"/>
              </a:rPr>
              <a:t>０</a:t>
            </a:r>
            <a:endParaRPr b="0" lang="en-US" sz="1600" spc="-1" strike="noStrike">
              <a:solidFill>
                <a:srgbClr val="663300"/>
              </a:solidFill>
              <a:latin typeface="Century Schoolbook"/>
            </a:endParaRPr>
          </a:p>
        </p:txBody>
      </p:sp>
      <p:sp>
        <p:nvSpPr>
          <p:cNvPr id="438" name="テキスト ボックス 39"/>
          <p:cNvSpPr/>
          <p:nvPr/>
        </p:nvSpPr>
        <p:spPr>
          <a:xfrm>
            <a:off x="4429080" y="4214880"/>
            <a:ext cx="500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entury Schoolbook"/>
              </a:rPr>
              <a:t>０</a:t>
            </a:r>
            <a:endParaRPr b="0" lang="en-US" sz="1600" spc="-1" strike="noStrike">
              <a:solidFill>
                <a:srgbClr val="663300"/>
              </a:solidFill>
              <a:latin typeface="Century Schoolbook"/>
            </a:endParaRPr>
          </a:p>
        </p:txBody>
      </p:sp>
      <p:sp>
        <p:nvSpPr>
          <p:cNvPr id="439" name="正方形/長方形 40"/>
          <p:cNvSpPr/>
          <p:nvPr/>
        </p:nvSpPr>
        <p:spPr>
          <a:xfrm>
            <a:off x="928800" y="1143000"/>
            <a:ext cx="2357280" cy="357120"/>
          </a:xfrm>
          <a:prstGeom prst="rect">
            <a:avLst/>
          </a:prstGeom>
          <a:solidFill>
            <a:srgbClr val="d9f62a"/>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663300"/>
                </a:solidFill>
                <a:latin typeface="Century Schoolbook"/>
              </a:rPr>
              <a:t>本質的機能</a:t>
            </a:r>
            <a:endParaRPr b="0" lang="en-US" sz="1800" spc="-1" strike="noStrike">
              <a:solidFill>
                <a:srgbClr val="663300"/>
              </a:solidFill>
              <a:latin typeface="Century Schoolbook"/>
            </a:endParaRPr>
          </a:p>
        </p:txBody>
      </p:sp>
      <p:sp>
        <p:nvSpPr>
          <p:cNvPr id="440" name="正方形/長方形 41"/>
          <p:cNvSpPr/>
          <p:nvPr/>
        </p:nvSpPr>
        <p:spPr>
          <a:xfrm>
            <a:off x="5143680" y="1143000"/>
            <a:ext cx="2357280" cy="357120"/>
          </a:xfrm>
          <a:prstGeom prst="rect">
            <a:avLst/>
          </a:prstGeom>
          <a:solidFill>
            <a:srgbClr val="d9f62a"/>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663300"/>
                </a:solidFill>
                <a:latin typeface="Century Schoolbook"/>
              </a:rPr>
              <a:t>表層的機能</a:t>
            </a:r>
            <a:endParaRPr b="0" lang="en-US" sz="1800" spc="-1" strike="noStrike">
              <a:solidFill>
                <a:srgbClr val="663300"/>
              </a:solidFill>
              <a:latin typeface="Century Schoolbook"/>
            </a:endParaRPr>
          </a:p>
        </p:txBody>
      </p:sp>
      <p:sp>
        <p:nvSpPr>
          <p:cNvPr id="441" name="テキスト ボックス 44"/>
          <p:cNvSpPr/>
          <p:nvPr/>
        </p:nvSpPr>
        <p:spPr>
          <a:xfrm>
            <a:off x="3500280" y="6357960"/>
            <a:ext cx="5500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Schoolbook"/>
              </a:rPr>
              <a:t>　　　　　　　　　　　　　　　　　　　　</a:t>
            </a:r>
            <a:r>
              <a:rPr b="1" lang="en-US" sz="1400" spc="-1" strike="noStrike">
                <a:solidFill>
                  <a:srgbClr val="000000"/>
                </a:solidFill>
                <a:latin typeface="Century Schoolbook"/>
              </a:rPr>
              <a:t>[</a:t>
            </a:r>
            <a:r>
              <a:rPr b="1" lang="ja-JP" sz="1400" spc="-1" strike="noStrike">
                <a:solidFill>
                  <a:srgbClr val="000000"/>
                </a:solidFill>
                <a:latin typeface="Century Schoolbook"/>
              </a:rPr>
              <a:t>嶋口充輝　（</a:t>
            </a:r>
            <a:r>
              <a:rPr b="1" lang="en-US" sz="1400" spc="-1" strike="noStrike">
                <a:solidFill>
                  <a:srgbClr val="000000"/>
                </a:solidFill>
                <a:latin typeface="Century Schoolbook"/>
              </a:rPr>
              <a:t>1994</a:t>
            </a:r>
            <a:r>
              <a:rPr b="1" lang="ja-JP" sz="1400" spc="-1" strike="noStrike">
                <a:solidFill>
                  <a:srgbClr val="000000"/>
                </a:solidFill>
                <a:latin typeface="Century Schoolbook"/>
              </a:rPr>
              <a:t>年） 　ｐ</a:t>
            </a:r>
            <a:r>
              <a:rPr b="1" lang="en-US" sz="1400" spc="-1" strike="noStrike">
                <a:solidFill>
                  <a:srgbClr val="000000"/>
                </a:solidFill>
                <a:latin typeface="Century Schoolbook"/>
              </a:rPr>
              <a:t>.68]</a:t>
            </a:r>
            <a:r>
              <a:rPr b="0" lang="ja-JP" sz="1400" spc="-1" strike="noStrike">
                <a:solidFill>
                  <a:srgbClr val="000000"/>
                </a:solidFill>
                <a:latin typeface="Century Schoolbook"/>
              </a:rPr>
              <a:t>　</a:t>
            </a:r>
            <a:r>
              <a:rPr b="0" lang="ja-JP" sz="1800" spc="-1" strike="noStrike">
                <a:solidFill>
                  <a:srgbClr val="000000"/>
                </a:solidFill>
                <a:latin typeface="Century Schoolbook"/>
              </a:rPr>
              <a:t>　</a:t>
            </a:r>
            <a:endParaRPr b="0" lang="en-US" sz="1800" spc="-1" strike="noStrike">
              <a:solidFill>
                <a:srgbClr val="663300"/>
              </a:solidFill>
              <a:latin typeface="Century Schoolbook"/>
            </a:endParaRPr>
          </a:p>
        </p:txBody>
      </p:sp>
      <p:sp>
        <p:nvSpPr>
          <p:cNvPr id="442" name="テキスト ボックス 45"/>
          <p:cNvSpPr/>
          <p:nvPr/>
        </p:nvSpPr>
        <p:spPr>
          <a:xfrm>
            <a:off x="6429240" y="4286160"/>
            <a:ext cx="2000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entury Schoolbook"/>
              </a:rPr>
              <a:t>機能の充実度　＋</a:t>
            </a:r>
            <a:endParaRPr b="0" lang="en-US" sz="1600" spc="-1" strike="noStrike">
              <a:solidFill>
                <a:srgbClr val="6633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フローチャート : 代替処理 26"/>
          <p:cNvSpPr/>
          <p:nvPr/>
        </p:nvSpPr>
        <p:spPr>
          <a:xfrm>
            <a:off x="1000080" y="1785960"/>
            <a:ext cx="6715080" cy="3000240"/>
          </a:xfrm>
          <a:prstGeom prst="flowChartAlternateProcess">
            <a:avLst/>
          </a:prstGeom>
          <a:solidFill>
            <a:srgbClr val="ffffff"/>
          </a:solidFill>
          <a:ln w="38160">
            <a:solidFill>
              <a:srgbClr val="fb9b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663300"/>
                </a:solidFill>
                <a:latin typeface="Century Schoolbook"/>
              </a:rPr>
              <a:t>満足度の獲得には</a:t>
            </a:r>
            <a:endParaRPr b="0" lang="en-US" sz="24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663300"/>
                </a:solidFill>
                <a:latin typeface="Century Schoolbook"/>
              </a:rPr>
              <a:t>表層的機能の充実が</a:t>
            </a:r>
            <a:endParaRPr b="0" lang="en-US" sz="24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663300"/>
                </a:solidFill>
                <a:latin typeface="Century Schoolbook"/>
              </a:rPr>
              <a:t>効果的である。</a:t>
            </a:r>
            <a:endParaRPr b="0" lang="en-US" sz="24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663300"/>
                </a:solidFill>
                <a:latin typeface="Century Schoolbook"/>
              </a:rPr>
              <a:t>→</a:t>
            </a:r>
            <a:r>
              <a:rPr b="0" lang="ja-JP" sz="2800" spc="-1" strike="noStrike">
                <a:solidFill>
                  <a:srgbClr val="663300"/>
                </a:solidFill>
                <a:latin typeface="Century Schoolbook"/>
              </a:rPr>
              <a:t>カラーバリエーションの展開によって顧客満足の獲得が可能。</a:t>
            </a:r>
            <a:endParaRPr b="0" lang="en-US" sz="2800" spc="-1" strike="noStrike">
              <a:solidFill>
                <a:srgbClr val="663300"/>
              </a:solidFill>
              <a:latin typeface="Century Schoolbook"/>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443"/>
                                        </p:tgtEl>
                                        <p:attrNameLst>
                                          <p:attrName>style.visibility</p:attrName>
                                        </p:attrNameLst>
                                      </p:cBhvr>
                                      <p:to>
                                        <p:strVal val="visible"/>
                                      </p:to>
                                    </p:set>
                                    <p:animEffect filter="blinds(horizontal)" transition="in">
                                      <p:cBhvr additive="repl">
                                        <p:cTn id="36" dur="5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6840" y="274320"/>
            <a:ext cx="7467480" cy="654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575f6d"/>
                </a:solidFill>
                <a:latin typeface="Century Schoolbook"/>
              </a:rPr>
              <a:t>選択の自由度</a:t>
            </a:r>
            <a:endParaRPr b="0" lang="en-US" sz="3000" spc="-1" strike="noStrike">
              <a:solidFill>
                <a:srgbClr val="575f6d"/>
              </a:solidFill>
              <a:latin typeface="Century Schoolbook"/>
            </a:endParaRPr>
          </a:p>
        </p:txBody>
      </p:sp>
      <p:sp>
        <p:nvSpPr>
          <p:cNvPr id="445" name=""/>
          <p:cNvSpPr txBox="1"/>
          <p:nvPr/>
        </p:nvSpPr>
        <p:spPr>
          <a:xfrm>
            <a:off x="428400" y="1071720"/>
            <a:ext cx="7467480" cy="171432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rPr>
              <a:t>選択肢が十分用意されている場合の満足度は高く、選択肢が制限されていたり、全くない場合の満足度は低くなる傾向にある。</a:t>
            </a:r>
            <a:r>
              <a:rPr b="0" lang="en-US"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Schoolbook"/>
              </a:rPr>
              <a:t>　　　　　　　　　　　　　　　　　　　　　　　　</a:t>
            </a:r>
            <a:endParaRPr b="0" lang="en-US" sz="1600" spc="-1" strike="noStrike">
              <a:solidFill>
                <a:srgbClr val="000000"/>
              </a:solidFill>
              <a:latin typeface="Century Schoolbook"/>
            </a:endParaRPr>
          </a:p>
        </p:txBody>
      </p:sp>
      <p:sp>
        <p:nvSpPr>
          <p:cNvPr id="446" name="スライド番号プレースホル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FB699-3282-4B43-AEF7-2CCCA7A45FC4}" type="slidenum">
              <a:rPr b="1" lang="ja-JP" sz="1400" spc="-1" strike="noStrike">
                <a:solidFill>
                  <a:srgbClr val="ffffff"/>
                </a:solidFill>
                <a:latin typeface="Century Schoolbook"/>
              </a:rPr>
              <a:t>&lt;number&gt;</a:t>
            </a:fld>
            <a:endParaRPr b="0" lang="en-US" sz="1400" spc="-1" strike="noStrike">
              <a:solidFill>
                <a:srgbClr val="663300"/>
              </a:solidFill>
              <a:latin typeface="Century Schoolbook"/>
            </a:endParaRPr>
          </a:p>
        </p:txBody>
      </p:sp>
      <p:sp>
        <p:nvSpPr>
          <p:cNvPr id="447" name="正方形/長方形 4"/>
          <p:cNvSpPr/>
          <p:nvPr/>
        </p:nvSpPr>
        <p:spPr>
          <a:xfrm>
            <a:off x="357120" y="2857680"/>
            <a:ext cx="8143920" cy="2143080"/>
          </a:xfrm>
          <a:prstGeom prst="rect">
            <a:avLst/>
          </a:prstGeom>
          <a:solidFill>
            <a:srgbClr val="ffebfc"/>
          </a:solidFill>
          <a:ln w="44280">
            <a:solidFill>
              <a:srgbClr val="f48c9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663300"/>
                </a:solidFill>
                <a:latin typeface="Century Schoolbook"/>
              </a:rPr>
              <a:t>選択の自由度を高めることで顧客の満足を得ることができる。</a:t>
            </a:r>
            <a:endParaRPr b="0" lang="en-US" sz="24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663300"/>
                </a:solidFill>
                <a:latin typeface="Century Schoolbook"/>
              </a:rPr>
              <a:t>つまり、カラーバリエーションで</a:t>
            </a:r>
            <a:endParaRPr b="0" lang="en-US" sz="24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663300"/>
                </a:solidFill>
                <a:latin typeface="Century Schoolbook"/>
              </a:rPr>
              <a:t>顧客に「色を選ぶ」という行為をさせることで</a:t>
            </a:r>
            <a:endParaRPr b="0" lang="en-US" sz="24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663300"/>
                </a:solidFill>
                <a:latin typeface="Century Schoolbook"/>
              </a:rPr>
              <a:t>顧客満足度を高めることが可能になる。</a:t>
            </a:r>
            <a:endParaRPr b="0" lang="en-US" sz="2400" spc="-1" strike="noStrike">
              <a:solidFill>
                <a:srgbClr val="663300"/>
              </a:solidFill>
              <a:latin typeface="Century Schoolbook"/>
            </a:endParaRPr>
          </a:p>
        </p:txBody>
      </p:sp>
      <p:sp>
        <p:nvSpPr>
          <p:cNvPr id="448" name="テキスト ボックス 5"/>
          <p:cNvSpPr/>
          <p:nvPr/>
        </p:nvSpPr>
        <p:spPr>
          <a:xfrm>
            <a:off x="785880" y="5214960"/>
            <a:ext cx="707220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663300"/>
                </a:solidFill>
                <a:latin typeface="Century Schoolbook"/>
              </a:rPr>
              <a:t>本研究では、</a:t>
            </a:r>
            <a:endParaRPr b="0" lang="en-US" sz="24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663300"/>
                </a:solidFill>
                <a:latin typeface="Century Schoolbook"/>
              </a:rPr>
              <a:t>「カラーバリエーションによる顧客満足度の向上」</a:t>
            </a:r>
            <a:endParaRPr b="0" lang="en-US" sz="24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663300"/>
                </a:solidFill>
                <a:latin typeface="Century Schoolbook"/>
              </a:rPr>
              <a:t>という効果に限定して研究を進める。</a:t>
            </a:r>
            <a:endParaRPr b="0" lang="en-US" sz="2400" spc="-1" strike="noStrike">
              <a:solidFill>
                <a:srgbClr val="6633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Century Schoolbook"/>
            </a:endParaRPr>
          </a:p>
        </p:txBody>
      </p:sp>
      <p:sp>
        <p:nvSpPr>
          <p:cNvPr id="449" name="正方形/長方形 6"/>
          <p:cNvSpPr/>
          <p:nvPr/>
        </p:nvSpPr>
        <p:spPr>
          <a:xfrm>
            <a:off x="5230800" y="2357280"/>
            <a:ext cx="23702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a:t>
            </a:r>
            <a:r>
              <a:rPr b="1" lang="ja-JP" sz="1400" spc="-1" strike="noStrike">
                <a:solidFill>
                  <a:srgbClr val="000000"/>
                </a:solidFill>
                <a:latin typeface="Century Schoolbook"/>
              </a:rPr>
              <a:t>佐野良夫　（１９９６年）　ｐ</a:t>
            </a:r>
            <a:r>
              <a:rPr b="1" lang="en-US" sz="1400" spc="-1" strike="noStrike">
                <a:solidFill>
                  <a:srgbClr val="000000"/>
                </a:solidFill>
                <a:latin typeface="Century Schoolbook"/>
              </a:rPr>
              <a:t>.</a:t>
            </a:r>
            <a:r>
              <a:rPr b="1" lang="ja-JP" sz="1400" spc="-1" strike="noStrike">
                <a:solidFill>
                  <a:srgbClr val="000000"/>
                </a:solidFill>
                <a:latin typeface="Century Schoolbook"/>
              </a:rPr>
              <a:t>４２</a:t>
            </a:r>
            <a:r>
              <a:rPr b="1" lang="en-US" sz="1400" spc="-1" strike="noStrike">
                <a:solidFill>
                  <a:srgbClr val="000000"/>
                </a:solidFill>
                <a:latin typeface="Century Schoolbook"/>
              </a:rPr>
              <a:t>]</a:t>
            </a:r>
            <a:endParaRPr b="0" lang="en-US" sz="1400" spc="-1" strike="noStrike">
              <a:solidFill>
                <a:srgbClr val="663300"/>
              </a:solidFill>
              <a:latin typeface="Century School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Picture 18" descr="C:\Documents and Settings\bm0701469\Local Settings\Temporary Internet Files\Content.IE5\8VAL8LS7\MPj04395530000[1].jpg"/>
          <p:cNvPicPr/>
          <p:nvPr/>
        </p:nvPicPr>
        <p:blipFill>
          <a:blip r:embed="rId1"/>
          <a:stretch/>
        </p:blipFill>
        <p:spPr>
          <a:xfrm>
            <a:off x="428760" y="2428920"/>
            <a:ext cx="3044520" cy="4286160"/>
          </a:xfrm>
          <a:prstGeom prst="rect">
            <a:avLst/>
          </a:prstGeom>
          <a:ln w="0">
            <a:noFill/>
          </a:ln>
        </p:spPr>
      </p:pic>
      <p:sp>
        <p:nvSpPr>
          <p:cNvPr id="451" name="PlaceHolder 1"/>
          <p:cNvSpPr>
            <a:spLocks noGrp="1"/>
          </p:cNvSpPr>
          <p:nvPr>
            <p:ph type="title"/>
          </p:nvPr>
        </p:nvSpPr>
        <p:spPr>
          <a:xfrm>
            <a:off x="428400" y="571680"/>
            <a:ext cx="7467480" cy="653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575f6d"/>
                </a:solidFill>
                <a:latin typeface="Century Schoolbook"/>
              </a:rPr>
              <a:t>しかし</a:t>
            </a:r>
            <a:r>
              <a:rPr b="1" lang="en-US" sz="3000" spc="-1" strike="noStrike">
                <a:solidFill>
                  <a:srgbClr val="575f6d"/>
                </a:solidFill>
                <a:latin typeface="Century Schoolbook"/>
              </a:rPr>
              <a:t>…</a:t>
            </a:r>
            <a:endParaRPr b="0" lang="en-US" sz="3000" spc="-1" strike="noStrike">
              <a:solidFill>
                <a:srgbClr val="575f6d"/>
              </a:solidFill>
              <a:latin typeface="Century Schoolbook"/>
            </a:endParaRPr>
          </a:p>
        </p:txBody>
      </p:sp>
      <p:sp>
        <p:nvSpPr>
          <p:cNvPr id="452" name="スライド番号プレースホル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04492-29BB-42A1-A5B6-C0FF0F342C15}" type="slidenum">
              <a:rPr b="1" lang="ja-JP" sz="1400" spc="-1" strike="noStrike">
                <a:solidFill>
                  <a:srgbClr val="ffffff"/>
                </a:solidFill>
                <a:latin typeface="Century Schoolbook"/>
              </a:rPr>
              <a:t>&lt;number&gt;</a:t>
            </a:fld>
            <a:endParaRPr b="0" lang="en-US" sz="1400" spc="-1" strike="noStrike">
              <a:solidFill>
                <a:srgbClr val="663300"/>
              </a:solidFill>
              <a:latin typeface="Century Schoolbook"/>
            </a:endParaRPr>
          </a:p>
        </p:txBody>
      </p:sp>
      <p:sp>
        <p:nvSpPr>
          <p:cNvPr id="453" name="雲形吹き出し 5"/>
          <p:cNvSpPr/>
          <p:nvPr/>
        </p:nvSpPr>
        <p:spPr>
          <a:xfrm>
            <a:off x="2268360" y="404640"/>
            <a:ext cx="5929560" cy="3071880"/>
          </a:xfrm>
          <a:prstGeom prst="cloudCallout">
            <a:avLst>
              <a:gd name="adj1" fmla="val -42819"/>
              <a:gd name="adj2" fmla="val 52069"/>
            </a:avLst>
          </a:prstGeom>
          <a:solidFill>
            <a:srgbClr val="ffffff"/>
          </a:solidFill>
          <a:ln w="25560">
            <a:solidFill>
              <a:srgbClr val="d9f62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663300"/>
                </a:solidFill>
                <a:latin typeface="Century Schoolbook"/>
              </a:rPr>
              <a:t>不良在庫を抱えるリスクがあるため、むやみにカラーバリエーションを</a:t>
            </a:r>
            <a:endParaRPr b="0" lang="en-US" sz="20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663300"/>
                </a:solidFill>
                <a:latin typeface="Century Schoolbook"/>
              </a:rPr>
              <a:t>増やせば良い訳ではない。</a:t>
            </a:r>
            <a:endParaRPr b="0" lang="en-US" sz="20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454" name="雲形吹き出し 6"/>
          <p:cNvSpPr/>
          <p:nvPr/>
        </p:nvSpPr>
        <p:spPr>
          <a:xfrm>
            <a:off x="3995640" y="2492280"/>
            <a:ext cx="4786560" cy="1857600"/>
          </a:xfrm>
          <a:prstGeom prst="cloudCallout">
            <a:avLst>
              <a:gd name="adj1" fmla="val -55314"/>
              <a:gd name="adj2" fmla="val 29476"/>
            </a:avLst>
          </a:prstGeom>
          <a:solidFill>
            <a:srgbClr val="ffffff"/>
          </a:solidFill>
          <a:ln w="25560">
            <a:solidFill>
              <a:srgbClr val="c8e80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663300"/>
                </a:solidFill>
                <a:latin typeface="Century Schoolbook"/>
              </a:rPr>
              <a:t>製品によって</a:t>
            </a:r>
            <a:endParaRPr b="0" lang="en-US" sz="20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663300"/>
                </a:solidFill>
                <a:latin typeface="Century Schoolbook"/>
              </a:rPr>
              <a:t>効果的な展開の仕方は</a:t>
            </a:r>
            <a:endParaRPr b="0" lang="en-US" sz="20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663300"/>
                </a:solidFill>
                <a:latin typeface="Century Schoolbook"/>
              </a:rPr>
              <a:t>違うのではないか？</a:t>
            </a:r>
            <a:endParaRPr b="0" lang="en-US" sz="2000" spc="-1" strike="noStrike">
              <a:solidFill>
                <a:srgbClr val="663300"/>
              </a:solidFill>
              <a:latin typeface="Century School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スライド番号プレースホルダ 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12EAE-98FA-4C94-90AE-1D88075CE153}" type="slidenum">
              <a:rPr b="1" lang="ja-JP" sz="1400" spc="-1" strike="noStrike">
                <a:solidFill>
                  <a:srgbClr val="ffffff"/>
                </a:solidFill>
                <a:latin typeface="Century Schoolbook"/>
              </a:rPr>
              <a:t>&lt;number&gt;</a:t>
            </a:fld>
            <a:endParaRPr b="0" lang="en-US" sz="1400" spc="-1" strike="noStrike">
              <a:solidFill>
                <a:srgbClr val="663300"/>
              </a:solidFill>
              <a:latin typeface="Century Schoolbook"/>
            </a:endParaRPr>
          </a:p>
        </p:txBody>
      </p:sp>
      <p:pic>
        <p:nvPicPr>
          <p:cNvPr id="456" name="Picture 3" descr="C:\Documents and Settings\bm0701469\Local Settings\Temporary Internet Files\Content.IE5\80LNMNUP\MPj04394820000[1].jpg"/>
          <p:cNvPicPr/>
          <p:nvPr/>
        </p:nvPicPr>
        <p:blipFill>
          <a:blip r:embed="rId1"/>
          <a:stretch/>
        </p:blipFill>
        <p:spPr>
          <a:xfrm>
            <a:off x="5786280" y="2481120"/>
            <a:ext cx="2922840" cy="4376880"/>
          </a:xfrm>
          <a:prstGeom prst="rect">
            <a:avLst/>
          </a:prstGeom>
          <a:ln w="0">
            <a:noFill/>
          </a:ln>
        </p:spPr>
      </p:pic>
      <p:sp>
        <p:nvSpPr>
          <p:cNvPr id="457" name="雲形吹き出し 4"/>
          <p:cNvSpPr/>
          <p:nvPr/>
        </p:nvSpPr>
        <p:spPr>
          <a:xfrm>
            <a:off x="179280" y="981000"/>
            <a:ext cx="6357960" cy="4500720"/>
          </a:xfrm>
          <a:prstGeom prst="cloudCallout">
            <a:avLst>
              <a:gd name="adj1" fmla="val 45875"/>
              <a:gd name="adj2" fmla="val 39851"/>
            </a:avLst>
          </a:prstGeom>
          <a:solidFill>
            <a:srgbClr val="ffffff"/>
          </a:solidFill>
          <a:ln w="25560">
            <a:solidFill>
              <a:srgbClr val="bb612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663300"/>
                </a:solidFill>
                <a:latin typeface="Century Schoolbook"/>
              </a:rPr>
              <a:t>顧客満足の向上を</a:t>
            </a:r>
            <a:endParaRPr b="0" lang="en-US" sz="28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663300"/>
                </a:solidFill>
                <a:latin typeface="Century Schoolbook"/>
              </a:rPr>
              <a:t>より効果的にするカラーバリエーションの展開を探る。</a:t>
            </a:r>
            <a:endParaRPr b="0" lang="en-US" sz="2800" spc="-1" strike="noStrike">
              <a:solidFill>
                <a:srgbClr val="663300"/>
              </a:solidFill>
              <a:latin typeface="Century Schoolbook"/>
            </a:endParaRPr>
          </a:p>
        </p:txBody>
      </p:sp>
      <p:sp>
        <p:nvSpPr>
          <p:cNvPr id="458" name="テキスト ボックス 5"/>
          <p:cNvSpPr/>
          <p:nvPr/>
        </p:nvSpPr>
        <p:spPr>
          <a:xfrm>
            <a:off x="357120" y="357120"/>
            <a:ext cx="3071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丸ｺﾞｼｯｸM-PRO"/>
                <a:ea typeface="HG丸ｺﾞｼｯｸM-PRO"/>
              </a:rPr>
              <a:t>研究目的</a:t>
            </a:r>
            <a:endParaRPr b="0" lang="en-US" sz="4400" spc="-1" strike="noStrike">
              <a:solidFill>
                <a:srgbClr val="663300"/>
              </a:solidFill>
              <a:latin typeface="Century School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28400" y="142560"/>
            <a:ext cx="7467480" cy="654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575f6d"/>
                </a:solidFill>
                <a:latin typeface="Century Schoolbook"/>
              </a:rPr>
              <a:t>Ｍ．Ｔ．コープランドの製品分類</a:t>
            </a:r>
            <a:endParaRPr b="0" lang="en-US" sz="3000" spc="-1" strike="noStrike">
              <a:solidFill>
                <a:srgbClr val="575f6d"/>
              </a:solidFill>
              <a:latin typeface="Century Schoolbook"/>
            </a:endParaRPr>
          </a:p>
        </p:txBody>
      </p:sp>
      <p:sp>
        <p:nvSpPr>
          <p:cNvPr id="460" name="スライド番号プレースホルダ 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BA969-E935-4A91-8E70-27C23B60EC8B}" type="slidenum">
              <a:rPr b="1" lang="ja-JP" sz="2800" spc="-1" strike="noStrike">
                <a:solidFill>
                  <a:srgbClr val="ffffff"/>
                </a:solidFill>
                <a:latin typeface="Century Schoolbook"/>
              </a:rPr>
              <a:t>&lt;number&gt;</a:t>
            </a:fld>
            <a:endParaRPr b="0" lang="en-US" sz="2800" spc="-1" strike="noStrike">
              <a:solidFill>
                <a:srgbClr val="663300"/>
              </a:solidFill>
              <a:latin typeface="Century Schoolbook"/>
            </a:endParaRPr>
          </a:p>
        </p:txBody>
      </p:sp>
      <p:sp>
        <p:nvSpPr>
          <p:cNvPr id="461" name="角丸四角形 4"/>
          <p:cNvSpPr/>
          <p:nvPr/>
        </p:nvSpPr>
        <p:spPr>
          <a:xfrm>
            <a:off x="357120" y="1000080"/>
            <a:ext cx="7786800" cy="1643040"/>
          </a:xfrm>
          <a:prstGeom prst="roundRect">
            <a:avLst>
              <a:gd name="adj" fmla="val 16667"/>
            </a:avLst>
          </a:prstGeom>
          <a:noFill/>
          <a:ln w="5724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rPr>
              <a:t>最寄品</a:t>
            </a:r>
            <a:endParaRPr b="0" lang="en-US" sz="24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Schoolbook"/>
              </a:rPr>
              <a:t>簡単に行ける店舗で習慣的に購買される製品。</a:t>
            </a:r>
            <a:endParaRPr b="0" lang="en-US" sz="20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Schoolbook"/>
              </a:rPr>
              <a:t>ほとんどの場合、単位価格は非常に低いため、</a:t>
            </a:r>
            <a:endParaRPr b="0" lang="en-US" sz="20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Schoolbook"/>
              </a:rPr>
              <a:t>消費者が、ある特定のブランドを入手するために</a:t>
            </a:r>
            <a:endParaRPr b="0" lang="en-US" sz="20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Schoolbook"/>
              </a:rPr>
              <a:t>わざわざ遠くまで出かけることを正当化しない。</a:t>
            </a:r>
            <a:endParaRPr b="0" lang="en-US" sz="2000" spc="-1" strike="noStrike">
              <a:solidFill>
                <a:srgbClr val="663300"/>
              </a:solidFill>
              <a:latin typeface="Century Schoolbook"/>
            </a:endParaRPr>
          </a:p>
        </p:txBody>
      </p:sp>
      <p:sp>
        <p:nvSpPr>
          <p:cNvPr id="462" name="角丸四角形 5"/>
          <p:cNvSpPr/>
          <p:nvPr/>
        </p:nvSpPr>
        <p:spPr>
          <a:xfrm>
            <a:off x="357120" y="2857680"/>
            <a:ext cx="7786800" cy="1571400"/>
          </a:xfrm>
          <a:prstGeom prst="roundRect">
            <a:avLst>
              <a:gd name="adj" fmla="val 16667"/>
            </a:avLst>
          </a:prstGeom>
          <a:noFill/>
          <a:ln w="5724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rPr>
              <a:t>買回り品</a:t>
            </a:r>
            <a:endParaRPr b="0" lang="en-US" sz="24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Schoolbook"/>
              </a:rPr>
              <a:t>最寄品に比べて購買頻度が低く、</a:t>
            </a:r>
            <a:endParaRPr b="0" lang="en-US" sz="20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Schoolbook"/>
              </a:rPr>
              <a:t>消費者が価格、品質、スタイルを購買時点で比較したいと思う製品。</a:t>
            </a:r>
            <a:endParaRPr b="0" lang="en-US" sz="20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Schoolbook"/>
              </a:rPr>
              <a:t>消費者は、通常、いくつかの店でこの比較を行うことを望んでいる。</a:t>
            </a:r>
            <a:endParaRPr b="0" lang="en-US" sz="20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463" name="角丸四角形 7"/>
          <p:cNvSpPr/>
          <p:nvPr/>
        </p:nvSpPr>
        <p:spPr>
          <a:xfrm>
            <a:off x="357120" y="4643280"/>
            <a:ext cx="7786800" cy="1643400"/>
          </a:xfrm>
          <a:prstGeom prst="roundRect">
            <a:avLst>
              <a:gd name="adj" fmla="val 16667"/>
            </a:avLst>
          </a:prstGeom>
          <a:noFill/>
          <a:ln w="5724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rPr>
              <a:t>専門品</a:t>
            </a:r>
            <a:endParaRPr b="0" lang="en-US" sz="24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Schoolbook"/>
              </a:rPr>
              <a:t>消費者に価格以外の何か特別な魅力を提供し、</a:t>
            </a:r>
            <a:endParaRPr b="0" lang="en-US" sz="20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Schoolbook"/>
              </a:rPr>
              <a:t>販売されている店舗を訪問するのに特別な努力を行わせ、</a:t>
            </a:r>
            <a:endParaRPr b="0" lang="en-US" sz="20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Schoolbook"/>
              </a:rPr>
              <a:t>買い回りをせずに購入しようとさせる製品。</a:t>
            </a:r>
            <a:br>
              <a:rPr sz="2000"/>
            </a:br>
            <a:endParaRPr b="0" lang="en-US" sz="2000" spc="-1" strike="noStrike">
              <a:solidFill>
                <a:srgbClr val="663300"/>
              </a:solidFill>
              <a:latin typeface="Century Schoolbook"/>
            </a:endParaRPr>
          </a:p>
        </p:txBody>
      </p:sp>
      <p:sp>
        <p:nvSpPr>
          <p:cNvPr id="464" name="角丸四角形 8"/>
          <p:cNvSpPr/>
          <p:nvPr/>
        </p:nvSpPr>
        <p:spPr>
          <a:xfrm>
            <a:off x="357120" y="1000080"/>
            <a:ext cx="7786800" cy="1643040"/>
          </a:xfrm>
          <a:prstGeom prst="roundRect">
            <a:avLst>
              <a:gd name="adj" fmla="val 16667"/>
            </a:avLst>
          </a:prstGeom>
          <a:solidFill>
            <a:srgbClr val="ffffff"/>
          </a:solidFill>
          <a:ln w="5724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rPr>
              <a:t>最寄品</a:t>
            </a:r>
            <a:endParaRPr b="0" lang="en-US" sz="24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rPr>
              <a:t>日用品・生活雑貨・食料品</a:t>
            </a:r>
            <a:endParaRPr b="0" lang="en-US" sz="2400" spc="-1" strike="noStrike">
              <a:solidFill>
                <a:srgbClr val="663300"/>
              </a:solidFill>
              <a:latin typeface="Century Schoolbook"/>
            </a:endParaRPr>
          </a:p>
        </p:txBody>
      </p:sp>
      <p:sp>
        <p:nvSpPr>
          <p:cNvPr id="465" name="角丸四角形 10"/>
          <p:cNvSpPr/>
          <p:nvPr/>
        </p:nvSpPr>
        <p:spPr>
          <a:xfrm>
            <a:off x="357120" y="2857680"/>
            <a:ext cx="7786800" cy="1571400"/>
          </a:xfrm>
          <a:prstGeom prst="roundRect">
            <a:avLst>
              <a:gd name="adj" fmla="val 16667"/>
            </a:avLst>
          </a:prstGeom>
          <a:solidFill>
            <a:srgbClr val="ffffff"/>
          </a:solidFill>
          <a:ln w="5724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rPr>
              <a:t>買回り品</a:t>
            </a:r>
            <a:endParaRPr b="0" lang="en-US" sz="24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rPr>
              <a:t>家具・電化製品</a:t>
            </a:r>
            <a:endParaRPr b="0" lang="en-US" sz="24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Century Schoolbook"/>
            </a:endParaRPr>
          </a:p>
        </p:txBody>
      </p:sp>
      <p:sp>
        <p:nvSpPr>
          <p:cNvPr id="466" name="角丸四角形 11"/>
          <p:cNvSpPr/>
          <p:nvPr/>
        </p:nvSpPr>
        <p:spPr>
          <a:xfrm>
            <a:off x="357120" y="4643280"/>
            <a:ext cx="7786800" cy="1643400"/>
          </a:xfrm>
          <a:prstGeom prst="roundRect">
            <a:avLst>
              <a:gd name="adj" fmla="val 16667"/>
            </a:avLst>
          </a:prstGeom>
          <a:solidFill>
            <a:srgbClr val="ffffff"/>
          </a:solidFill>
          <a:ln w="5724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rPr>
              <a:t>専門品</a:t>
            </a:r>
            <a:endParaRPr b="0" lang="en-US" sz="24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Schoolbook"/>
              </a:rPr>
              <a:t>高級ブランド品</a:t>
            </a:r>
            <a:br>
              <a:rPr sz="2000"/>
            </a:br>
            <a:endParaRPr b="0" lang="en-US" sz="2000" spc="-1" strike="noStrike">
              <a:solidFill>
                <a:srgbClr val="663300"/>
              </a:solidFill>
              <a:latin typeface="Century Schoolbook"/>
            </a:endParaRPr>
          </a:p>
        </p:txBody>
      </p:sp>
      <p:sp>
        <p:nvSpPr>
          <p:cNvPr id="467" name="テキスト ボックス 13"/>
          <p:cNvSpPr/>
          <p:nvPr/>
        </p:nvSpPr>
        <p:spPr>
          <a:xfrm>
            <a:off x="4071960" y="6550200"/>
            <a:ext cx="4643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Schoolbook"/>
              </a:rPr>
              <a:t>　　</a:t>
            </a:r>
            <a:r>
              <a:rPr b="1" lang="ja-JP" sz="1400" spc="-1" strike="noStrike">
                <a:solidFill>
                  <a:srgbClr val="000000"/>
                </a:solidFill>
                <a:latin typeface="Century Schoolbook"/>
              </a:rPr>
              <a:t>　</a:t>
            </a:r>
            <a:r>
              <a:rPr b="1" lang="en-US" sz="1400" spc="-1" strike="noStrike">
                <a:solidFill>
                  <a:srgbClr val="000000"/>
                </a:solidFill>
                <a:latin typeface="Century Schoolbook"/>
              </a:rPr>
              <a:t>[</a:t>
            </a:r>
            <a:r>
              <a:rPr b="1" lang="ja-JP" sz="1400" spc="-1" strike="noStrike">
                <a:solidFill>
                  <a:srgbClr val="000000"/>
                </a:solidFill>
                <a:latin typeface="Century Schoolbook"/>
              </a:rPr>
              <a:t>塩田静雄　（</a:t>
            </a:r>
            <a:r>
              <a:rPr b="1" lang="en-US" sz="1400" spc="-1" strike="noStrike">
                <a:solidFill>
                  <a:srgbClr val="000000"/>
                </a:solidFill>
                <a:latin typeface="Century Schoolbook"/>
              </a:rPr>
              <a:t>2002</a:t>
            </a:r>
            <a:r>
              <a:rPr b="1" lang="ja-JP" sz="1400" spc="-1" strike="noStrike">
                <a:solidFill>
                  <a:srgbClr val="000000"/>
                </a:solidFill>
                <a:latin typeface="Century Schoolbook"/>
              </a:rPr>
              <a:t>年）　</a:t>
            </a:r>
            <a:r>
              <a:rPr b="1" lang="en-US" sz="1400" spc="-1" strike="noStrike">
                <a:solidFill>
                  <a:srgbClr val="000000"/>
                </a:solidFill>
                <a:latin typeface="Century Schoolbook"/>
              </a:rPr>
              <a:t>pp.256-261]</a:t>
            </a:r>
            <a:endParaRPr b="0" lang="en-US" sz="1400" spc="-1" strike="noStrike">
              <a:solidFill>
                <a:srgbClr val="663300"/>
              </a:solidFill>
              <a:latin typeface="Century Schoolbook"/>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8" presetSubtype="12">
                                  <p:stCondLst>
                                    <p:cond delay="0"/>
                                  </p:stCondLst>
                                  <p:childTnLst>
                                    <p:set>
                                      <p:cBhvr>
                                        <p:cTn id="42" dur="1" fill="hold">
                                          <p:stCondLst>
                                            <p:cond delay="0"/>
                                          </p:stCondLst>
                                        </p:cTn>
                                        <p:tgtEl>
                                          <p:spTgt spid="464"/>
                                        </p:tgtEl>
                                        <p:attrNameLst>
                                          <p:attrName>style.visibility</p:attrName>
                                        </p:attrNameLst>
                                      </p:cBhvr>
                                      <p:to>
                                        <p:strVal val="visible"/>
                                      </p:to>
                                    </p:set>
                                    <p:animEffect filter="strips(downLeft)" transition="in">
                                      <p:cBhvr additive="repl">
                                        <p:cTn id="43" dur="500"/>
                                        <p:tgtEl>
                                          <p:spTgt spid="464"/>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8" presetSubtype="12">
                                  <p:stCondLst>
                                    <p:cond delay="0"/>
                                  </p:stCondLst>
                                  <p:childTnLst>
                                    <p:set>
                                      <p:cBhvr>
                                        <p:cTn id="47" dur="1" fill="hold">
                                          <p:stCondLst>
                                            <p:cond delay="0"/>
                                          </p:stCondLst>
                                        </p:cTn>
                                        <p:tgtEl>
                                          <p:spTgt spid="465"/>
                                        </p:tgtEl>
                                        <p:attrNameLst>
                                          <p:attrName>style.visibility</p:attrName>
                                        </p:attrNameLst>
                                      </p:cBhvr>
                                      <p:to>
                                        <p:strVal val="visible"/>
                                      </p:to>
                                    </p:set>
                                    <p:animEffect filter="strips(downLeft)" transition="in">
                                      <p:cBhvr additive="repl">
                                        <p:cTn id="48" dur="500"/>
                                        <p:tgtEl>
                                          <p:spTgt spid="465"/>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8" presetSubtype="12">
                                  <p:stCondLst>
                                    <p:cond delay="0"/>
                                  </p:stCondLst>
                                  <p:childTnLst>
                                    <p:set>
                                      <p:cBhvr>
                                        <p:cTn id="52" dur="1" fill="hold">
                                          <p:stCondLst>
                                            <p:cond delay="0"/>
                                          </p:stCondLst>
                                        </p:cTn>
                                        <p:tgtEl>
                                          <p:spTgt spid="466"/>
                                        </p:tgtEl>
                                        <p:attrNameLst>
                                          <p:attrName>style.visibility</p:attrName>
                                        </p:attrNameLst>
                                      </p:cBhvr>
                                      <p:to>
                                        <p:strVal val="visible"/>
                                      </p:to>
                                    </p:set>
                                    <p:animEffect filter="strips(downLeft)" transition="in">
                                      <p:cBhvr additive="repl">
                                        <p:cTn id="53" dur="500"/>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正方形/長方形 12"/>
          <p:cNvSpPr/>
          <p:nvPr/>
        </p:nvSpPr>
        <p:spPr>
          <a:xfrm>
            <a:off x="785880" y="2428920"/>
            <a:ext cx="7072200" cy="2357280"/>
          </a:xfrm>
          <a:prstGeom prst="rect">
            <a:avLst/>
          </a:prstGeom>
          <a:solidFill>
            <a:srgbClr val="ffffff"/>
          </a:solidFill>
          <a:ln w="12600">
            <a:solidFill>
              <a:srgbClr val="bb612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663300"/>
                </a:solidFill>
                <a:latin typeface="Century Schoolbook"/>
              </a:rPr>
              <a:t>専門品は選択する際に価格・機能・デザインよりも</a:t>
            </a:r>
            <a:endParaRPr b="0" lang="en-US" sz="18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663300"/>
                </a:solidFill>
                <a:latin typeface="Century Schoolbook"/>
              </a:rPr>
              <a:t>ブランド力のほうが重視されやすい。</a:t>
            </a:r>
            <a:endParaRPr b="0" lang="en-US" sz="18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663300"/>
                </a:solidFill>
                <a:latin typeface="Century Schoolbook"/>
              </a:rPr>
              <a:t>またブランド品というカテゴリーの中に様々な製品が含まれており、</a:t>
            </a:r>
            <a:endParaRPr b="0" lang="en-US" sz="18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663300"/>
                </a:solidFill>
                <a:latin typeface="Century Schoolbook"/>
              </a:rPr>
              <a:t>それらの分類が出来ないため、専門品は本研究から除外する。</a:t>
            </a:r>
            <a:endParaRPr b="0" lang="en-US" sz="18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Century Schoolbook"/>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468"/>
                                        </p:tgtEl>
                                        <p:attrNameLst>
                                          <p:attrName>style.visibility</p:attrName>
                                        </p:attrNameLst>
                                      </p:cBhvr>
                                      <p:to>
                                        <p:strVal val="visible"/>
                                      </p:to>
                                    </p:set>
                                    <p:animEffect filter="blinds(horizontal)" transition="in">
                                      <p:cBhvr additive="repl">
                                        <p:cTn id="60" dur="500"/>
                                        <p:tgtEl>
                                          <p:spTgt spid="4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9" name="Picture 5" descr="C:\Documents and Settings\bm0701469\Local Settings\Temporary Internet Files\Content.IE5\WJW90ZWR\MPj04395640000[1].jpg"/>
          <p:cNvPicPr/>
          <p:nvPr/>
        </p:nvPicPr>
        <p:blipFill>
          <a:blip r:embed="rId1"/>
          <a:stretch/>
        </p:blipFill>
        <p:spPr>
          <a:xfrm>
            <a:off x="4500720" y="4214880"/>
            <a:ext cx="3625560" cy="2428920"/>
          </a:xfrm>
          <a:prstGeom prst="rect">
            <a:avLst/>
          </a:prstGeom>
          <a:ln w="0">
            <a:noFill/>
          </a:ln>
        </p:spPr>
      </p:pic>
      <p:sp>
        <p:nvSpPr>
          <p:cNvPr id="470" name="スライド番号プレースホル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EB454-3FAC-4D4F-B2AF-60B4B03D373A}" type="slidenum">
              <a:rPr b="1" lang="ja-JP" sz="1400" spc="-1" strike="noStrike">
                <a:solidFill>
                  <a:srgbClr val="ffffff"/>
                </a:solidFill>
                <a:latin typeface="Century Schoolbook"/>
              </a:rPr>
              <a:t>&lt;number&gt;</a:t>
            </a:fld>
            <a:endParaRPr b="0" lang="en-US" sz="1400" spc="-1" strike="noStrike">
              <a:solidFill>
                <a:srgbClr val="663300"/>
              </a:solidFill>
              <a:latin typeface="Century Schoolbook"/>
            </a:endParaRPr>
          </a:p>
        </p:txBody>
      </p:sp>
      <p:sp>
        <p:nvSpPr>
          <p:cNvPr id="471" name="フリーフォーム 7"/>
          <p:cNvSpPr/>
          <p:nvPr/>
        </p:nvSpPr>
        <p:spPr>
          <a:xfrm>
            <a:off x="344520" y="638280"/>
            <a:ext cx="6738840" cy="3914640"/>
          </a:xfrm>
          <a:custGeom>
            <a:avLst/>
            <a:gdLst/>
            <a:ahLst/>
            <a:rect l="l" t="t" r="r" b="b"/>
            <a:pathLst>
              <a:path w="6740003" h="3914508">
                <a:moveTo>
                  <a:pt x="3574928" y="3662581"/>
                </a:moveTo>
                <a:cubicBezTo>
                  <a:pt x="2933325" y="3693135"/>
                  <a:pt x="2862927" y="3700384"/>
                  <a:pt x="1820773" y="3653251"/>
                </a:cubicBezTo>
                <a:cubicBezTo>
                  <a:pt x="1666762" y="3646286"/>
                  <a:pt x="1542379" y="3589915"/>
                  <a:pt x="1400895" y="3550614"/>
                </a:cubicBezTo>
                <a:cubicBezTo>
                  <a:pt x="1385615" y="3546369"/>
                  <a:pt x="1369793" y="3544393"/>
                  <a:pt x="1354242" y="3541283"/>
                </a:cubicBezTo>
                <a:cubicBezTo>
                  <a:pt x="1316920" y="3525732"/>
                  <a:pt x="1279958" y="3509285"/>
                  <a:pt x="1242275" y="3494630"/>
                </a:cubicBezTo>
                <a:cubicBezTo>
                  <a:pt x="1110415" y="3443351"/>
                  <a:pt x="1281045" y="3523720"/>
                  <a:pt x="1083655" y="3429316"/>
                </a:cubicBezTo>
                <a:cubicBezTo>
                  <a:pt x="1046011" y="3411312"/>
                  <a:pt x="1003743" y="3400046"/>
                  <a:pt x="971687" y="3373332"/>
                </a:cubicBezTo>
                <a:cubicBezTo>
                  <a:pt x="893163" y="3307895"/>
                  <a:pt x="936303" y="3339553"/>
                  <a:pt x="841059" y="3280026"/>
                </a:cubicBezTo>
                <a:cubicBezTo>
                  <a:pt x="831728" y="3267585"/>
                  <a:pt x="821309" y="3255891"/>
                  <a:pt x="813067" y="3242704"/>
                </a:cubicBezTo>
                <a:cubicBezTo>
                  <a:pt x="795277" y="3214240"/>
                  <a:pt x="797376" y="3201725"/>
                  <a:pt x="775744" y="3177389"/>
                </a:cubicBezTo>
                <a:cubicBezTo>
                  <a:pt x="758211" y="3157664"/>
                  <a:pt x="737719" y="3140745"/>
                  <a:pt x="719761" y="3121406"/>
                </a:cubicBezTo>
                <a:cubicBezTo>
                  <a:pt x="697264" y="3097178"/>
                  <a:pt x="677825" y="3070139"/>
                  <a:pt x="654447" y="3046761"/>
                </a:cubicBezTo>
                <a:cubicBezTo>
                  <a:pt x="643451" y="3035765"/>
                  <a:pt x="627169" y="3030641"/>
                  <a:pt x="617124" y="3018769"/>
                </a:cubicBezTo>
                <a:cubicBezTo>
                  <a:pt x="552324" y="2942187"/>
                  <a:pt x="566872" y="2931194"/>
                  <a:pt x="505157" y="2869479"/>
                </a:cubicBezTo>
                <a:cubicBezTo>
                  <a:pt x="494161" y="2858483"/>
                  <a:pt x="480275" y="2850818"/>
                  <a:pt x="467834" y="2841487"/>
                </a:cubicBezTo>
                <a:cubicBezTo>
                  <a:pt x="439842" y="2794834"/>
                  <a:pt x="408190" y="2750190"/>
                  <a:pt x="383859" y="2701528"/>
                </a:cubicBezTo>
                <a:cubicBezTo>
                  <a:pt x="377639" y="2689087"/>
                  <a:pt x="369597" y="2677401"/>
                  <a:pt x="365198" y="2664206"/>
                </a:cubicBezTo>
                <a:cubicBezTo>
                  <a:pt x="321007" y="2531636"/>
                  <a:pt x="381193" y="2645013"/>
                  <a:pt x="299883" y="2514916"/>
                </a:cubicBezTo>
                <a:cubicBezTo>
                  <a:pt x="296773" y="2493145"/>
                  <a:pt x="294487" y="2471240"/>
                  <a:pt x="290553" y="2449602"/>
                </a:cubicBezTo>
                <a:cubicBezTo>
                  <a:pt x="288259" y="2436985"/>
                  <a:pt x="283330" y="2424928"/>
                  <a:pt x="281222" y="2412279"/>
                </a:cubicBezTo>
                <a:cubicBezTo>
                  <a:pt x="277100" y="2387545"/>
                  <a:pt x="275001" y="2362516"/>
                  <a:pt x="271891" y="2337634"/>
                </a:cubicBezTo>
                <a:cubicBezTo>
                  <a:pt x="284332" y="2188344"/>
                  <a:pt x="291264" y="2038493"/>
                  <a:pt x="309214" y="1889765"/>
                </a:cubicBezTo>
                <a:cubicBezTo>
                  <a:pt x="318271" y="1814718"/>
                  <a:pt x="337395" y="1808915"/>
                  <a:pt x="355867" y="1749806"/>
                </a:cubicBezTo>
                <a:cubicBezTo>
                  <a:pt x="366444" y="1715958"/>
                  <a:pt x="373669" y="1681135"/>
                  <a:pt x="383859" y="1647169"/>
                </a:cubicBezTo>
                <a:cubicBezTo>
                  <a:pt x="392338" y="1618907"/>
                  <a:pt x="403260" y="1591421"/>
                  <a:pt x="411851" y="1563193"/>
                </a:cubicBezTo>
                <a:cubicBezTo>
                  <a:pt x="425036" y="1519870"/>
                  <a:pt x="428921" y="1473069"/>
                  <a:pt x="449173" y="1432565"/>
                </a:cubicBezTo>
                <a:cubicBezTo>
                  <a:pt x="461614" y="1407683"/>
                  <a:pt x="472478" y="1381949"/>
                  <a:pt x="486495" y="1357920"/>
                </a:cubicBezTo>
                <a:cubicBezTo>
                  <a:pt x="494331" y="1344487"/>
                  <a:pt x="505635" y="1333384"/>
                  <a:pt x="514487" y="1320598"/>
                </a:cubicBezTo>
                <a:cubicBezTo>
                  <a:pt x="533637" y="1292938"/>
                  <a:pt x="551070" y="1264107"/>
                  <a:pt x="570471" y="1236622"/>
                </a:cubicBezTo>
                <a:cubicBezTo>
                  <a:pt x="588407" y="1211213"/>
                  <a:pt x="608751" y="1187549"/>
                  <a:pt x="626455" y="1161977"/>
                </a:cubicBezTo>
                <a:cubicBezTo>
                  <a:pt x="683718" y="1079264"/>
                  <a:pt x="619689" y="1147233"/>
                  <a:pt x="710430" y="1050010"/>
                </a:cubicBezTo>
                <a:cubicBezTo>
                  <a:pt x="755104" y="1002145"/>
                  <a:pt x="818861" y="942053"/>
                  <a:pt x="869051" y="900720"/>
                </a:cubicBezTo>
                <a:cubicBezTo>
                  <a:pt x="893059" y="880948"/>
                  <a:pt x="919802" y="864647"/>
                  <a:pt x="943695" y="844736"/>
                </a:cubicBezTo>
                <a:cubicBezTo>
                  <a:pt x="957211" y="833473"/>
                  <a:pt x="967279" y="818405"/>
                  <a:pt x="981018" y="807414"/>
                </a:cubicBezTo>
                <a:cubicBezTo>
                  <a:pt x="998532" y="793403"/>
                  <a:pt x="1018628" y="782953"/>
                  <a:pt x="1037002" y="770091"/>
                </a:cubicBezTo>
                <a:cubicBezTo>
                  <a:pt x="1049742" y="761173"/>
                  <a:pt x="1060730" y="749652"/>
                  <a:pt x="1074324" y="742100"/>
                </a:cubicBezTo>
                <a:cubicBezTo>
                  <a:pt x="1088965" y="733966"/>
                  <a:pt x="1106336" y="731572"/>
                  <a:pt x="1120977" y="723438"/>
                </a:cubicBezTo>
                <a:cubicBezTo>
                  <a:pt x="1134571" y="715886"/>
                  <a:pt x="1145646" y="704486"/>
                  <a:pt x="1158300" y="695447"/>
                </a:cubicBezTo>
                <a:cubicBezTo>
                  <a:pt x="1202932" y="663567"/>
                  <a:pt x="1220462" y="660229"/>
                  <a:pt x="1279598" y="620802"/>
                </a:cubicBezTo>
                <a:cubicBezTo>
                  <a:pt x="1288928" y="614581"/>
                  <a:pt x="1297407" y="606839"/>
                  <a:pt x="1307589" y="602140"/>
                </a:cubicBezTo>
                <a:cubicBezTo>
                  <a:pt x="1338004" y="588102"/>
                  <a:pt x="1370206" y="578244"/>
                  <a:pt x="1400895" y="564818"/>
                </a:cubicBezTo>
                <a:cubicBezTo>
                  <a:pt x="1504538" y="519474"/>
                  <a:pt x="1418766" y="549529"/>
                  <a:pt x="1484871" y="527496"/>
                </a:cubicBezTo>
                <a:cubicBezTo>
                  <a:pt x="1629118" y="431330"/>
                  <a:pt x="1436619" y="549933"/>
                  <a:pt x="1624830" y="471512"/>
                </a:cubicBezTo>
                <a:cubicBezTo>
                  <a:pt x="1637011" y="466437"/>
                  <a:pt x="1641973" y="451031"/>
                  <a:pt x="1652822" y="443520"/>
                </a:cubicBezTo>
                <a:cubicBezTo>
                  <a:pt x="1682644" y="422874"/>
                  <a:pt x="1711870" y="399452"/>
                  <a:pt x="1746128" y="387536"/>
                </a:cubicBezTo>
                <a:cubicBezTo>
                  <a:pt x="1784766" y="374097"/>
                  <a:pt x="1827123" y="375884"/>
                  <a:pt x="1867426" y="368875"/>
                </a:cubicBezTo>
                <a:cubicBezTo>
                  <a:pt x="1898675" y="363440"/>
                  <a:pt x="1930171" y="358703"/>
                  <a:pt x="1960732" y="350214"/>
                </a:cubicBezTo>
                <a:cubicBezTo>
                  <a:pt x="1986336" y="343102"/>
                  <a:pt x="2009678" y="328985"/>
                  <a:pt x="2035377" y="322222"/>
                </a:cubicBezTo>
                <a:cubicBezTo>
                  <a:pt x="2069005" y="313372"/>
                  <a:pt x="2104069" y="311104"/>
                  <a:pt x="2138014" y="303561"/>
                </a:cubicBezTo>
                <a:cubicBezTo>
                  <a:pt x="2160117" y="298649"/>
                  <a:pt x="2181051" y="288950"/>
                  <a:pt x="2203328" y="284900"/>
                </a:cubicBezTo>
                <a:cubicBezTo>
                  <a:pt x="2249635" y="276480"/>
                  <a:pt x="2296768" y="273395"/>
                  <a:pt x="2343287" y="266238"/>
                </a:cubicBezTo>
                <a:cubicBezTo>
                  <a:pt x="2377656" y="260950"/>
                  <a:pt x="2411284" y="250616"/>
                  <a:pt x="2445924" y="247577"/>
                </a:cubicBezTo>
                <a:cubicBezTo>
                  <a:pt x="2588749" y="235049"/>
                  <a:pt x="2732145" y="230099"/>
                  <a:pt x="2875132" y="219585"/>
                </a:cubicBezTo>
                <a:cubicBezTo>
                  <a:pt x="3388745" y="181819"/>
                  <a:pt x="2805746" y="216183"/>
                  <a:pt x="3248357" y="191593"/>
                </a:cubicBezTo>
                <a:cubicBezTo>
                  <a:pt x="3874793" y="108069"/>
                  <a:pt x="4549050" y="0"/>
                  <a:pt x="5151802" y="200924"/>
                </a:cubicBezTo>
                <a:cubicBezTo>
                  <a:pt x="5214006" y="197814"/>
                  <a:pt x="5276463" y="185184"/>
                  <a:pt x="5338414" y="191593"/>
                </a:cubicBezTo>
                <a:cubicBezTo>
                  <a:pt x="5368883" y="194745"/>
                  <a:pt x="5393179" y="219692"/>
                  <a:pt x="5422389" y="228916"/>
                </a:cubicBezTo>
                <a:cubicBezTo>
                  <a:pt x="5509118" y="256304"/>
                  <a:pt x="5545343" y="234361"/>
                  <a:pt x="5627663" y="294230"/>
                </a:cubicBezTo>
                <a:cubicBezTo>
                  <a:pt x="5661875" y="319112"/>
                  <a:pt x="5696457" y="343493"/>
                  <a:pt x="5730300" y="368875"/>
                </a:cubicBezTo>
                <a:cubicBezTo>
                  <a:pt x="5778104" y="404728"/>
                  <a:pt x="5869055" y="483400"/>
                  <a:pt x="5888920" y="518165"/>
                </a:cubicBezTo>
                <a:cubicBezTo>
                  <a:pt x="5888971" y="518255"/>
                  <a:pt x="5931489" y="596140"/>
                  <a:pt x="5944904" y="611471"/>
                </a:cubicBezTo>
                <a:cubicBezTo>
                  <a:pt x="5959386" y="628022"/>
                  <a:pt x="5978362" y="640530"/>
                  <a:pt x="5991557" y="658124"/>
                </a:cubicBezTo>
                <a:cubicBezTo>
                  <a:pt x="6006602" y="678184"/>
                  <a:pt x="6017147" y="701277"/>
                  <a:pt x="6028879" y="723438"/>
                </a:cubicBezTo>
                <a:cubicBezTo>
                  <a:pt x="6045149" y="754170"/>
                  <a:pt x="6054183" y="789297"/>
                  <a:pt x="6075532" y="816745"/>
                </a:cubicBezTo>
                <a:cubicBezTo>
                  <a:pt x="6176629" y="946725"/>
                  <a:pt x="6115633" y="852310"/>
                  <a:pt x="6159508" y="947373"/>
                </a:cubicBezTo>
                <a:cubicBezTo>
                  <a:pt x="6171165" y="972631"/>
                  <a:pt x="6184985" y="996847"/>
                  <a:pt x="6196830" y="1022018"/>
                </a:cubicBezTo>
                <a:cubicBezTo>
                  <a:pt x="6209873" y="1049734"/>
                  <a:pt x="6220454" y="1078595"/>
                  <a:pt x="6234153" y="1105993"/>
                </a:cubicBezTo>
                <a:cubicBezTo>
                  <a:pt x="6239168" y="1116023"/>
                  <a:pt x="6248501" y="1123634"/>
                  <a:pt x="6252814" y="1133985"/>
                </a:cubicBezTo>
                <a:cubicBezTo>
                  <a:pt x="6264162" y="1161221"/>
                  <a:pt x="6268979" y="1190929"/>
                  <a:pt x="6280806" y="1217961"/>
                </a:cubicBezTo>
                <a:cubicBezTo>
                  <a:pt x="6290857" y="1240934"/>
                  <a:pt x="6305227" y="1261773"/>
                  <a:pt x="6318128" y="1283275"/>
                </a:cubicBezTo>
                <a:cubicBezTo>
                  <a:pt x="6323898" y="1292891"/>
                  <a:pt x="6332294" y="1300993"/>
                  <a:pt x="6336789" y="1311267"/>
                </a:cubicBezTo>
                <a:cubicBezTo>
                  <a:pt x="6354152" y="1350955"/>
                  <a:pt x="6374365" y="1390206"/>
                  <a:pt x="6383442" y="1432565"/>
                </a:cubicBezTo>
                <a:lnTo>
                  <a:pt x="6411434" y="1563193"/>
                </a:lnTo>
                <a:cubicBezTo>
                  <a:pt x="6414544" y="1625397"/>
                  <a:pt x="6422010" y="1687536"/>
                  <a:pt x="6420765" y="1749806"/>
                </a:cubicBezTo>
                <a:cubicBezTo>
                  <a:pt x="6418895" y="1843300"/>
                  <a:pt x="6410090" y="1936553"/>
                  <a:pt x="6402104" y="2029724"/>
                </a:cubicBezTo>
                <a:cubicBezTo>
                  <a:pt x="6400750" y="2045525"/>
                  <a:pt x="6395016" y="2060677"/>
                  <a:pt x="6392773" y="2076377"/>
                </a:cubicBezTo>
                <a:cubicBezTo>
                  <a:pt x="6388790" y="2104258"/>
                  <a:pt x="6393650" y="2134104"/>
                  <a:pt x="6383442" y="2160353"/>
                </a:cubicBezTo>
                <a:cubicBezTo>
                  <a:pt x="6371249" y="2191707"/>
                  <a:pt x="6343896" y="2214975"/>
                  <a:pt x="6327459" y="2244328"/>
                </a:cubicBezTo>
                <a:cubicBezTo>
                  <a:pt x="6300275" y="2292872"/>
                  <a:pt x="6281439" y="2345910"/>
                  <a:pt x="6252814" y="2393618"/>
                </a:cubicBezTo>
                <a:cubicBezTo>
                  <a:pt x="6234153" y="2424720"/>
                  <a:pt x="6213899" y="2454920"/>
                  <a:pt x="6196830" y="2486924"/>
                </a:cubicBezTo>
                <a:cubicBezTo>
                  <a:pt x="6188948" y="2501702"/>
                  <a:pt x="6187460" y="2519641"/>
                  <a:pt x="6178169" y="2533577"/>
                </a:cubicBezTo>
                <a:cubicBezTo>
                  <a:pt x="6156075" y="2566718"/>
                  <a:pt x="6124793" y="2593207"/>
                  <a:pt x="6103524" y="2626883"/>
                </a:cubicBezTo>
                <a:cubicBezTo>
                  <a:pt x="6087167" y="2652782"/>
                  <a:pt x="6083427" y="2685529"/>
                  <a:pt x="6066202" y="2710859"/>
                </a:cubicBezTo>
                <a:cubicBezTo>
                  <a:pt x="6030148" y="2763880"/>
                  <a:pt x="5985740" y="2810716"/>
                  <a:pt x="5944904" y="2860149"/>
                </a:cubicBezTo>
                <a:cubicBezTo>
                  <a:pt x="5926642" y="2882256"/>
                  <a:pt x="5901744" y="2899816"/>
                  <a:pt x="5888920" y="2925463"/>
                </a:cubicBezTo>
                <a:cubicBezTo>
                  <a:pt x="5849700" y="3003903"/>
                  <a:pt x="5895124" y="2922890"/>
                  <a:pt x="5804944" y="3028100"/>
                </a:cubicBezTo>
                <a:cubicBezTo>
                  <a:pt x="5787532" y="3048414"/>
                  <a:pt x="5776496" y="3073808"/>
                  <a:pt x="5758291" y="3093414"/>
                </a:cubicBezTo>
                <a:cubicBezTo>
                  <a:pt x="5735794" y="3117641"/>
                  <a:pt x="5705988" y="3134356"/>
                  <a:pt x="5683647" y="3158728"/>
                </a:cubicBezTo>
                <a:cubicBezTo>
                  <a:pt x="5613001" y="3235796"/>
                  <a:pt x="5713539" y="3184366"/>
                  <a:pt x="5590340" y="3261365"/>
                </a:cubicBezTo>
                <a:cubicBezTo>
                  <a:pt x="5564364" y="3277600"/>
                  <a:pt x="5534357" y="3286246"/>
                  <a:pt x="5506365" y="3298687"/>
                </a:cubicBezTo>
                <a:cubicBezTo>
                  <a:pt x="5449100" y="3355952"/>
                  <a:pt x="5511763" y="3298199"/>
                  <a:pt x="5413059" y="3364002"/>
                </a:cubicBezTo>
                <a:cubicBezTo>
                  <a:pt x="5317807" y="3427504"/>
                  <a:pt x="5405862" y="3375357"/>
                  <a:pt x="5338414" y="3429316"/>
                </a:cubicBezTo>
                <a:cubicBezTo>
                  <a:pt x="5303315" y="3457395"/>
                  <a:pt x="5173720" y="3543870"/>
                  <a:pt x="5151802" y="3550614"/>
                </a:cubicBezTo>
                <a:lnTo>
                  <a:pt x="5030504" y="3587936"/>
                </a:lnTo>
                <a:cubicBezTo>
                  <a:pt x="4880748" y="3687773"/>
                  <a:pt x="5013045" y="3613174"/>
                  <a:pt x="4871883" y="3662581"/>
                </a:cubicBezTo>
                <a:cubicBezTo>
                  <a:pt x="4833720" y="3675938"/>
                  <a:pt x="4798561" y="3697343"/>
                  <a:pt x="4759916" y="3709234"/>
                </a:cubicBezTo>
                <a:cubicBezTo>
                  <a:pt x="4717354" y="3722330"/>
                  <a:pt x="4672608" y="3726912"/>
                  <a:pt x="4629287" y="3737226"/>
                </a:cubicBezTo>
                <a:cubicBezTo>
                  <a:pt x="4607260" y="3742470"/>
                  <a:pt x="4586176" y="3751446"/>
                  <a:pt x="4563973" y="3755887"/>
                </a:cubicBezTo>
                <a:cubicBezTo>
                  <a:pt x="4512321" y="3766218"/>
                  <a:pt x="4349575" y="3786962"/>
                  <a:pt x="4302716" y="3793210"/>
                </a:cubicBezTo>
                <a:cubicBezTo>
                  <a:pt x="4268504" y="3805651"/>
                  <a:pt x="4233741" y="3816671"/>
                  <a:pt x="4200079" y="3830532"/>
                </a:cubicBezTo>
                <a:cubicBezTo>
                  <a:pt x="4180786" y="3838476"/>
                  <a:pt x="4163991" y="3852241"/>
                  <a:pt x="4144095" y="3858524"/>
                </a:cubicBezTo>
                <a:cubicBezTo>
                  <a:pt x="4104526" y="3871020"/>
                  <a:pt x="4063054" y="3876452"/>
                  <a:pt x="4022798" y="3886516"/>
                </a:cubicBezTo>
                <a:cubicBezTo>
                  <a:pt x="4000831" y="3892008"/>
                  <a:pt x="3980120" y="3904651"/>
                  <a:pt x="3957483" y="3905177"/>
                </a:cubicBezTo>
                <a:cubicBezTo>
                  <a:pt x="3578128" y="3913999"/>
                  <a:pt x="3198594" y="3911398"/>
                  <a:pt x="2819149" y="3914508"/>
                </a:cubicBezTo>
                <a:cubicBezTo>
                  <a:pt x="2504879" y="3891229"/>
                  <a:pt x="2651010" y="3904226"/>
                  <a:pt x="2380610" y="3877185"/>
                </a:cubicBezTo>
                <a:cubicBezTo>
                  <a:pt x="2281083" y="3849193"/>
                  <a:pt x="2184274" y="3808547"/>
                  <a:pt x="2082030" y="3793210"/>
                </a:cubicBezTo>
                <a:cubicBezTo>
                  <a:pt x="1980739" y="3778016"/>
                  <a:pt x="1888227" y="3771587"/>
                  <a:pt x="1792781" y="3737226"/>
                </a:cubicBezTo>
                <a:cubicBezTo>
                  <a:pt x="1748208" y="3721180"/>
                  <a:pt x="1704525" y="3702428"/>
                  <a:pt x="1662153" y="3681242"/>
                </a:cubicBezTo>
                <a:cubicBezTo>
                  <a:pt x="1642093" y="3671212"/>
                  <a:pt x="1625478" y="3655330"/>
                  <a:pt x="1606169" y="3643920"/>
                </a:cubicBezTo>
                <a:cubicBezTo>
                  <a:pt x="1557014" y="3614874"/>
                  <a:pt x="1508274" y="3584814"/>
                  <a:pt x="1456879" y="3559945"/>
                </a:cubicBezTo>
                <a:cubicBezTo>
                  <a:pt x="1411649" y="3538059"/>
                  <a:pt x="1362771" y="3524515"/>
                  <a:pt x="1316920" y="3503961"/>
                </a:cubicBezTo>
                <a:cubicBezTo>
                  <a:pt x="1272497" y="3484047"/>
                  <a:pt x="1229834" y="3460418"/>
                  <a:pt x="1186291" y="3438647"/>
                </a:cubicBezTo>
                <a:cubicBezTo>
                  <a:pt x="1093400" y="3345754"/>
                  <a:pt x="1221560" y="3467370"/>
                  <a:pt x="1018340" y="3326679"/>
                </a:cubicBezTo>
                <a:cubicBezTo>
                  <a:pt x="978396" y="3299025"/>
                  <a:pt x="946469" y="3260807"/>
                  <a:pt x="906373" y="3233373"/>
                </a:cubicBezTo>
                <a:cubicBezTo>
                  <a:pt x="886824" y="3219998"/>
                  <a:pt x="859665" y="3220040"/>
                  <a:pt x="841059" y="3205381"/>
                </a:cubicBezTo>
                <a:cubicBezTo>
                  <a:pt x="756254" y="3138565"/>
                  <a:pt x="679715" y="3061872"/>
                  <a:pt x="598463" y="2990777"/>
                </a:cubicBezTo>
                <a:cubicBezTo>
                  <a:pt x="584390" y="2978463"/>
                  <a:pt x="485446" y="2897729"/>
                  <a:pt x="477165" y="2888140"/>
                </a:cubicBezTo>
                <a:lnTo>
                  <a:pt x="299883" y="2682867"/>
                </a:lnTo>
                <a:cubicBezTo>
                  <a:pt x="213714" y="2481809"/>
                  <a:pt x="348836" y="2786140"/>
                  <a:pt x="215908" y="2533577"/>
                </a:cubicBezTo>
                <a:cubicBezTo>
                  <a:pt x="154949" y="2417754"/>
                  <a:pt x="218395" y="2456195"/>
                  <a:pt x="131932" y="2421610"/>
                </a:cubicBezTo>
                <a:cubicBezTo>
                  <a:pt x="119491" y="2387398"/>
                  <a:pt x="103799" y="2354198"/>
                  <a:pt x="94610" y="2318973"/>
                </a:cubicBezTo>
                <a:cubicBezTo>
                  <a:pt x="89333" y="2298746"/>
                  <a:pt x="67779" y="2140978"/>
                  <a:pt x="57287" y="2113700"/>
                </a:cubicBezTo>
                <a:cubicBezTo>
                  <a:pt x="52550" y="2101384"/>
                  <a:pt x="38626" y="2095039"/>
                  <a:pt x="29295" y="2085708"/>
                </a:cubicBezTo>
                <a:cubicBezTo>
                  <a:pt x="2341" y="1816148"/>
                  <a:pt x="0" y="1838162"/>
                  <a:pt x="47957" y="1376581"/>
                </a:cubicBezTo>
                <a:cubicBezTo>
                  <a:pt x="51841" y="1339202"/>
                  <a:pt x="77027" y="1307158"/>
                  <a:pt x="94610" y="1273945"/>
                </a:cubicBezTo>
                <a:cubicBezTo>
                  <a:pt x="136704" y="1194433"/>
                  <a:pt x="159880" y="1203749"/>
                  <a:pt x="225238" y="1115324"/>
                </a:cubicBezTo>
                <a:cubicBezTo>
                  <a:pt x="250921" y="1080577"/>
                  <a:pt x="264208" y="1037605"/>
                  <a:pt x="290553" y="1003357"/>
                </a:cubicBezTo>
                <a:cubicBezTo>
                  <a:pt x="326782" y="956259"/>
                  <a:pt x="373367" y="918003"/>
                  <a:pt x="411851" y="872728"/>
                </a:cubicBezTo>
                <a:cubicBezTo>
                  <a:pt x="426376" y="855639"/>
                  <a:pt x="433314" y="832604"/>
                  <a:pt x="449173" y="816745"/>
                </a:cubicBezTo>
                <a:cubicBezTo>
                  <a:pt x="523523" y="742395"/>
                  <a:pt x="563731" y="715663"/>
                  <a:pt x="654447" y="676785"/>
                </a:cubicBezTo>
                <a:cubicBezTo>
                  <a:pt x="666234" y="671734"/>
                  <a:pt x="679328" y="670565"/>
                  <a:pt x="691769" y="667455"/>
                </a:cubicBezTo>
                <a:cubicBezTo>
                  <a:pt x="745547" y="617814"/>
                  <a:pt x="878698" y="488960"/>
                  <a:pt x="943695" y="452851"/>
                </a:cubicBezTo>
                <a:cubicBezTo>
                  <a:pt x="980675" y="432307"/>
                  <a:pt x="1025461" y="430588"/>
                  <a:pt x="1064993" y="415528"/>
                </a:cubicBezTo>
                <a:cubicBezTo>
                  <a:pt x="1090989" y="405625"/>
                  <a:pt x="1114270" y="389622"/>
                  <a:pt x="1139638" y="378206"/>
                </a:cubicBezTo>
                <a:cubicBezTo>
                  <a:pt x="1201209" y="350500"/>
                  <a:pt x="1294121" y="309254"/>
                  <a:pt x="1363573" y="303561"/>
                </a:cubicBezTo>
                <a:cubicBezTo>
                  <a:pt x="1515590" y="291101"/>
                  <a:pt x="1668392" y="291574"/>
                  <a:pt x="1820773" y="284900"/>
                </a:cubicBezTo>
                <a:lnTo>
                  <a:pt x="2641867" y="247577"/>
                </a:lnTo>
                <a:cubicBezTo>
                  <a:pt x="3611950" y="53559"/>
                  <a:pt x="2778475" y="210566"/>
                  <a:pt x="5329083" y="228916"/>
                </a:cubicBezTo>
                <a:cubicBezTo>
                  <a:pt x="5339881" y="228994"/>
                  <a:pt x="5388908" y="240167"/>
                  <a:pt x="5403728" y="247577"/>
                </a:cubicBezTo>
                <a:cubicBezTo>
                  <a:pt x="5419949" y="255687"/>
                  <a:pt x="5434528" y="266762"/>
                  <a:pt x="5450381" y="275569"/>
                </a:cubicBezTo>
                <a:cubicBezTo>
                  <a:pt x="5462540" y="282324"/>
                  <a:pt x="5475263" y="288010"/>
                  <a:pt x="5487704" y="294230"/>
                </a:cubicBezTo>
                <a:cubicBezTo>
                  <a:pt x="5545284" y="351812"/>
                  <a:pt x="5481592" y="295840"/>
                  <a:pt x="5590340" y="350214"/>
                </a:cubicBezTo>
                <a:cubicBezTo>
                  <a:pt x="5616584" y="363336"/>
                  <a:pt x="5641728" y="378977"/>
                  <a:pt x="5664985" y="396867"/>
                </a:cubicBezTo>
                <a:cubicBezTo>
                  <a:pt x="5682417" y="410276"/>
                  <a:pt x="5694278" y="430018"/>
                  <a:pt x="5711638" y="443520"/>
                </a:cubicBezTo>
                <a:cubicBezTo>
                  <a:pt x="5722617" y="452059"/>
                  <a:pt x="5737566" y="454204"/>
                  <a:pt x="5748961" y="462181"/>
                </a:cubicBezTo>
                <a:cubicBezTo>
                  <a:pt x="5799921" y="497853"/>
                  <a:pt x="5858071" y="526663"/>
                  <a:pt x="5898251" y="574149"/>
                </a:cubicBezTo>
                <a:cubicBezTo>
                  <a:pt x="5932463" y="614582"/>
                  <a:pt x="5960198" y="661540"/>
                  <a:pt x="6000887" y="695447"/>
                </a:cubicBezTo>
                <a:cubicBezTo>
                  <a:pt x="6019548" y="710998"/>
                  <a:pt x="6039694" y="724923"/>
                  <a:pt x="6056871" y="742100"/>
                </a:cubicBezTo>
                <a:cubicBezTo>
                  <a:pt x="6076641" y="761870"/>
                  <a:pt x="6128128" y="827216"/>
                  <a:pt x="6140847" y="854067"/>
                </a:cubicBezTo>
                <a:cubicBezTo>
                  <a:pt x="6159392" y="893217"/>
                  <a:pt x="6171799" y="934990"/>
                  <a:pt x="6187500" y="975365"/>
                </a:cubicBezTo>
                <a:cubicBezTo>
                  <a:pt x="6193571" y="990975"/>
                  <a:pt x="6206161" y="1022018"/>
                  <a:pt x="6206161" y="1022018"/>
                </a:cubicBezTo>
                <a:cubicBezTo>
                  <a:pt x="6227311" y="1148929"/>
                  <a:pt x="6200437" y="1012271"/>
                  <a:pt x="6234153" y="1124655"/>
                </a:cubicBezTo>
                <a:cubicBezTo>
                  <a:pt x="6238710" y="1139845"/>
                  <a:pt x="6236391" y="1157123"/>
                  <a:pt x="6243483" y="1171308"/>
                </a:cubicBezTo>
                <a:cubicBezTo>
                  <a:pt x="6255448" y="1195238"/>
                  <a:pt x="6274585" y="1214851"/>
                  <a:pt x="6290136" y="1236622"/>
                </a:cubicBezTo>
                <a:cubicBezTo>
                  <a:pt x="6296357" y="1264614"/>
                  <a:pt x="6300769" y="1293070"/>
                  <a:pt x="6308798" y="1320598"/>
                </a:cubicBezTo>
                <a:cubicBezTo>
                  <a:pt x="6322568" y="1367807"/>
                  <a:pt x="6355451" y="1460557"/>
                  <a:pt x="6355451" y="1460557"/>
                </a:cubicBezTo>
                <a:cubicBezTo>
                  <a:pt x="6352341" y="1731145"/>
                  <a:pt x="6352132" y="2001781"/>
                  <a:pt x="6346120" y="2272320"/>
                </a:cubicBezTo>
                <a:cubicBezTo>
                  <a:pt x="6345901" y="2282153"/>
                  <a:pt x="6338602" y="2290645"/>
                  <a:pt x="6336789" y="2300312"/>
                </a:cubicBezTo>
                <a:cubicBezTo>
                  <a:pt x="6329250" y="2340520"/>
                  <a:pt x="6325137" y="2381307"/>
                  <a:pt x="6318128" y="2421610"/>
                </a:cubicBezTo>
                <a:cubicBezTo>
                  <a:pt x="6312693" y="2452859"/>
                  <a:pt x="6308581" y="2484536"/>
                  <a:pt x="6299467" y="2514916"/>
                </a:cubicBezTo>
                <a:cubicBezTo>
                  <a:pt x="6270078" y="2612878"/>
                  <a:pt x="6276675" y="2582277"/>
                  <a:pt x="6243483" y="2636214"/>
                </a:cubicBezTo>
                <a:cubicBezTo>
                  <a:pt x="6224474" y="2667104"/>
                  <a:pt x="6208582" y="2700005"/>
                  <a:pt x="6187500" y="2729520"/>
                </a:cubicBezTo>
                <a:cubicBezTo>
                  <a:pt x="6143346" y="2791335"/>
                  <a:pt x="6067442" y="2875392"/>
                  <a:pt x="6010218" y="2925463"/>
                </a:cubicBezTo>
                <a:cubicBezTo>
                  <a:pt x="5968543" y="2961928"/>
                  <a:pt x="5921990" y="2992483"/>
                  <a:pt x="5879589" y="3028100"/>
                </a:cubicBezTo>
                <a:cubicBezTo>
                  <a:pt x="5844186" y="3057839"/>
                  <a:pt x="5809647" y="3088712"/>
                  <a:pt x="5776953" y="3121406"/>
                </a:cubicBezTo>
                <a:cubicBezTo>
                  <a:pt x="5765957" y="3132402"/>
                  <a:pt x="5760635" y="3148455"/>
                  <a:pt x="5748961" y="3158728"/>
                </a:cubicBezTo>
                <a:cubicBezTo>
                  <a:pt x="5682591" y="3217133"/>
                  <a:pt x="5615628" y="3275292"/>
                  <a:pt x="5543687" y="3326679"/>
                </a:cubicBezTo>
                <a:cubicBezTo>
                  <a:pt x="5521916" y="3342230"/>
                  <a:pt x="5501980" y="3360741"/>
                  <a:pt x="5478373" y="3373332"/>
                </a:cubicBezTo>
                <a:cubicBezTo>
                  <a:pt x="5236715" y="3502217"/>
                  <a:pt x="5592080" y="3280391"/>
                  <a:pt x="5319753" y="3447977"/>
                </a:cubicBezTo>
                <a:cubicBezTo>
                  <a:pt x="5254668" y="3488029"/>
                  <a:pt x="5308920" y="3463498"/>
                  <a:pt x="5254438" y="3494630"/>
                </a:cubicBezTo>
                <a:cubicBezTo>
                  <a:pt x="5210953" y="3519479"/>
                  <a:pt x="5225717" y="3509500"/>
                  <a:pt x="5179793" y="3522622"/>
                </a:cubicBezTo>
                <a:cubicBezTo>
                  <a:pt x="5157267" y="3529058"/>
                  <a:pt x="5138355" y="3538630"/>
                  <a:pt x="5114479" y="3541283"/>
                </a:cubicBezTo>
                <a:cubicBezTo>
                  <a:pt x="4993020" y="3554778"/>
                  <a:pt x="4749533" y="3557506"/>
                  <a:pt x="4666610" y="3559945"/>
                </a:cubicBezTo>
                <a:cubicBezTo>
                  <a:pt x="4584231" y="3587403"/>
                  <a:pt x="4670729" y="3561267"/>
                  <a:pt x="4479998" y="3578606"/>
                </a:cubicBezTo>
                <a:cubicBezTo>
                  <a:pt x="4464204" y="3580042"/>
                  <a:pt x="4449154" y="3586688"/>
                  <a:pt x="4433344" y="3587936"/>
                </a:cubicBezTo>
                <a:cubicBezTo>
                  <a:pt x="4330838" y="3596029"/>
                  <a:pt x="4125434" y="3606598"/>
                  <a:pt x="4125434" y="3606598"/>
                </a:cubicBezTo>
                <a:cubicBezTo>
                  <a:pt x="4100552" y="3609708"/>
                  <a:pt x="4075377" y="3611010"/>
                  <a:pt x="4050789" y="3615928"/>
                </a:cubicBezTo>
                <a:cubicBezTo>
                  <a:pt x="4013065" y="3623473"/>
                  <a:pt x="3976270" y="3635108"/>
                  <a:pt x="3938822" y="3643920"/>
                </a:cubicBezTo>
                <a:cubicBezTo>
                  <a:pt x="3923385" y="3647552"/>
                  <a:pt x="3907622" y="3649685"/>
                  <a:pt x="3892169" y="3653251"/>
                </a:cubicBezTo>
                <a:cubicBezTo>
                  <a:pt x="3867178" y="3659018"/>
                  <a:pt x="3842561" y="3666348"/>
                  <a:pt x="3817524" y="3671912"/>
                </a:cubicBezTo>
                <a:cubicBezTo>
                  <a:pt x="3786561" y="3678793"/>
                  <a:pt x="3754892" y="3682501"/>
                  <a:pt x="3724218" y="3690573"/>
                </a:cubicBezTo>
                <a:cubicBezTo>
                  <a:pt x="3515155" y="3745589"/>
                  <a:pt x="3728320" y="3700949"/>
                  <a:pt x="3593589" y="3727896"/>
                </a:cubicBezTo>
                <a:cubicBezTo>
                  <a:pt x="3565597" y="3740337"/>
                  <a:pt x="3539166" y="3757158"/>
                  <a:pt x="3509614" y="3765218"/>
                </a:cubicBezTo>
                <a:cubicBezTo>
                  <a:pt x="3347950" y="3809308"/>
                  <a:pt x="3018244" y="3776327"/>
                  <a:pt x="2931116" y="3774549"/>
                </a:cubicBezTo>
                <a:lnTo>
                  <a:pt x="2501908" y="3755887"/>
                </a:lnTo>
                <a:cubicBezTo>
                  <a:pt x="2479950" y="3754644"/>
                  <a:pt x="2457929" y="3751891"/>
                  <a:pt x="2436593" y="3746557"/>
                </a:cubicBezTo>
                <a:cubicBezTo>
                  <a:pt x="2371950" y="3730396"/>
                  <a:pt x="2276357" y="3696267"/>
                  <a:pt x="2212659" y="3671912"/>
                </a:cubicBezTo>
                <a:cubicBezTo>
                  <a:pt x="2140909" y="3644478"/>
                  <a:pt x="2067477" y="3620820"/>
                  <a:pt x="1998055" y="3587936"/>
                </a:cubicBezTo>
                <a:cubicBezTo>
                  <a:pt x="1938961" y="3559944"/>
                  <a:pt x="1882165" y="3526471"/>
                  <a:pt x="1820773" y="3503961"/>
                </a:cubicBezTo>
                <a:cubicBezTo>
                  <a:pt x="1367388" y="3337719"/>
                  <a:pt x="1688590" y="3470526"/>
                  <a:pt x="1419557" y="3336010"/>
                </a:cubicBezTo>
                <a:cubicBezTo>
                  <a:pt x="1398371" y="3325417"/>
                  <a:pt x="1374553" y="3320205"/>
                  <a:pt x="1354242" y="3308018"/>
                </a:cubicBezTo>
                <a:cubicBezTo>
                  <a:pt x="1265467" y="3254753"/>
                  <a:pt x="1170898" y="3208241"/>
                  <a:pt x="1092985" y="3140067"/>
                </a:cubicBezTo>
                <a:cubicBezTo>
                  <a:pt x="1043222" y="3096524"/>
                  <a:pt x="1000396" y="3043458"/>
                  <a:pt x="943695" y="3009438"/>
                </a:cubicBezTo>
                <a:cubicBezTo>
                  <a:pt x="928144" y="3000108"/>
                  <a:pt x="909866" y="2994271"/>
                  <a:pt x="897042" y="2981447"/>
                </a:cubicBezTo>
                <a:cubicBezTo>
                  <a:pt x="859590" y="2943995"/>
                  <a:pt x="830266" y="2899127"/>
                  <a:pt x="794406" y="2860149"/>
                </a:cubicBezTo>
                <a:cubicBezTo>
                  <a:pt x="758670" y="2821305"/>
                  <a:pt x="718299" y="2786910"/>
                  <a:pt x="682438" y="2748181"/>
                </a:cubicBezTo>
                <a:cubicBezTo>
                  <a:pt x="640494" y="2702882"/>
                  <a:pt x="603660" y="2652980"/>
                  <a:pt x="561140" y="2608222"/>
                </a:cubicBezTo>
                <a:cubicBezTo>
                  <a:pt x="455555" y="2497080"/>
                  <a:pt x="453880" y="2609088"/>
                  <a:pt x="337206" y="2356296"/>
                </a:cubicBezTo>
                <a:cubicBezTo>
                  <a:pt x="318545" y="2315863"/>
                  <a:pt x="299308" y="2275691"/>
                  <a:pt x="281222" y="2234998"/>
                </a:cubicBezTo>
                <a:cubicBezTo>
                  <a:pt x="262633" y="2193172"/>
                  <a:pt x="233370" y="2107096"/>
                  <a:pt x="225238" y="2076377"/>
                </a:cubicBezTo>
                <a:cubicBezTo>
                  <a:pt x="150346" y="1793453"/>
                  <a:pt x="210499" y="1950891"/>
                  <a:pt x="159924" y="1824451"/>
                </a:cubicBezTo>
                <a:cubicBezTo>
                  <a:pt x="166144" y="1622288"/>
                  <a:pt x="166124" y="1419836"/>
                  <a:pt x="178585" y="1217961"/>
                </a:cubicBezTo>
                <a:cubicBezTo>
                  <a:pt x="181704" y="1167427"/>
                  <a:pt x="190566" y="1116703"/>
                  <a:pt x="206577" y="1068671"/>
                </a:cubicBezTo>
                <a:cubicBezTo>
                  <a:pt x="215856" y="1040835"/>
                  <a:pt x="238672" y="1019502"/>
                  <a:pt x="253230" y="994026"/>
                </a:cubicBezTo>
                <a:cubicBezTo>
                  <a:pt x="300103" y="911999"/>
                  <a:pt x="266928" y="930722"/>
                  <a:pt x="365198" y="844736"/>
                </a:cubicBezTo>
                <a:cubicBezTo>
                  <a:pt x="433560" y="784919"/>
                  <a:pt x="507132" y="731287"/>
                  <a:pt x="579802" y="676785"/>
                </a:cubicBezTo>
                <a:cubicBezTo>
                  <a:pt x="619143" y="647279"/>
                  <a:pt x="655055" y="610077"/>
                  <a:pt x="701100" y="592810"/>
                </a:cubicBezTo>
                <a:cubicBezTo>
                  <a:pt x="725981" y="583479"/>
                  <a:pt x="751976" y="576702"/>
                  <a:pt x="775744" y="564818"/>
                </a:cubicBezTo>
                <a:cubicBezTo>
                  <a:pt x="820600" y="542390"/>
                  <a:pt x="860717" y="510925"/>
                  <a:pt x="906373" y="490173"/>
                </a:cubicBezTo>
                <a:cubicBezTo>
                  <a:pt x="1015629" y="440512"/>
                  <a:pt x="1239583" y="373589"/>
                  <a:pt x="1344912" y="359545"/>
                </a:cubicBezTo>
                <a:cubicBezTo>
                  <a:pt x="1391565" y="353324"/>
                  <a:pt x="1438652" y="349771"/>
                  <a:pt x="1484871" y="340883"/>
                </a:cubicBezTo>
                <a:cubicBezTo>
                  <a:pt x="1600489" y="318649"/>
                  <a:pt x="1714653" y="289328"/>
                  <a:pt x="1830104" y="266238"/>
                </a:cubicBezTo>
                <a:cubicBezTo>
                  <a:pt x="1938912" y="244477"/>
                  <a:pt x="1948912" y="244015"/>
                  <a:pt x="2072700" y="210255"/>
                </a:cubicBezTo>
                <a:cubicBezTo>
                  <a:pt x="2211725" y="172339"/>
                  <a:pt x="2233595" y="155279"/>
                  <a:pt x="2371279" y="135610"/>
                </a:cubicBezTo>
                <a:cubicBezTo>
                  <a:pt x="2433165" y="126769"/>
                  <a:pt x="2495860" y="124703"/>
                  <a:pt x="2557891" y="116949"/>
                </a:cubicBezTo>
                <a:cubicBezTo>
                  <a:pt x="2770180" y="90413"/>
                  <a:pt x="2568809" y="99799"/>
                  <a:pt x="2856471" y="70296"/>
                </a:cubicBezTo>
                <a:cubicBezTo>
                  <a:pt x="2915338" y="64258"/>
                  <a:pt x="2974636" y="63612"/>
                  <a:pt x="3033753" y="60965"/>
                </a:cubicBezTo>
                <a:lnTo>
                  <a:pt x="3481622" y="42304"/>
                </a:lnTo>
                <a:lnTo>
                  <a:pt x="4591965" y="51634"/>
                </a:lnTo>
                <a:cubicBezTo>
                  <a:pt x="4697874" y="53711"/>
                  <a:pt x="4803392" y="65336"/>
                  <a:pt x="4909206" y="70296"/>
                </a:cubicBezTo>
                <a:lnTo>
                  <a:pt x="5506365" y="98287"/>
                </a:lnTo>
                <a:cubicBezTo>
                  <a:pt x="5553018" y="113838"/>
                  <a:pt x="5601386" y="124967"/>
                  <a:pt x="5646324" y="144940"/>
                </a:cubicBezTo>
                <a:cubicBezTo>
                  <a:pt x="5674316" y="157381"/>
                  <a:pt x="5701341" y="172277"/>
                  <a:pt x="5730300" y="182263"/>
                </a:cubicBezTo>
                <a:cubicBezTo>
                  <a:pt x="5898500" y="240263"/>
                  <a:pt x="5878126" y="211764"/>
                  <a:pt x="5991557" y="275569"/>
                </a:cubicBezTo>
                <a:cubicBezTo>
                  <a:pt x="6068399" y="318792"/>
                  <a:pt x="6157445" y="385474"/>
                  <a:pt x="6215491" y="443520"/>
                </a:cubicBezTo>
                <a:cubicBezTo>
                  <a:pt x="6249703" y="477732"/>
                  <a:pt x="6285582" y="510356"/>
                  <a:pt x="6318128" y="546157"/>
                </a:cubicBezTo>
                <a:cubicBezTo>
                  <a:pt x="6347863" y="578865"/>
                  <a:pt x="6374965" y="613900"/>
                  <a:pt x="6402104" y="648793"/>
                </a:cubicBezTo>
                <a:cubicBezTo>
                  <a:pt x="6440294" y="697894"/>
                  <a:pt x="6490969" y="740328"/>
                  <a:pt x="6514071" y="798083"/>
                </a:cubicBezTo>
                <a:cubicBezTo>
                  <a:pt x="6526512" y="829185"/>
                  <a:pt x="6540327" y="859772"/>
                  <a:pt x="6551393" y="891389"/>
                </a:cubicBezTo>
                <a:cubicBezTo>
                  <a:pt x="6562120" y="922038"/>
                  <a:pt x="6566827" y="954751"/>
                  <a:pt x="6579385" y="984696"/>
                </a:cubicBezTo>
                <a:cubicBezTo>
                  <a:pt x="6607361" y="1051409"/>
                  <a:pt x="6655145" y="1110457"/>
                  <a:pt x="6672691" y="1180638"/>
                </a:cubicBezTo>
                <a:cubicBezTo>
                  <a:pt x="6690851" y="1253278"/>
                  <a:pt x="6677640" y="1205909"/>
                  <a:pt x="6719344" y="1320598"/>
                </a:cubicBezTo>
                <a:cubicBezTo>
                  <a:pt x="6727621" y="1395088"/>
                  <a:pt x="6740003" y="1493291"/>
                  <a:pt x="6738006" y="1563193"/>
                </a:cubicBezTo>
                <a:cubicBezTo>
                  <a:pt x="6733291" y="1728231"/>
                  <a:pt x="6723502" y="1893163"/>
                  <a:pt x="6710014" y="2057716"/>
                </a:cubicBezTo>
                <a:cubicBezTo>
                  <a:pt x="6707919" y="2083278"/>
                  <a:pt x="6699170" y="2107934"/>
                  <a:pt x="6691353" y="2132361"/>
                </a:cubicBezTo>
                <a:cubicBezTo>
                  <a:pt x="6653409" y="2250935"/>
                  <a:pt x="6630713" y="2315459"/>
                  <a:pt x="6570055" y="2421610"/>
                </a:cubicBezTo>
                <a:cubicBezTo>
                  <a:pt x="6525599" y="2499407"/>
                  <a:pt x="6435513" y="2630798"/>
                  <a:pt x="6374112" y="2692198"/>
                </a:cubicBezTo>
                <a:cubicBezTo>
                  <a:pt x="6346120" y="2720190"/>
                  <a:pt x="6317211" y="2747293"/>
                  <a:pt x="6290136" y="2776173"/>
                </a:cubicBezTo>
                <a:cubicBezTo>
                  <a:pt x="6270524" y="2797092"/>
                  <a:pt x="6256700" y="2823771"/>
                  <a:pt x="6234153" y="2841487"/>
                </a:cubicBezTo>
                <a:cubicBezTo>
                  <a:pt x="6212279" y="2858674"/>
                  <a:pt x="6183362" y="2864497"/>
                  <a:pt x="6159508" y="2878810"/>
                </a:cubicBezTo>
                <a:cubicBezTo>
                  <a:pt x="6105506" y="2911211"/>
                  <a:pt x="6060632" y="2961532"/>
                  <a:pt x="6000887" y="2981447"/>
                </a:cubicBezTo>
                <a:cubicBezTo>
                  <a:pt x="5926956" y="3006091"/>
                  <a:pt x="5941863" y="2997301"/>
                  <a:pt x="5860928" y="3046761"/>
                </a:cubicBezTo>
                <a:cubicBezTo>
                  <a:pt x="5832222" y="3064304"/>
                  <a:pt x="5803063" y="3081531"/>
                  <a:pt x="5776953" y="3102745"/>
                </a:cubicBezTo>
                <a:cubicBezTo>
                  <a:pt x="5753057" y="3122161"/>
                  <a:pt x="5737049" y="3150673"/>
                  <a:pt x="5711638" y="3168059"/>
                </a:cubicBezTo>
                <a:cubicBezTo>
                  <a:pt x="5566125" y="3267619"/>
                  <a:pt x="5644968" y="3189207"/>
                  <a:pt x="5525026" y="3252034"/>
                </a:cubicBezTo>
                <a:cubicBezTo>
                  <a:pt x="5345329" y="3346161"/>
                  <a:pt x="5458182" y="3293227"/>
                  <a:pt x="5357075" y="3364002"/>
                </a:cubicBezTo>
                <a:cubicBezTo>
                  <a:pt x="5342218" y="3374402"/>
                  <a:pt x="5325801" y="3382381"/>
                  <a:pt x="5310422" y="3391993"/>
                </a:cubicBezTo>
                <a:cubicBezTo>
                  <a:pt x="5300912" y="3397936"/>
                  <a:pt x="5291940" y="3404711"/>
                  <a:pt x="5282430" y="3410655"/>
                </a:cubicBezTo>
                <a:cubicBezTo>
                  <a:pt x="5242521" y="3435599"/>
                  <a:pt x="5223657" y="3446393"/>
                  <a:pt x="5179793" y="3466638"/>
                </a:cubicBezTo>
                <a:cubicBezTo>
                  <a:pt x="5158024" y="3476685"/>
                  <a:pt x="5085773" y="3508477"/>
                  <a:pt x="5058495" y="3513291"/>
                </a:cubicBezTo>
                <a:cubicBezTo>
                  <a:pt x="5024665" y="3519261"/>
                  <a:pt x="4990208" y="3522124"/>
                  <a:pt x="4955859" y="3522622"/>
                </a:cubicBezTo>
                <a:lnTo>
                  <a:pt x="3770871" y="3531953"/>
                </a:lnTo>
                <a:cubicBezTo>
                  <a:pt x="3670930" y="3565264"/>
                  <a:pt x="3781979" y="3531953"/>
                  <a:pt x="3528275" y="3531953"/>
                </a:cubicBezTo>
                <a:cubicBezTo>
                  <a:pt x="3469099" y="3531953"/>
                  <a:pt x="3410087" y="3538173"/>
                  <a:pt x="3350993" y="3541283"/>
                </a:cubicBezTo>
                <a:cubicBezTo>
                  <a:pt x="3317215" y="3518764"/>
                  <a:pt x="3328017" y="3532652"/>
                  <a:pt x="3313671" y="3503961"/>
                </a:cubicBezTo>
              </a:path>
            </a:pathLst>
          </a:custGeom>
          <a:noFill/>
          <a:ln w="12600">
            <a:solidFill>
              <a:srgbClr val="4d7bc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472" name="フリーフォーム 8"/>
          <p:cNvSpPr/>
          <p:nvPr/>
        </p:nvSpPr>
        <p:spPr>
          <a:xfrm>
            <a:off x="2957400" y="4049640"/>
            <a:ext cx="1324080" cy="720720"/>
          </a:xfrm>
          <a:custGeom>
            <a:avLst/>
            <a:gdLst/>
            <a:ahLst/>
            <a:rect l="l" t="t" r="r" b="b"/>
            <a:pathLst>
              <a:path w="1324183" h="721517">
                <a:moveTo>
                  <a:pt x="503853" y="718457"/>
                </a:moveTo>
                <a:cubicBezTo>
                  <a:pt x="426098" y="715347"/>
                  <a:pt x="347412" y="721517"/>
                  <a:pt x="270588" y="709126"/>
                </a:cubicBezTo>
                <a:cubicBezTo>
                  <a:pt x="248446" y="705555"/>
                  <a:pt x="232308" y="685573"/>
                  <a:pt x="214604" y="671804"/>
                </a:cubicBezTo>
                <a:cubicBezTo>
                  <a:pt x="192329" y="654479"/>
                  <a:pt x="164974" y="616764"/>
                  <a:pt x="149290" y="597159"/>
                </a:cubicBezTo>
                <a:cubicBezTo>
                  <a:pt x="141939" y="567756"/>
                  <a:pt x="140666" y="558610"/>
                  <a:pt x="130629" y="531845"/>
                </a:cubicBezTo>
                <a:cubicBezTo>
                  <a:pt x="104276" y="461571"/>
                  <a:pt x="118271" y="510410"/>
                  <a:pt x="102637" y="447869"/>
                </a:cubicBezTo>
                <a:cubicBezTo>
                  <a:pt x="105747" y="388775"/>
                  <a:pt x="104627" y="329306"/>
                  <a:pt x="111967" y="270587"/>
                </a:cubicBezTo>
                <a:cubicBezTo>
                  <a:pt x="114044" y="253967"/>
                  <a:pt x="120778" y="237480"/>
                  <a:pt x="130629" y="223934"/>
                </a:cubicBezTo>
                <a:cubicBezTo>
                  <a:pt x="146151" y="202591"/>
                  <a:pt x="166004" y="184437"/>
                  <a:pt x="186612" y="167951"/>
                </a:cubicBezTo>
                <a:cubicBezTo>
                  <a:pt x="206223" y="152263"/>
                  <a:pt x="260669" y="137045"/>
                  <a:pt x="279918" y="130628"/>
                </a:cubicBezTo>
                <a:cubicBezTo>
                  <a:pt x="357813" y="134169"/>
                  <a:pt x="507038" y="138366"/>
                  <a:pt x="597159" y="149290"/>
                </a:cubicBezTo>
                <a:cubicBezTo>
                  <a:pt x="662657" y="157229"/>
                  <a:pt x="727788" y="167951"/>
                  <a:pt x="793102" y="177281"/>
                </a:cubicBezTo>
                <a:cubicBezTo>
                  <a:pt x="839755" y="199053"/>
                  <a:pt x="887013" y="219572"/>
                  <a:pt x="933061" y="242596"/>
                </a:cubicBezTo>
                <a:cubicBezTo>
                  <a:pt x="949282" y="250706"/>
                  <a:pt x="963493" y="262477"/>
                  <a:pt x="979714" y="270587"/>
                </a:cubicBezTo>
                <a:cubicBezTo>
                  <a:pt x="1000900" y="281180"/>
                  <a:pt x="1024234" y="287236"/>
                  <a:pt x="1045029" y="298579"/>
                </a:cubicBezTo>
                <a:cubicBezTo>
                  <a:pt x="1058681" y="306026"/>
                  <a:pt x="1070544" y="316451"/>
                  <a:pt x="1082351" y="326571"/>
                </a:cubicBezTo>
                <a:cubicBezTo>
                  <a:pt x="1092370" y="335159"/>
                  <a:pt x="1098285" y="349204"/>
                  <a:pt x="1110343" y="354563"/>
                </a:cubicBezTo>
                <a:cubicBezTo>
                  <a:pt x="1127631" y="362247"/>
                  <a:pt x="1147666" y="360784"/>
                  <a:pt x="1166327" y="363894"/>
                </a:cubicBezTo>
                <a:cubicBezTo>
                  <a:pt x="1181878" y="382555"/>
                  <a:pt x="1197805" y="400909"/>
                  <a:pt x="1212980" y="419877"/>
                </a:cubicBezTo>
                <a:cubicBezTo>
                  <a:pt x="1222695" y="432020"/>
                  <a:pt x="1239344" y="441734"/>
                  <a:pt x="1240972" y="457200"/>
                </a:cubicBezTo>
                <a:cubicBezTo>
                  <a:pt x="1254949" y="589988"/>
                  <a:pt x="1245681" y="572430"/>
                  <a:pt x="1194318" y="653143"/>
                </a:cubicBezTo>
                <a:cubicBezTo>
                  <a:pt x="1157003" y="711782"/>
                  <a:pt x="1183615" y="688271"/>
                  <a:pt x="1138335" y="718457"/>
                </a:cubicBezTo>
                <a:lnTo>
                  <a:pt x="326572" y="709126"/>
                </a:lnTo>
                <a:cubicBezTo>
                  <a:pt x="304584" y="708658"/>
                  <a:pt x="282778" y="704327"/>
                  <a:pt x="261257" y="699796"/>
                </a:cubicBezTo>
                <a:cubicBezTo>
                  <a:pt x="172337" y="681076"/>
                  <a:pt x="164245" y="676789"/>
                  <a:pt x="93306" y="653143"/>
                </a:cubicBezTo>
                <a:cubicBezTo>
                  <a:pt x="38363" y="598197"/>
                  <a:pt x="133018" y="687293"/>
                  <a:pt x="18661" y="615820"/>
                </a:cubicBezTo>
                <a:cubicBezTo>
                  <a:pt x="9152" y="609877"/>
                  <a:pt x="6220" y="597159"/>
                  <a:pt x="0" y="587828"/>
                </a:cubicBezTo>
                <a:cubicBezTo>
                  <a:pt x="6220" y="541175"/>
                  <a:pt x="10923" y="494294"/>
                  <a:pt x="18661" y="447869"/>
                </a:cubicBezTo>
                <a:cubicBezTo>
                  <a:pt x="20278" y="438167"/>
                  <a:pt x="21515" y="427279"/>
                  <a:pt x="27992" y="419877"/>
                </a:cubicBezTo>
                <a:cubicBezTo>
                  <a:pt x="43988" y="401596"/>
                  <a:pt x="67401" y="390982"/>
                  <a:pt x="83976" y="373224"/>
                </a:cubicBezTo>
                <a:cubicBezTo>
                  <a:pt x="189305" y="260371"/>
                  <a:pt x="148687" y="246874"/>
                  <a:pt x="317241" y="149290"/>
                </a:cubicBezTo>
                <a:cubicBezTo>
                  <a:pt x="376335" y="115078"/>
                  <a:pt x="427989" y="62007"/>
                  <a:pt x="494523" y="46653"/>
                </a:cubicBezTo>
                <a:cubicBezTo>
                  <a:pt x="649703" y="10842"/>
                  <a:pt x="574994" y="26084"/>
                  <a:pt x="718457" y="0"/>
                </a:cubicBezTo>
                <a:cubicBezTo>
                  <a:pt x="808653" y="9331"/>
                  <a:pt x="899068" y="16745"/>
                  <a:pt x="989045" y="27992"/>
                </a:cubicBezTo>
                <a:cubicBezTo>
                  <a:pt x="998804" y="29212"/>
                  <a:pt x="1008439" y="32546"/>
                  <a:pt x="1017037" y="37322"/>
                </a:cubicBezTo>
                <a:cubicBezTo>
                  <a:pt x="1036643" y="48214"/>
                  <a:pt x="1054934" y="61382"/>
                  <a:pt x="1073020" y="74645"/>
                </a:cubicBezTo>
                <a:cubicBezTo>
                  <a:pt x="1101617" y="95616"/>
                  <a:pt x="1129004" y="118188"/>
                  <a:pt x="1156996" y="139959"/>
                </a:cubicBezTo>
                <a:cubicBezTo>
                  <a:pt x="1226878" y="314667"/>
                  <a:pt x="1154712" y="157699"/>
                  <a:pt x="1250302" y="307910"/>
                </a:cubicBezTo>
                <a:cubicBezTo>
                  <a:pt x="1255582" y="316208"/>
                  <a:pt x="1255234" y="327105"/>
                  <a:pt x="1259633" y="335902"/>
                </a:cubicBezTo>
                <a:cubicBezTo>
                  <a:pt x="1270847" y="358330"/>
                  <a:pt x="1284514" y="379445"/>
                  <a:pt x="1296955" y="401216"/>
                </a:cubicBezTo>
                <a:cubicBezTo>
                  <a:pt x="1310688" y="469879"/>
                  <a:pt x="1324183" y="506248"/>
                  <a:pt x="1278294" y="587828"/>
                </a:cubicBezTo>
                <a:cubicBezTo>
                  <a:pt x="1269019" y="604317"/>
                  <a:pt x="1240971" y="594049"/>
                  <a:pt x="1222310" y="597159"/>
                </a:cubicBezTo>
                <a:cubicBezTo>
                  <a:pt x="981202" y="717715"/>
                  <a:pt x="1174411" y="631851"/>
                  <a:pt x="541176" y="615820"/>
                </a:cubicBezTo>
                <a:cubicBezTo>
                  <a:pt x="503736" y="614872"/>
                  <a:pt x="466550" y="609362"/>
                  <a:pt x="429208" y="606490"/>
                </a:cubicBezTo>
                <a:lnTo>
                  <a:pt x="298580" y="597159"/>
                </a:lnTo>
                <a:cubicBezTo>
                  <a:pt x="273291" y="592101"/>
                  <a:pt x="242240" y="592048"/>
                  <a:pt x="223935" y="569167"/>
                </a:cubicBezTo>
                <a:cubicBezTo>
                  <a:pt x="213621" y="556274"/>
                  <a:pt x="214604" y="545303"/>
                  <a:pt x="214604" y="531845"/>
                </a:cubicBezTo>
              </a:path>
            </a:pathLst>
          </a:custGeom>
          <a:noFill/>
          <a:ln w="12600">
            <a:solidFill>
              <a:srgbClr val="00b0f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473" name="フリーフォーム 9"/>
          <p:cNvSpPr/>
          <p:nvPr/>
        </p:nvSpPr>
        <p:spPr>
          <a:xfrm>
            <a:off x="3537000" y="4665600"/>
            <a:ext cx="709560" cy="457200"/>
          </a:xfrm>
          <a:custGeom>
            <a:avLst/>
            <a:gdLst/>
            <a:ahLst/>
            <a:rect l="l" t="t" r="r" b="b"/>
            <a:pathLst>
              <a:path w="709848" h="457200">
                <a:moveTo>
                  <a:pt x="158620" y="457200"/>
                </a:moveTo>
                <a:cubicBezTo>
                  <a:pt x="122517" y="421096"/>
                  <a:pt x="87257" y="386930"/>
                  <a:pt x="55984" y="345233"/>
                </a:cubicBezTo>
                <a:cubicBezTo>
                  <a:pt x="50083" y="337365"/>
                  <a:pt x="49763" y="326572"/>
                  <a:pt x="46653" y="317241"/>
                </a:cubicBezTo>
                <a:cubicBezTo>
                  <a:pt x="52873" y="283029"/>
                  <a:pt x="53890" y="247447"/>
                  <a:pt x="65314" y="214604"/>
                </a:cubicBezTo>
                <a:cubicBezTo>
                  <a:pt x="79022" y="175192"/>
                  <a:pt x="87916" y="127674"/>
                  <a:pt x="121298" y="102637"/>
                </a:cubicBezTo>
                <a:cubicBezTo>
                  <a:pt x="133739" y="93306"/>
                  <a:pt x="146813" y="84765"/>
                  <a:pt x="158620" y="74645"/>
                </a:cubicBezTo>
                <a:cubicBezTo>
                  <a:pt x="168639" y="66057"/>
                  <a:pt x="175874" y="54323"/>
                  <a:pt x="186612" y="46653"/>
                </a:cubicBezTo>
                <a:cubicBezTo>
                  <a:pt x="197931" y="38568"/>
                  <a:pt x="211224" y="33641"/>
                  <a:pt x="223935" y="27992"/>
                </a:cubicBezTo>
                <a:cubicBezTo>
                  <a:pt x="257404" y="13117"/>
                  <a:pt x="267803" y="10259"/>
                  <a:pt x="298580" y="0"/>
                </a:cubicBezTo>
                <a:cubicBezTo>
                  <a:pt x="351453" y="3110"/>
                  <a:pt x="404434" y="4743"/>
                  <a:pt x="457200" y="9331"/>
                </a:cubicBezTo>
                <a:cubicBezTo>
                  <a:pt x="476048" y="10970"/>
                  <a:pt x="495470" y="12018"/>
                  <a:pt x="513184" y="18661"/>
                </a:cubicBezTo>
                <a:cubicBezTo>
                  <a:pt x="545743" y="30871"/>
                  <a:pt x="576672" y="47423"/>
                  <a:pt x="606490" y="65314"/>
                </a:cubicBezTo>
                <a:cubicBezTo>
                  <a:pt x="662759" y="99076"/>
                  <a:pt x="638053" y="83246"/>
                  <a:pt x="681135" y="111967"/>
                </a:cubicBezTo>
                <a:cubicBezTo>
                  <a:pt x="684245" y="121298"/>
                  <a:pt x="687763" y="130502"/>
                  <a:pt x="690465" y="139959"/>
                </a:cubicBezTo>
                <a:cubicBezTo>
                  <a:pt x="709848" y="207802"/>
                  <a:pt x="703722" y="206266"/>
                  <a:pt x="681135" y="307910"/>
                </a:cubicBezTo>
                <a:cubicBezTo>
                  <a:pt x="678163" y="321284"/>
                  <a:pt x="645504" y="376432"/>
                  <a:pt x="634482" y="382555"/>
                </a:cubicBezTo>
                <a:cubicBezTo>
                  <a:pt x="617944" y="391743"/>
                  <a:pt x="597159" y="388776"/>
                  <a:pt x="578498" y="391886"/>
                </a:cubicBezTo>
                <a:cubicBezTo>
                  <a:pt x="475861" y="388776"/>
                  <a:pt x="373137" y="387814"/>
                  <a:pt x="270588" y="382555"/>
                </a:cubicBezTo>
                <a:cubicBezTo>
                  <a:pt x="234927" y="380726"/>
                  <a:pt x="210609" y="371300"/>
                  <a:pt x="177282" y="363894"/>
                </a:cubicBezTo>
                <a:cubicBezTo>
                  <a:pt x="161801" y="360454"/>
                  <a:pt x="146014" y="358409"/>
                  <a:pt x="130629" y="354563"/>
                </a:cubicBezTo>
                <a:cubicBezTo>
                  <a:pt x="103168" y="347698"/>
                  <a:pt x="92022" y="339926"/>
                  <a:pt x="65314" y="326572"/>
                </a:cubicBezTo>
                <a:cubicBezTo>
                  <a:pt x="59094" y="320351"/>
                  <a:pt x="53522" y="313406"/>
                  <a:pt x="46653" y="307910"/>
                </a:cubicBezTo>
                <a:cubicBezTo>
                  <a:pt x="37896" y="300905"/>
                  <a:pt x="24604" y="298758"/>
                  <a:pt x="18661" y="289249"/>
                </a:cubicBezTo>
                <a:cubicBezTo>
                  <a:pt x="8236" y="272568"/>
                  <a:pt x="0" y="233265"/>
                  <a:pt x="0" y="233265"/>
                </a:cubicBezTo>
                <a:cubicBezTo>
                  <a:pt x="2019" y="225191"/>
                  <a:pt x="12714" y="178358"/>
                  <a:pt x="18661" y="167951"/>
                </a:cubicBezTo>
                <a:cubicBezTo>
                  <a:pt x="30470" y="147285"/>
                  <a:pt x="65910" y="106855"/>
                  <a:pt x="83976" y="93306"/>
                </a:cubicBezTo>
                <a:cubicBezTo>
                  <a:pt x="95103" y="84961"/>
                  <a:pt x="108384" y="79811"/>
                  <a:pt x="121298" y="74645"/>
                </a:cubicBezTo>
                <a:cubicBezTo>
                  <a:pt x="168649" y="55705"/>
                  <a:pt x="177083" y="56024"/>
                  <a:pt x="223935" y="46653"/>
                </a:cubicBezTo>
                <a:cubicBezTo>
                  <a:pt x="329682" y="49763"/>
                  <a:pt x="435680" y="48072"/>
                  <a:pt x="541176" y="55984"/>
                </a:cubicBezTo>
                <a:cubicBezTo>
                  <a:pt x="560791" y="57455"/>
                  <a:pt x="580479" y="64220"/>
                  <a:pt x="597159" y="74645"/>
                </a:cubicBezTo>
                <a:cubicBezTo>
                  <a:pt x="606668" y="80588"/>
                  <a:pt x="610503" y="92763"/>
                  <a:pt x="615820" y="102637"/>
                </a:cubicBezTo>
                <a:cubicBezTo>
                  <a:pt x="632306" y="133254"/>
                  <a:pt x="662474" y="195943"/>
                  <a:pt x="662474" y="195943"/>
                </a:cubicBezTo>
                <a:cubicBezTo>
                  <a:pt x="659364" y="233265"/>
                  <a:pt x="662226" y="271577"/>
                  <a:pt x="653143" y="307910"/>
                </a:cubicBezTo>
                <a:cubicBezTo>
                  <a:pt x="645357" y="339053"/>
                  <a:pt x="602233" y="361358"/>
                  <a:pt x="578498" y="373225"/>
                </a:cubicBezTo>
                <a:cubicBezTo>
                  <a:pt x="571881" y="376533"/>
                  <a:pt x="507528" y="405583"/>
                  <a:pt x="485192" y="410547"/>
                </a:cubicBezTo>
                <a:cubicBezTo>
                  <a:pt x="461879" y="415728"/>
                  <a:pt x="384740" y="426230"/>
                  <a:pt x="363894" y="429208"/>
                </a:cubicBezTo>
                <a:lnTo>
                  <a:pt x="46653" y="410547"/>
                </a:lnTo>
              </a:path>
            </a:pathLst>
          </a:custGeom>
          <a:noFill/>
          <a:ln w="12600">
            <a:solidFill>
              <a:srgbClr val="acc1e8"/>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474" name="フリーフォーム 10"/>
          <p:cNvSpPr/>
          <p:nvPr/>
        </p:nvSpPr>
        <p:spPr>
          <a:xfrm>
            <a:off x="4130640" y="4879800"/>
            <a:ext cx="441360" cy="317520"/>
          </a:xfrm>
          <a:custGeom>
            <a:avLst/>
            <a:gdLst/>
            <a:ahLst/>
            <a:rect l="l" t="t" r="r" b="b"/>
            <a:pathLst>
              <a:path w="440762" h="317241">
                <a:moveTo>
                  <a:pt x="263480" y="298580"/>
                </a:moveTo>
                <a:cubicBezTo>
                  <a:pt x="207954" y="317088"/>
                  <a:pt x="214846" y="317241"/>
                  <a:pt x="123521" y="317241"/>
                </a:cubicBezTo>
                <a:cubicBezTo>
                  <a:pt x="104603" y="317241"/>
                  <a:pt x="86199" y="311020"/>
                  <a:pt x="67538" y="307910"/>
                </a:cubicBezTo>
                <a:cubicBezTo>
                  <a:pt x="61317" y="298580"/>
                  <a:pt x="55881" y="288676"/>
                  <a:pt x="48876" y="279919"/>
                </a:cubicBezTo>
                <a:cubicBezTo>
                  <a:pt x="43380" y="273050"/>
                  <a:pt x="34580" y="268895"/>
                  <a:pt x="30215" y="261257"/>
                </a:cubicBezTo>
                <a:cubicBezTo>
                  <a:pt x="14600" y="233930"/>
                  <a:pt x="9638" y="206940"/>
                  <a:pt x="2223" y="177282"/>
                </a:cubicBezTo>
                <a:cubicBezTo>
                  <a:pt x="5333" y="143070"/>
                  <a:pt x="0" y="106997"/>
                  <a:pt x="11554" y="74645"/>
                </a:cubicBezTo>
                <a:cubicBezTo>
                  <a:pt x="16784" y="60000"/>
                  <a:pt x="34756" y="53170"/>
                  <a:pt x="48876" y="46653"/>
                </a:cubicBezTo>
                <a:cubicBezTo>
                  <a:pt x="75666" y="34288"/>
                  <a:pt x="132852" y="18661"/>
                  <a:pt x="132852" y="18661"/>
                </a:cubicBezTo>
                <a:cubicBezTo>
                  <a:pt x="198166" y="21771"/>
                  <a:pt x="263872" y="20201"/>
                  <a:pt x="328795" y="27992"/>
                </a:cubicBezTo>
                <a:cubicBezTo>
                  <a:pt x="342605" y="29649"/>
                  <a:pt x="356282" y="36818"/>
                  <a:pt x="366117" y="46653"/>
                </a:cubicBezTo>
                <a:cubicBezTo>
                  <a:pt x="373072" y="53608"/>
                  <a:pt x="370568" y="66105"/>
                  <a:pt x="375448" y="74645"/>
                </a:cubicBezTo>
                <a:cubicBezTo>
                  <a:pt x="383164" y="88147"/>
                  <a:pt x="394109" y="99527"/>
                  <a:pt x="403440" y="111968"/>
                </a:cubicBezTo>
                <a:cubicBezTo>
                  <a:pt x="419136" y="190453"/>
                  <a:pt x="418043" y="163094"/>
                  <a:pt x="403440" y="279919"/>
                </a:cubicBezTo>
                <a:cubicBezTo>
                  <a:pt x="402220" y="289678"/>
                  <a:pt x="401064" y="300956"/>
                  <a:pt x="394109" y="307910"/>
                </a:cubicBezTo>
                <a:cubicBezTo>
                  <a:pt x="387154" y="314865"/>
                  <a:pt x="375448" y="314131"/>
                  <a:pt x="366117" y="317241"/>
                </a:cubicBezTo>
                <a:cubicBezTo>
                  <a:pt x="303913" y="314131"/>
                  <a:pt x="241572" y="313082"/>
                  <a:pt x="179505" y="307910"/>
                </a:cubicBezTo>
                <a:cubicBezTo>
                  <a:pt x="166725" y="306845"/>
                  <a:pt x="154757" y="301095"/>
                  <a:pt x="142182" y="298580"/>
                </a:cubicBezTo>
                <a:cubicBezTo>
                  <a:pt x="123631" y="294870"/>
                  <a:pt x="104860" y="292359"/>
                  <a:pt x="86199" y="289249"/>
                </a:cubicBezTo>
                <a:cubicBezTo>
                  <a:pt x="70648" y="279918"/>
                  <a:pt x="54925" y="270869"/>
                  <a:pt x="39546" y="261257"/>
                </a:cubicBezTo>
                <a:cubicBezTo>
                  <a:pt x="30037" y="255314"/>
                  <a:pt x="12414" y="253777"/>
                  <a:pt x="11554" y="242596"/>
                </a:cubicBezTo>
                <a:cubicBezTo>
                  <a:pt x="8887" y="207925"/>
                  <a:pt x="22929" y="173960"/>
                  <a:pt x="30215" y="139959"/>
                </a:cubicBezTo>
                <a:cubicBezTo>
                  <a:pt x="33524" y="124519"/>
                  <a:pt x="49886" y="84353"/>
                  <a:pt x="58207" y="74645"/>
                </a:cubicBezTo>
                <a:cubicBezTo>
                  <a:pt x="68327" y="62838"/>
                  <a:pt x="82342" y="54895"/>
                  <a:pt x="95529" y="46653"/>
                </a:cubicBezTo>
                <a:cubicBezTo>
                  <a:pt x="143622" y="16595"/>
                  <a:pt x="141798" y="31231"/>
                  <a:pt x="207497" y="9331"/>
                </a:cubicBezTo>
                <a:lnTo>
                  <a:pt x="235489" y="0"/>
                </a:lnTo>
                <a:cubicBezTo>
                  <a:pt x="266591" y="3110"/>
                  <a:pt x="298920" y="139"/>
                  <a:pt x="328795" y="9331"/>
                </a:cubicBezTo>
                <a:cubicBezTo>
                  <a:pt x="341407" y="13212"/>
                  <a:pt x="346649" y="28876"/>
                  <a:pt x="356786" y="37323"/>
                </a:cubicBezTo>
                <a:cubicBezTo>
                  <a:pt x="365401" y="44502"/>
                  <a:pt x="376848" y="48055"/>
                  <a:pt x="384778" y="55984"/>
                </a:cubicBezTo>
                <a:cubicBezTo>
                  <a:pt x="395774" y="66980"/>
                  <a:pt x="405218" y="79712"/>
                  <a:pt x="412770" y="93306"/>
                </a:cubicBezTo>
                <a:cubicBezTo>
                  <a:pt x="422066" y="110038"/>
                  <a:pt x="433779" y="147003"/>
                  <a:pt x="440762" y="167951"/>
                </a:cubicBezTo>
                <a:cubicBezTo>
                  <a:pt x="437652" y="180392"/>
                  <a:pt x="438228" y="194399"/>
                  <a:pt x="431431" y="205274"/>
                </a:cubicBezTo>
                <a:cubicBezTo>
                  <a:pt x="422106" y="220193"/>
                  <a:pt x="407467" y="231146"/>
                  <a:pt x="394109" y="242596"/>
                </a:cubicBezTo>
                <a:cubicBezTo>
                  <a:pt x="385595" y="249894"/>
                  <a:pt x="375853" y="255693"/>
                  <a:pt x="366117" y="261257"/>
                </a:cubicBezTo>
                <a:cubicBezTo>
                  <a:pt x="354040" y="268158"/>
                  <a:pt x="341819" y="275035"/>
                  <a:pt x="328795" y="279919"/>
                </a:cubicBezTo>
                <a:cubicBezTo>
                  <a:pt x="269721" y="302072"/>
                  <a:pt x="182483" y="289249"/>
                  <a:pt x="132852" y="289249"/>
                </a:cubicBezTo>
              </a:path>
            </a:pathLst>
          </a:custGeom>
          <a:noFill/>
          <a:ln w="12600">
            <a:solidFill>
              <a:srgbClr val="cdee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475" name="フリーフォーム 12"/>
          <p:cNvSpPr/>
          <p:nvPr/>
        </p:nvSpPr>
        <p:spPr>
          <a:xfrm>
            <a:off x="644400" y="733320"/>
            <a:ext cx="6527880" cy="3614760"/>
          </a:xfrm>
          <a:custGeom>
            <a:avLst/>
            <a:gdLst/>
            <a:ahLst/>
            <a:rect l="l" t="t" r="r" b="b"/>
            <a:pathLst>
              <a:path w="6528495" h="3614473">
                <a:moveTo>
                  <a:pt x="2911151" y="3614473"/>
                </a:moveTo>
                <a:lnTo>
                  <a:pt x="1539551" y="3586481"/>
                </a:lnTo>
                <a:cubicBezTo>
                  <a:pt x="1458648" y="3584610"/>
                  <a:pt x="1377712" y="3582361"/>
                  <a:pt x="1296955" y="3577151"/>
                </a:cubicBezTo>
                <a:cubicBezTo>
                  <a:pt x="1281129" y="3576130"/>
                  <a:pt x="1265739" y="3571452"/>
                  <a:pt x="1250302" y="3567820"/>
                </a:cubicBezTo>
                <a:cubicBezTo>
                  <a:pt x="1212854" y="3559008"/>
                  <a:pt x="1175077" y="3551231"/>
                  <a:pt x="1138335" y="3539828"/>
                </a:cubicBezTo>
                <a:cubicBezTo>
                  <a:pt x="1084785" y="3523209"/>
                  <a:pt x="1034696" y="3494841"/>
                  <a:pt x="979715" y="3483845"/>
                </a:cubicBezTo>
                <a:lnTo>
                  <a:pt x="886408" y="3465184"/>
                </a:lnTo>
                <a:cubicBezTo>
                  <a:pt x="855251" y="3458625"/>
                  <a:pt x="808227" y="3450706"/>
                  <a:pt x="774441" y="3437192"/>
                </a:cubicBezTo>
                <a:cubicBezTo>
                  <a:pt x="752449" y="3428395"/>
                  <a:pt x="729300" y="3421614"/>
                  <a:pt x="709127" y="3409200"/>
                </a:cubicBezTo>
                <a:cubicBezTo>
                  <a:pt x="570609" y="3323958"/>
                  <a:pt x="723732" y="3390782"/>
                  <a:pt x="606490" y="3343886"/>
                </a:cubicBezTo>
                <a:cubicBezTo>
                  <a:pt x="587829" y="3328335"/>
                  <a:pt x="570407" y="3311163"/>
                  <a:pt x="550506" y="3297232"/>
                </a:cubicBezTo>
                <a:cubicBezTo>
                  <a:pt x="539111" y="3289256"/>
                  <a:pt x="524382" y="3286822"/>
                  <a:pt x="513184" y="3278571"/>
                </a:cubicBezTo>
                <a:cubicBezTo>
                  <a:pt x="465086" y="3243130"/>
                  <a:pt x="373225" y="3166604"/>
                  <a:pt x="373225" y="3166604"/>
                </a:cubicBezTo>
                <a:cubicBezTo>
                  <a:pt x="367005" y="3154163"/>
                  <a:pt x="362541" y="3140676"/>
                  <a:pt x="354564" y="3129281"/>
                </a:cubicBezTo>
                <a:cubicBezTo>
                  <a:pt x="254945" y="2986970"/>
                  <a:pt x="361500" y="3165509"/>
                  <a:pt x="261257" y="3007984"/>
                </a:cubicBezTo>
                <a:cubicBezTo>
                  <a:pt x="253789" y="2996249"/>
                  <a:pt x="249256" y="2982872"/>
                  <a:pt x="242596" y="2970661"/>
                </a:cubicBezTo>
                <a:cubicBezTo>
                  <a:pt x="230589" y="2948648"/>
                  <a:pt x="218175" y="2926849"/>
                  <a:pt x="205274" y="2905347"/>
                </a:cubicBezTo>
                <a:cubicBezTo>
                  <a:pt x="199504" y="2895731"/>
                  <a:pt x="191627" y="2887385"/>
                  <a:pt x="186612" y="2877355"/>
                </a:cubicBezTo>
                <a:cubicBezTo>
                  <a:pt x="176019" y="2856169"/>
                  <a:pt x="169851" y="2832896"/>
                  <a:pt x="158621" y="2812041"/>
                </a:cubicBezTo>
                <a:cubicBezTo>
                  <a:pt x="147988" y="2792294"/>
                  <a:pt x="132837" y="2775289"/>
                  <a:pt x="121298" y="2756057"/>
                </a:cubicBezTo>
                <a:cubicBezTo>
                  <a:pt x="114142" y="2744130"/>
                  <a:pt x="108857" y="2731176"/>
                  <a:pt x="102637" y="2718735"/>
                </a:cubicBezTo>
                <a:cubicBezTo>
                  <a:pt x="96417" y="2693853"/>
                  <a:pt x="91022" y="2668751"/>
                  <a:pt x="83976" y="2644090"/>
                </a:cubicBezTo>
                <a:cubicBezTo>
                  <a:pt x="78572" y="2625176"/>
                  <a:pt x="68940" y="2607440"/>
                  <a:pt x="65315" y="2588106"/>
                </a:cubicBezTo>
                <a:cubicBezTo>
                  <a:pt x="24246" y="2369071"/>
                  <a:pt x="85930" y="2599611"/>
                  <a:pt x="37323" y="2429486"/>
                </a:cubicBezTo>
                <a:cubicBezTo>
                  <a:pt x="34213" y="2389053"/>
                  <a:pt x="32237" y="2348517"/>
                  <a:pt x="27992" y="2308188"/>
                </a:cubicBezTo>
                <a:cubicBezTo>
                  <a:pt x="26011" y="2289373"/>
                  <a:pt x="21008" y="2270977"/>
                  <a:pt x="18661" y="2252204"/>
                </a:cubicBezTo>
                <a:cubicBezTo>
                  <a:pt x="480" y="2106754"/>
                  <a:pt x="19151" y="2207998"/>
                  <a:pt x="0" y="2112245"/>
                </a:cubicBezTo>
                <a:cubicBezTo>
                  <a:pt x="3110" y="1966065"/>
                  <a:pt x="3487" y="1819802"/>
                  <a:pt x="9331" y="1673706"/>
                </a:cubicBezTo>
                <a:cubicBezTo>
                  <a:pt x="9724" y="1663879"/>
                  <a:pt x="16527" y="1655315"/>
                  <a:pt x="18661" y="1645714"/>
                </a:cubicBezTo>
                <a:cubicBezTo>
                  <a:pt x="22765" y="1627246"/>
                  <a:pt x="22009" y="1607678"/>
                  <a:pt x="27992" y="1589730"/>
                </a:cubicBezTo>
                <a:cubicBezTo>
                  <a:pt x="40778" y="1551372"/>
                  <a:pt x="52217" y="1511405"/>
                  <a:pt x="74645" y="1477763"/>
                </a:cubicBezTo>
                <a:cubicBezTo>
                  <a:pt x="87086" y="1459102"/>
                  <a:pt x="96109" y="1437638"/>
                  <a:pt x="111968" y="1421779"/>
                </a:cubicBezTo>
                <a:cubicBezTo>
                  <a:pt x="130887" y="1402860"/>
                  <a:pt x="157559" y="1393205"/>
                  <a:pt x="177282" y="1375126"/>
                </a:cubicBezTo>
                <a:cubicBezTo>
                  <a:pt x="210043" y="1345095"/>
                  <a:pt x="224979" y="1307733"/>
                  <a:pt x="261257" y="1281820"/>
                </a:cubicBezTo>
                <a:cubicBezTo>
                  <a:pt x="269260" y="1276103"/>
                  <a:pt x="279918" y="1275600"/>
                  <a:pt x="289249" y="1272490"/>
                </a:cubicBezTo>
                <a:cubicBezTo>
                  <a:pt x="357515" y="1181467"/>
                  <a:pt x="269628" y="1288872"/>
                  <a:pt x="363894" y="1207175"/>
                </a:cubicBezTo>
                <a:cubicBezTo>
                  <a:pt x="404027" y="1172393"/>
                  <a:pt x="453304" y="1108472"/>
                  <a:pt x="503853" y="1076547"/>
                </a:cubicBezTo>
                <a:cubicBezTo>
                  <a:pt x="546255" y="1049767"/>
                  <a:pt x="593397" y="1030661"/>
                  <a:pt x="634482" y="1001902"/>
                </a:cubicBezTo>
                <a:cubicBezTo>
                  <a:pt x="665584" y="980131"/>
                  <a:pt x="695393" y="956385"/>
                  <a:pt x="727788" y="936588"/>
                </a:cubicBezTo>
                <a:cubicBezTo>
                  <a:pt x="886222" y="839767"/>
                  <a:pt x="735176" y="940909"/>
                  <a:pt x="849086" y="880604"/>
                </a:cubicBezTo>
                <a:cubicBezTo>
                  <a:pt x="917918" y="844164"/>
                  <a:pt x="1022967" y="778821"/>
                  <a:pt x="1082351" y="731314"/>
                </a:cubicBezTo>
                <a:cubicBezTo>
                  <a:pt x="1097902" y="718873"/>
                  <a:pt x="1111647" y="703755"/>
                  <a:pt x="1129004" y="693992"/>
                </a:cubicBezTo>
                <a:cubicBezTo>
                  <a:pt x="1334977" y="578133"/>
                  <a:pt x="1140281" y="706853"/>
                  <a:pt x="1306286" y="610016"/>
                </a:cubicBezTo>
                <a:cubicBezTo>
                  <a:pt x="1319719" y="602180"/>
                  <a:pt x="1329488" y="588541"/>
                  <a:pt x="1343608" y="582024"/>
                </a:cubicBezTo>
                <a:cubicBezTo>
                  <a:pt x="1370398" y="569659"/>
                  <a:pt x="1401193" y="567227"/>
                  <a:pt x="1427584" y="554032"/>
                </a:cubicBezTo>
                <a:cubicBezTo>
                  <a:pt x="1519356" y="508146"/>
                  <a:pt x="1483030" y="505729"/>
                  <a:pt x="1548882" y="479388"/>
                </a:cubicBezTo>
                <a:cubicBezTo>
                  <a:pt x="1610136" y="454886"/>
                  <a:pt x="1607498" y="466487"/>
                  <a:pt x="1670180" y="432735"/>
                </a:cubicBezTo>
                <a:cubicBezTo>
                  <a:pt x="1689927" y="422102"/>
                  <a:pt x="1705119" y="403166"/>
                  <a:pt x="1726164" y="395412"/>
                </a:cubicBezTo>
                <a:cubicBezTo>
                  <a:pt x="1765100" y="381067"/>
                  <a:pt x="1807563" y="378820"/>
                  <a:pt x="1847461" y="367420"/>
                </a:cubicBezTo>
                <a:cubicBezTo>
                  <a:pt x="1873012" y="360120"/>
                  <a:pt x="1895832" y="343409"/>
                  <a:pt x="1922106" y="339428"/>
                </a:cubicBezTo>
                <a:cubicBezTo>
                  <a:pt x="1999230" y="327743"/>
                  <a:pt x="2077617" y="326987"/>
                  <a:pt x="2155372" y="320767"/>
                </a:cubicBezTo>
                <a:lnTo>
                  <a:pt x="2313992" y="292775"/>
                </a:lnTo>
                <a:cubicBezTo>
                  <a:pt x="2351279" y="286346"/>
                  <a:pt x="2389023" y="282322"/>
                  <a:pt x="2425959" y="274114"/>
                </a:cubicBezTo>
                <a:cubicBezTo>
                  <a:pt x="2453951" y="267894"/>
                  <a:pt x="2481501" y="259162"/>
                  <a:pt x="2509935" y="255453"/>
                </a:cubicBezTo>
                <a:cubicBezTo>
                  <a:pt x="2553222" y="249807"/>
                  <a:pt x="2597049" y="249603"/>
                  <a:pt x="2640564" y="246122"/>
                </a:cubicBezTo>
                <a:cubicBezTo>
                  <a:pt x="2674808" y="243383"/>
                  <a:pt x="2709082" y="240806"/>
                  <a:pt x="2743200" y="236792"/>
                </a:cubicBezTo>
                <a:cubicBezTo>
                  <a:pt x="2761989" y="234582"/>
                  <a:pt x="2780307" y="228720"/>
                  <a:pt x="2799184" y="227461"/>
                </a:cubicBezTo>
                <a:cubicBezTo>
                  <a:pt x="2873728" y="222491"/>
                  <a:pt x="2948474" y="221240"/>
                  <a:pt x="3023119" y="218130"/>
                </a:cubicBezTo>
                <a:cubicBezTo>
                  <a:pt x="3043940" y="215156"/>
                  <a:pt x="3110274" y="206913"/>
                  <a:pt x="3135086" y="199469"/>
                </a:cubicBezTo>
                <a:cubicBezTo>
                  <a:pt x="3183195" y="185036"/>
                  <a:pt x="3173491" y="177987"/>
                  <a:pt x="3219061" y="171477"/>
                </a:cubicBezTo>
                <a:cubicBezTo>
                  <a:pt x="3250004" y="167057"/>
                  <a:pt x="3281266" y="165257"/>
                  <a:pt x="3312368" y="162147"/>
                </a:cubicBezTo>
                <a:lnTo>
                  <a:pt x="4889241" y="171477"/>
                </a:lnTo>
                <a:cubicBezTo>
                  <a:pt x="4917912" y="171960"/>
                  <a:pt x="4945033" y="184855"/>
                  <a:pt x="4973217" y="190139"/>
                </a:cubicBezTo>
                <a:cubicBezTo>
                  <a:pt x="4994833" y="194192"/>
                  <a:pt x="5016624" y="197536"/>
                  <a:pt x="5038531" y="199469"/>
                </a:cubicBezTo>
                <a:cubicBezTo>
                  <a:pt x="5288081" y="221488"/>
                  <a:pt x="5334527" y="218211"/>
                  <a:pt x="5598368" y="236792"/>
                </a:cubicBezTo>
                <a:lnTo>
                  <a:pt x="5952931" y="264784"/>
                </a:lnTo>
                <a:cubicBezTo>
                  <a:pt x="6034930" y="281183"/>
                  <a:pt x="5965901" y="261938"/>
                  <a:pt x="6046237" y="302106"/>
                </a:cubicBezTo>
                <a:cubicBezTo>
                  <a:pt x="6061545" y="309760"/>
                  <a:pt x="6114665" y="326707"/>
                  <a:pt x="6130212" y="339428"/>
                </a:cubicBezTo>
                <a:cubicBezTo>
                  <a:pt x="6201576" y="397817"/>
                  <a:pt x="6179133" y="384535"/>
                  <a:pt x="6214188" y="432735"/>
                </a:cubicBezTo>
                <a:cubicBezTo>
                  <a:pt x="6232481" y="457888"/>
                  <a:pt x="6254170" y="480709"/>
                  <a:pt x="6270172" y="507379"/>
                </a:cubicBezTo>
                <a:cubicBezTo>
                  <a:pt x="6279503" y="522930"/>
                  <a:pt x="6290054" y="537811"/>
                  <a:pt x="6298164" y="554032"/>
                </a:cubicBezTo>
                <a:cubicBezTo>
                  <a:pt x="6302562" y="562829"/>
                  <a:pt x="6302718" y="573426"/>
                  <a:pt x="6307494" y="582024"/>
                </a:cubicBezTo>
                <a:cubicBezTo>
                  <a:pt x="6336919" y="634990"/>
                  <a:pt x="6342809" y="636000"/>
                  <a:pt x="6382139" y="675330"/>
                </a:cubicBezTo>
                <a:cubicBezTo>
                  <a:pt x="6389825" y="706075"/>
                  <a:pt x="6394161" y="730560"/>
                  <a:pt x="6410131" y="759306"/>
                </a:cubicBezTo>
                <a:cubicBezTo>
                  <a:pt x="6417683" y="772900"/>
                  <a:pt x="6428792" y="784187"/>
                  <a:pt x="6438123" y="796628"/>
                </a:cubicBezTo>
                <a:cubicBezTo>
                  <a:pt x="6463656" y="873233"/>
                  <a:pt x="6421478" y="752790"/>
                  <a:pt x="6484776" y="889935"/>
                </a:cubicBezTo>
                <a:cubicBezTo>
                  <a:pt x="6493019" y="907795"/>
                  <a:pt x="6497217" y="927257"/>
                  <a:pt x="6503437" y="945918"/>
                </a:cubicBezTo>
                <a:cubicBezTo>
                  <a:pt x="6509657" y="983241"/>
                  <a:pt x="6521370" y="1020056"/>
                  <a:pt x="6522098" y="1057886"/>
                </a:cubicBezTo>
                <a:cubicBezTo>
                  <a:pt x="6522818" y="1095328"/>
                  <a:pt x="6528495" y="1371139"/>
                  <a:pt x="6503437" y="1496424"/>
                </a:cubicBezTo>
                <a:cubicBezTo>
                  <a:pt x="6499273" y="1517242"/>
                  <a:pt x="6467497" y="1586769"/>
                  <a:pt x="6466115" y="1589730"/>
                </a:cubicBezTo>
                <a:cubicBezTo>
                  <a:pt x="6403373" y="1724177"/>
                  <a:pt x="6449918" y="1611560"/>
                  <a:pt x="6410131" y="1711028"/>
                </a:cubicBezTo>
                <a:cubicBezTo>
                  <a:pt x="6391778" y="1821141"/>
                  <a:pt x="6415801" y="1710847"/>
                  <a:pt x="6363478" y="1841657"/>
                </a:cubicBezTo>
                <a:cubicBezTo>
                  <a:pt x="6355069" y="1862680"/>
                  <a:pt x="6352432" y="1885648"/>
                  <a:pt x="6344817" y="1906971"/>
                </a:cubicBezTo>
                <a:cubicBezTo>
                  <a:pt x="6336850" y="1929278"/>
                  <a:pt x="6325622" y="1950293"/>
                  <a:pt x="6316825" y="1972286"/>
                </a:cubicBezTo>
                <a:cubicBezTo>
                  <a:pt x="6313172" y="1981418"/>
                  <a:pt x="6310947" y="1991068"/>
                  <a:pt x="6307494" y="2000277"/>
                </a:cubicBezTo>
                <a:cubicBezTo>
                  <a:pt x="6301613" y="2015959"/>
                  <a:pt x="6293646" y="2030887"/>
                  <a:pt x="6288833" y="2046930"/>
                </a:cubicBezTo>
                <a:cubicBezTo>
                  <a:pt x="6284276" y="2062120"/>
                  <a:pt x="6285392" y="2078859"/>
                  <a:pt x="6279502" y="2093584"/>
                </a:cubicBezTo>
                <a:cubicBezTo>
                  <a:pt x="6272767" y="2110422"/>
                  <a:pt x="6259620" y="2124016"/>
                  <a:pt x="6251510" y="2140237"/>
                </a:cubicBezTo>
                <a:cubicBezTo>
                  <a:pt x="6212878" y="2217502"/>
                  <a:pt x="6277003" y="2115992"/>
                  <a:pt x="6223519" y="2196220"/>
                </a:cubicBezTo>
                <a:cubicBezTo>
                  <a:pt x="6220409" y="2208661"/>
                  <a:pt x="6219240" y="2221756"/>
                  <a:pt x="6214188" y="2233543"/>
                </a:cubicBezTo>
                <a:cubicBezTo>
                  <a:pt x="6209771" y="2243850"/>
                  <a:pt x="6200542" y="2251505"/>
                  <a:pt x="6195527" y="2261535"/>
                </a:cubicBezTo>
                <a:cubicBezTo>
                  <a:pt x="6188037" y="2276516"/>
                  <a:pt x="6182747" y="2292506"/>
                  <a:pt x="6176866" y="2308188"/>
                </a:cubicBezTo>
                <a:cubicBezTo>
                  <a:pt x="6153042" y="2371717"/>
                  <a:pt x="6187440" y="2299065"/>
                  <a:pt x="6139543" y="2410824"/>
                </a:cubicBezTo>
                <a:cubicBezTo>
                  <a:pt x="6131324" y="2430001"/>
                  <a:pt x="6123516" y="2449716"/>
                  <a:pt x="6111551" y="2466808"/>
                </a:cubicBezTo>
                <a:cubicBezTo>
                  <a:pt x="6101462" y="2481221"/>
                  <a:pt x="6085679" y="2490772"/>
                  <a:pt x="6074229" y="2504130"/>
                </a:cubicBezTo>
                <a:cubicBezTo>
                  <a:pt x="5978610" y="2615686"/>
                  <a:pt x="6160799" y="2417715"/>
                  <a:pt x="6036906" y="2578775"/>
                </a:cubicBezTo>
                <a:cubicBezTo>
                  <a:pt x="6015451" y="2606666"/>
                  <a:pt x="5987143" y="2628538"/>
                  <a:pt x="5962261" y="2653420"/>
                </a:cubicBezTo>
                <a:cubicBezTo>
                  <a:pt x="5940490" y="2675192"/>
                  <a:pt x="5914026" y="2693117"/>
                  <a:pt x="5896947" y="2718735"/>
                </a:cubicBezTo>
                <a:cubicBezTo>
                  <a:pt x="5870157" y="2758919"/>
                  <a:pt x="5848670" y="2792624"/>
                  <a:pt x="5812972" y="2830702"/>
                </a:cubicBezTo>
                <a:cubicBezTo>
                  <a:pt x="5790360" y="2854822"/>
                  <a:pt x="5761098" y="2872046"/>
                  <a:pt x="5738327" y="2896016"/>
                </a:cubicBezTo>
                <a:cubicBezTo>
                  <a:pt x="5685322" y="2951811"/>
                  <a:pt x="5589706" y="3085292"/>
                  <a:pt x="5523723" y="3129281"/>
                </a:cubicBezTo>
                <a:cubicBezTo>
                  <a:pt x="5484683" y="3155308"/>
                  <a:pt x="5464961" y="3166960"/>
                  <a:pt x="5430417" y="3194596"/>
                </a:cubicBezTo>
                <a:cubicBezTo>
                  <a:pt x="5383972" y="3231752"/>
                  <a:pt x="5384580" y="3240922"/>
                  <a:pt x="5337110" y="3259910"/>
                </a:cubicBezTo>
                <a:cubicBezTo>
                  <a:pt x="5289605" y="3278912"/>
                  <a:pt x="5275114" y="3280763"/>
                  <a:pt x="5225143" y="3287902"/>
                </a:cubicBezTo>
                <a:lnTo>
                  <a:pt x="5085184" y="3306563"/>
                </a:lnTo>
                <a:cubicBezTo>
                  <a:pt x="5075853" y="3309673"/>
                  <a:pt x="5066836" y="3313965"/>
                  <a:pt x="5057192" y="3315894"/>
                </a:cubicBezTo>
                <a:cubicBezTo>
                  <a:pt x="5015949" y="3324143"/>
                  <a:pt x="4935571" y="3330855"/>
                  <a:pt x="4898572" y="3334555"/>
                </a:cubicBezTo>
                <a:cubicBezTo>
                  <a:pt x="4886131" y="3340775"/>
                  <a:pt x="4874445" y="3348818"/>
                  <a:pt x="4861249" y="3353216"/>
                </a:cubicBezTo>
                <a:cubicBezTo>
                  <a:pt x="4793769" y="3375709"/>
                  <a:pt x="4766435" y="3373894"/>
                  <a:pt x="4693298" y="3381208"/>
                </a:cubicBezTo>
                <a:cubicBezTo>
                  <a:pt x="4646645" y="3396759"/>
                  <a:pt x="4597324" y="3405869"/>
                  <a:pt x="4553339" y="3427861"/>
                </a:cubicBezTo>
                <a:cubicBezTo>
                  <a:pt x="4540898" y="3434081"/>
                  <a:pt x="4529772" y="3444459"/>
                  <a:pt x="4516017" y="3446522"/>
                </a:cubicBezTo>
                <a:cubicBezTo>
                  <a:pt x="4466708" y="3453918"/>
                  <a:pt x="4416490" y="3452743"/>
                  <a:pt x="4366727" y="3455853"/>
                </a:cubicBezTo>
                <a:cubicBezTo>
                  <a:pt x="4354286" y="3458963"/>
                  <a:pt x="4341661" y="3461413"/>
                  <a:pt x="4329404" y="3465184"/>
                </a:cubicBezTo>
                <a:cubicBezTo>
                  <a:pt x="4301203" y="3473861"/>
                  <a:pt x="4274232" y="3486774"/>
                  <a:pt x="4245429" y="3493175"/>
                </a:cubicBezTo>
                <a:cubicBezTo>
                  <a:pt x="4217935" y="3499285"/>
                  <a:pt x="4189400" y="3499013"/>
                  <a:pt x="4161453" y="3502506"/>
                </a:cubicBezTo>
                <a:cubicBezTo>
                  <a:pt x="4139630" y="3505234"/>
                  <a:pt x="4117777" y="3507903"/>
                  <a:pt x="4096139" y="3511837"/>
                </a:cubicBezTo>
                <a:cubicBezTo>
                  <a:pt x="4056384" y="3519065"/>
                  <a:pt x="4045442" y="3527654"/>
                  <a:pt x="4002833" y="3539828"/>
                </a:cubicBezTo>
                <a:cubicBezTo>
                  <a:pt x="3978172" y="3546874"/>
                  <a:pt x="3953814" y="3557437"/>
                  <a:pt x="3928188" y="3558490"/>
                </a:cubicBezTo>
                <a:cubicBezTo>
                  <a:pt x="3726171" y="3566792"/>
                  <a:pt x="3523861" y="3564710"/>
                  <a:pt x="3321698" y="3567820"/>
                </a:cubicBezTo>
                <a:lnTo>
                  <a:pt x="1520890" y="3558490"/>
                </a:lnTo>
                <a:cubicBezTo>
                  <a:pt x="1461717" y="3557932"/>
                  <a:pt x="1402362" y="3556210"/>
                  <a:pt x="1343608" y="3549159"/>
                </a:cubicBezTo>
                <a:cubicBezTo>
                  <a:pt x="1324078" y="3546815"/>
                  <a:pt x="1305958" y="3537627"/>
                  <a:pt x="1287625" y="3530498"/>
                </a:cubicBezTo>
                <a:cubicBezTo>
                  <a:pt x="1249941" y="3515843"/>
                  <a:pt x="1210328" y="3504648"/>
                  <a:pt x="1175657" y="3483845"/>
                </a:cubicBezTo>
                <a:cubicBezTo>
                  <a:pt x="1067294" y="3418827"/>
                  <a:pt x="1200955" y="3500711"/>
                  <a:pt x="1063690" y="3409200"/>
                </a:cubicBezTo>
                <a:cubicBezTo>
                  <a:pt x="1048600" y="3399140"/>
                  <a:pt x="1032588" y="3390539"/>
                  <a:pt x="1017037" y="3381208"/>
                </a:cubicBezTo>
                <a:cubicBezTo>
                  <a:pt x="1004596" y="3365657"/>
                  <a:pt x="994648" y="3347731"/>
                  <a:pt x="979715" y="3334555"/>
                </a:cubicBezTo>
                <a:cubicBezTo>
                  <a:pt x="921960" y="3283595"/>
                  <a:pt x="848652" y="3240815"/>
                  <a:pt x="793102" y="3185265"/>
                </a:cubicBezTo>
                <a:cubicBezTo>
                  <a:pt x="772826" y="3164989"/>
                  <a:pt x="755277" y="3142144"/>
                  <a:pt x="737119" y="3119951"/>
                </a:cubicBezTo>
                <a:cubicBezTo>
                  <a:pt x="727271" y="3107915"/>
                  <a:pt x="720634" y="3093089"/>
                  <a:pt x="709127" y="3082628"/>
                </a:cubicBezTo>
                <a:cubicBezTo>
                  <a:pt x="686113" y="3061707"/>
                  <a:pt x="657273" y="3047808"/>
                  <a:pt x="634482" y="3026645"/>
                </a:cubicBezTo>
                <a:cubicBezTo>
                  <a:pt x="613469" y="3007133"/>
                  <a:pt x="598774" y="2981606"/>
                  <a:pt x="578498" y="2961330"/>
                </a:cubicBezTo>
                <a:cubicBezTo>
                  <a:pt x="564416" y="2947248"/>
                  <a:pt x="545927" y="2938090"/>
                  <a:pt x="531845" y="2924008"/>
                </a:cubicBezTo>
                <a:cubicBezTo>
                  <a:pt x="520849" y="2913012"/>
                  <a:pt x="514849" y="2897682"/>
                  <a:pt x="503853" y="2886686"/>
                </a:cubicBezTo>
                <a:cubicBezTo>
                  <a:pt x="423233" y="2806066"/>
                  <a:pt x="556724" y="2994293"/>
                  <a:pt x="419878" y="2802710"/>
                </a:cubicBezTo>
                <a:cubicBezTo>
                  <a:pt x="405303" y="2782305"/>
                  <a:pt x="396464" y="2758260"/>
                  <a:pt x="382555" y="2737396"/>
                </a:cubicBezTo>
                <a:cubicBezTo>
                  <a:pt x="365303" y="2711518"/>
                  <a:pt x="345233" y="2687633"/>
                  <a:pt x="326572" y="2662751"/>
                </a:cubicBezTo>
                <a:cubicBezTo>
                  <a:pt x="312937" y="2608211"/>
                  <a:pt x="320128" y="2622662"/>
                  <a:pt x="279919" y="2560114"/>
                </a:cubicBezTo>
                <a:cubicBezTo>
                  <a:pt x="265451" y="2537608"/>
                  <a:pt x="245680" y="2518500"/>
                  <a:pt x="233266" y="2494800"/>
                </a:cubicBezTo>
                <a:cubicBezTo>
                  <a:pt x="211284" y="2452835"/>
                  <a:pt x="198468" y="2406543"/>
                  <a:pt x="177282" y="2364171"/>
                </a:cubicBezTo>
                <a:cubicBezTo>
                  <a:pt x="171062" y="2351730"/>
                  <a:pt x="163019" y="2340044"/>
                  <a:pt x="158621" y="2326849"/>
                </a:cubicBezTo>
                <a:cubicBezTo>
                  <a:pt x="144300" y="2283887"/>
                  <a:pt x="132281" y="2240153"/>
                  <a:pt x="121298" y="2196220"/>
                </a:cubicBezTo>
                <a:cubicBezTo>
                  <a:pt x="118188" y="2183779"/>
                  <a:pt x="117274" y="2170572"/>
                  <a:pt x="111968" y="2158898"/>
                </a:cubicBezTo>
                <a:cubicBezTo>
                  <a:pt x="101592" y="2136070"/>
                  <a:pt x="87086" y="2115355"/>
                  <a:pt x="74645" y="2093584"/>
                </a:cubicBezTo>
                <a:cubicBezTo>
                  <a:pt x="71535" y="2068702"/>
                  <a:pt x="70953" y="2043372"/>
                  <a:pt x="65315" y="2018939"/>
                </a:cubicBezTo>
                <a:cubicBezTo>
                  <a:pt x="61549" y="2002619"/>
                  <a:pt x="50715" y="1988535"/>
                  <a:pt x="46653" y="1972286"/>
                </a:cubicBezTo>
                <a:cubicBezTo>
                  <a:pt x="41319" y="1950950"/>
                  <a:pt x="41257" y="1928609"/>
                  <a:pt x="37323" y="1906971"/>
                </a:cubicBezTo>
                <a:cubicBezTo>
                  <a:pt x="35029" y="1894354"/>
                  <a:pt x="30507" y="1882224"/>
                  <a:pt x="27992" y="1869649"/>
                </a:cubicBezTo>
                <a:cubicBezTo>
                  <a:pt x="24282" y="1851098"/>
                  <a:pt x="21771" y="1832326"/>
                  <a:pt x="18661" y="1813665"/>
                </a:cubicBezTo>
                <a:cubicBezTo>
                  <a:pt x="15551" y="1704808"/>
                  <a:pt x="7454" y="1595979"/>
                  <a:pt x="9331" y="1487094"/>
                </a:cubicBezTo>
                <a:cubicBezTo>
                  <a:pt x="11038" y="1388120"/>
                  <a:pt x="7724" y="1323429"/>
                  <a:pt x="37323" y="1244498"/>
                </a:cubicBezTo>
                <a:cubicBezTo>
                  <a:pt x="43204" y="1228816"/>
                  <a:pt x="46693" y="1211781"/>
                  <a:pt x="55984" y="1197845"/>
                </a:cubicBezTo>
                <a:cubicBezTo>
                  <a:pt x="65743" y="1183206"/>
                  <a:pt x="82750" y="1174597"/>
                  <a:pt x="93306" y="1160522"/>
                </a:cubicBezTo>
                <a:cubicBezTo>
                  <a:pt x="101652" y="1149395"/>
                  <a:pt x="105067" y="1135277"/>
                  <a:pt x="111968" y="1123200"/>
                </a:cubicBezTo>
                <a:cubicBezTo>
                  <a:pt x="117532" y="1113464"/>
                  <a:pt x="123901" y="1104179"/>
                  <a:pt x="130629" y="1095208"/>
                </a:cubicBezTo>
                <a:cubicBezTo>
                  <a:pt x="156538" y="1060662"/>
                  <a:pt x="168517" y="1041567"/>
                  <a:pt x="205274" y="1020563"/>
                </a:cubicBezTo>
                <a:cubicBezTo>
                  <a:pt x="213814" y="1015683"/>
                  <a:pt x="223935" y="1014342"/>
                  <a:pt x="233266" y="1011232"/>
                </a:cubicBezTo>
                <a:cubicBezTo>
                  <a:pt x="273699" y="977020"/>
                  <a:pt x="307191" y="932283"/>
                  <a:pt x="354564" y="908596"/>
                </a:cubicBezTo>
                <a:cubicBezTo>
                  <a:pt x="379445" y="896155"/>
                  <a:pt x="403840" y="882689"/>
                  <a:pt x="429208" y="871273"/>
                </a:cubicBezTo>
                <a:cubicBezTo>
                  <a:pt x="466080" y="854681"/>
                  <a:pt x="505831" y="844256"/>
                  <a:pt x="541176" y="824620"/>
                </a:cubicBezTo>
                <a:cubicBezTo>
                  <a:pt x="610503" y="786105"/>
                  <a:pt x="635517" y="768956"/>
                  <a:pt x="709127" y="740645"/>
                </a:cubicBezTo>
                <a:cubicBezTo>
                  <a:pt x="721096" y="736042"/>
                  <a:pt x="734662" y="736366"/>
                  <a:pt x="746449" y="731314"/>
                </a:cubicBezTo>
                <a:cubicBezTo>
                  <a:pt x="778410" y="717616"/>
                  <a:pt x="807469" y="697575"/>
                  <a:pt x="839755" y="684661"/>
                </a:cubicBezTo>
                <a:cubicBezTo>
                  <a:pt x="916833" y="653830"/>
                  <a:pt x="916565" y="662198"/>
                  <a:pt x="979715" y="647339"/>
                </a:cubicBezTo>
                <a:cubicBezTo>
                  <a:pt x="1017163" y="638528"/>
                  <a:pt x="1054648" y="629763"/>
                  <a:pt x="1091682" y="619347"/>
                </a:cubicBezTo>
                <a:cubicBezTo>
                  <a:pt x="1154199" y="601764"/>
                  <a:pt x="1216027" y="581813"/>
                  <a:pt x="1278294" y="563363"/>
                </a:cubicBezTo>
                <a:cubicBezTo>
                  <a:pt x="1300004" y="556931"/>
                  <a:pt x="1321505" y="549614"/>
                  <a:pt x="1343608" y="544702"/>
                </a:cubicBezTo>
                <a:cubicBezTo>
                  <a:pt x="1371600" y="538482"/>
                  <a:pt x="1399765" y="532996"/>
                  <a:pt x="1427584" y="526041"/>
                </a:cubicBezTo>
                <a:cubicBezTo>
                  <a:pt x="1461987" y="517440"/>
                  <a:pt x="1496200" y="508055"/>
                  <a:pt x="1530221" y="498049"/>
                </a:cubicBezTo>
                <a:cubicBezTo>
                  <a:pt x="1549092" y="492499"/>
                  <a:pt x="1567121" y="484159"/>
                  <a:pt x="1586204" y="479388"/>
                </a:cubicBezTo>
                <a:cubicBezTo>
                  <a:pt x="1616975" y="471695"/>
                  <a:pt x="1648224" y="465940"/>
                  <a:pt x="1679510" y="460726"/>
                </a:cubicBezTo>
                <a:cubicBezTo>
                  <a:pt x="1704244" y="456604"/>
                  <a:pt x="1729233" y="454165"/>
                  <a:pt x="1754155" y="451396"/>
                </a:cubicBezTo>
                <a:cubicBezTo>
                  <a:pt x="1869154" y="438619"/>
                  <a:pt x="1868803" y="440810"/>
                  <a:pt x="2006082" y="432735"/>
                </a:cubicBezTo>
                <a:lnTo>
                  <a:pt x="2080727" y="423404"/>
                </a:lnTo>
                <a:cubicBezTo>
                  <a:pt x="2108698" y="420113"/>
                  <a:pt x="2136866" y="418355"/>
                  <a:pt x="2164702" y="414073"/>
                </a:cubicBezTo>
                <a:cubicBezTo>
                  <a:pt x="2177377" y="412123"/>
                  <a:pt x="2189259" y="405959"/>
                  <a:pt x="2202025" y="404743"/>
                </a:cubicBezTo>
                <a:cubicBezTo>
                  <a:pt x="2254751" y="399722"/>
                  <a:pt x="2307772" y="398522"/>
                  <a:pt x="2360645" y="395412"/>
                </a:cubicBezTo>
                <a:cubicBezTo>
                  <a:pt x="2379306" y="392302"/>
                  <a:pt x="2398508" y="391517"/>
                  <a:pt x="2416629" y="386081"/>
                </a:cubicBezTo>
                <a:cubicBezTo>
                  <a:pt x="2429951" y="382084"/>
                  <a:pt x="2440532" y="371080"/>
                  <a:pt x="2453951" y="367420"/>
                </a:cubicBezTo>
                <a:cubicBezTo>
                  <a:pt x="2475169" y="361634"/>
                  <a:pt x="2497529" y="361434"/>
                  <a:pt x="2519266" y="358090"/>
                </a:cubicBezTo>
                <a:cubicBezTo>
                  <a:pt x="2570984" y="350134"/>
                  <a:pt x="2573387" y="349131"/>
                  <a:pt x="2621902" y="339428"/>
                </a:cubicBezTo>
                <a:cubicBezTo>
                  <a:pt x="2646784" y="342538"/>
                  <a:pt x="2671724" y="352305"/>
                  <a:pt x="2696547" y="348759"/>
                </a:cubicBezTo>
                <a:cubicBezTo>
                  <a:pt x="2717201" y="345808"/>
                  <a:pt x="2732290" y="325827"/>
                  <a:pt x="2752531" y="320767"/>
                </a:cubicBezTo>
                <a:cubicBezTo>
                  <a:pt x="2782855" y="313186"/>
                  <a:pt x="2814611" y="312825"/>
                  <a:pt x="2845837" y="311437"/>
                </a:cubicBezTo>
                <a:cubicBezTo>
                  <a:pt x="2954631" y="306602"/>
                  <a:pt x="3063551" y="305216"/>
                  <a:pt x="3172408" y="302106"/>
                </a:cubicBezTo>
                <a:cubicBezTo>
                  <a:pt x="3368517" y="280315"/>
                  <a:pt x="3124880" y="306427"/>
                  <a:pt x="3377682" y="283445"/>
                </a:cubicBezTo>
                <a:cubicBezTo>
                  <a:pt x="3405730" y="280895"/>
                  <a:pt x="3433665" y="277224"/>
                  <a:pt x="3461657" y="274114"/>
                </a:cubicBezTo>
                <a:cubicBezTo>
                  <a:pt x="3483429" y="264783"/>
                  <a:pt x="3503512" y="249395"/>
                  <a:pt x="3526972" y="246122"/>
                </a:cubicBezTo>
                <a:cubicBezTo>
                  <a:pt x="3638249" y="230595"/>
                  <a:pt x="3862874" y="218130"/>
                  <a:pt x="3862874" y="218130"/>
                </a:cubicBezTo>
                <a:cubicBezTo>
                  <a:pt x="3928123" y="205081"/>
                  <a:pt x="3921457" y="207933"/>
                  <a:pt x="4002833" y="180808"/>
                </a:cubicBezTo>
                <a:cubicBezTo>
                  <a:pt x="4074685" y="156857"/>
                  <a:pt x="4149695" y="140034"/>
                  <a:pt x="4217437" y="106163"/>
                </a:cubicBezTo>
                <a:cubicBezTo>
                  <a:pt x="4236098" y="96832"/>
                  <a:pt x="4253628" y="84769"/>
                  <a:pt x="4273421" y="78171"/>
                </a:cubicBezTo>
                <a:cubicBezTo>
                  <a:pt x="4309918" y="66005"/>
                  <a:pt x="4348342" y="60552"/>
                  <a:pt x="4385388" y="50179"/>
                </a:cubicBezTo>
                <a:cubicBezTo>
                  <a:pt x="4564600" y="0"/>
                  <a:pt x="4444947" y="18002"/>
                  <a:pt x="4618653" y="3526"/>
                </a:cubicBezTo>
                <a:lnTo>
                  <a:pt x="5421086" y="12857"/>
                </a:lnTo>
                <a:cubicBezTo>
                  <a:pt x="5474041" y="13885"/>
                  <a:pt x="5527090" y="16117"/>
                  <a:pt x="5579706" y="22188"/>
                </a:cubicBezTo>
                <a:cubicBezTo>
                  <a:pt x="5600452" y="24582"/>
                  <a:pt x="5661459" y="38093"/>
                  <a:pt x="5691674" y="50179"/>
                </a:cubicBezTo>
                <a:cubicBezTo>
                  <a:pt x="5729215" y="65195"/>
                  <a:pt x="5765783" y="82635"/>
                  <a:pt x="5803641" y="96832"/>
                </a:cubicBezTo>
                <a:cubicBezTo>
                  <a:pt x="5828523" y="106163"/>
                  <a:pt x="5852419" y="118737"/>
                  <a:pt x="5878286" y="124824"/>
                </a:cubicBezTo>
                <a:cubicBezTo>
                  <a:pt x="5905701" y="131275"/>
                  <a:pt x="5934269" y="131045"/>
                  <a:pt x="5962261" y="134155"/>
                </a:cubicBezTo>
                <a:cubicBezTo>
                  <a:pt x="5987143" y="140375"/>
                  <a:pt x="6012753" y="144190"/>
                  <a:pt x="6036906" y="152816"/>
                </a:cubicBezTo>
                <a:cubicBezTo>
                  <a:pt x="6194312" y="209032"/>
                  <a:pt x="6017362" y="161925"/>
                  <a:pt x="6130212" y="190139"/>
                </a:cubicBezTo>
                <a:cubicBezTo>
                  <a:pt x="6145763" y="199469"/>
                  <a:pt x="6162108" y="207589"/>
                  <a:pt x="6176866" y="218130"/>
                </a:cubicBezTo>
                <a:cubicBezTo>
                  <a:pt x="6184025" y="223243"/>
                  <a:pt x="6188658" y="231296"/>
                  <a:pt x="6195527" y="236792"/>
                </a:cubicBezTo>
                <a:cubicBezTo>
                  <a:pt x="6204284" y="243797"/>
                  <a:pt x="6214188" y="249233"/>
                  <a:pt x="6223519" y="255453"/>
                </a:cubicBezTo>
                <a:cubicBezTo>
                  <a:pt x="6251511" y="292775"/>
                  <a:pt x="6283987" y="327122"/>
                  <a:pt x="6307494" y="367420"/>
                </a:cubicBezTo>
                <a:lnTo>
                  <a:pt x="6372808" y="479388"/>
                </a:lnTo>
                <a:cubicBezTo>
                  <a:pt x="6375918" y="494939"/>
                  <a:pt x="6378292" y="510656"/>
                  <a:pt x="6382139" y="526041"/>
                </a:cubicBezTo>
                <a:cubicBezTo>
                  <a:pt x="6384524" y="535582"/>
                  <a:pt x="6391470" y="544197"/>
                  <a:pt x="6391470" y="554032"/>
                </a:cubicBezTo>
                <a:cubicBezTo>
                  <a:pt x="6391470" y="920640"/>
                  <a:pt x="6386308" y="711260"/>
                  <a:pt x="6372808" y="927257"/>
                </a:cubicBezTo>
                <a:cubicBezTo>
                  <a:pt x="6368729" y="992518"/>
                  <a:pt x="6369776" y="1058116"/>
                  <a:pt x="6363478" y="1123200"/>
                </a:cubicBezTo>
                <a:cubicBezTo>
                  <a:pt x="6357336" y="1186665"/>
                  <a:pt x="6344691" y="1216885"/>
                  <a:pt x="6326155" y="1272490"/>
                </a:cubicBezTo>
                <a:cubicBezTo>
                  <a:pt x="6323045" y="1350245"/>
                  <a:pt x="6322001" y="1428110"/>
                  <a:pt x="6316825" y="1505755"/>
                </a:cubicBezTo>
                <a:cubicBezTo>
                  <a:pt x="6313891" y="1549763"/>
                  <a:pt x="6299789" y="1564568"/>
                  <a:pt x="6288833" y="1608392"/>
                </a:cubicBezTo>
                <a:cubicBezTo>
                  <a:pt x="6284245" y="1626746"/>
                  <a:pt x="6283606" y="1645907"/>
                  <a:pt x="6279502" y="1664375"/>
                </a:cubicBezTo>
                <a:cubicBezTo>
                  <a:pt x="6277368" y="1673976"/>
                  <a:pt x="6272306" y="1682766"/>
                  <a:pt x="6270172" y="1692367"/>
                </a:cubicBezTo>
                <a:cubicBezTo>
                  <a:pt x="6266068" y="1710835"/>
                  <a:pt x="6265904" y="1730122"/>
                  <a:pt x="6260841" y="1748351"/>
                </a:cubicBezTo>
                <a:cubicBezTo>
                  <a:pt x="6250312" y="1786257"/>
                  <a:pt x="6231235" y="1821741"/>
                  <a:pt x="6223519" y="1860318"/>
                </a:cubicBezTo>
                <a:cubicBezTo>
                  <a:pt x="6220409" y="1875869"/>
                  <a:pt x="6216284" y="1891251"/>
                  <a:pt x="6214188" y="1906971"/>
                </a:cubicBezTo>
                <a:cubicBezTo>
                  <a:pt x="6210057" y="1937954"/>
                  <a:pt x="6211886" y="1969820"/>
                  <a:pt x="6204857" y="2000277"/>
                </a:cubicBezTo>
                <a:cubicBezTo>
                  <a:pt x="6202335" y="2011204"/>
                  <a:pt x="6192416" y="2018938"/>
                  <a:pt x="6186196" y="2028269"/>
                </a:cubicBezTo>
                <a:cubicBezTo>
                  <a:pt x="6183086" y="2046930"/>
                  <a:pt x="6182849" y="2066305"/>
                  <a:pt x="6176866" y="2084253"/>
                </a:cubicBezTo>
                <a:cubicBezTo>
                  <a:pt x="6173320" y="2094892"/>
                  <a:pt x="6161426" y="2101504"/>
                  <a:pt x="6158204" y="2112245"/>
                </a:cubicBezTo>
                <a:cubicBezTo>
                  <a:pt x="6151885" y="2133310"/>
                  <a:pt x="6152489" y="2155866"/>
                  <a:pt x="6148874" y="2177559"/>
                </a:cubicBezTo>
                <a:cubicBezTo>
                  <a:pt x="6147101" y="2188200"/>
                  <a:pt x="6135245" y="2248115"/>
                  <a:pt x="6130212" y="2261535"/>
                </a:cubicBezTo>
                <a:cubicBezTo>
                  <a:pt x="6125328" y="2274558"/>
                  <a:pt x="6117771" y="2286416"/>
                  <a:pt x="6111551" y="2298857"/>
                </a:cubicBezTo>
                <a:cubicBezTo>
                  <a:pt x="6108441" y="2317518"/>
                  <a:pt x="6108204" y="2336893"/>
                  <a:pt x="6102221" y="2354841"/>
                </a:cubicBezTo>
                <a:cubicBezTo>
                  <a:pt x="6098675" y="2365479"/>
                  <a:pt x="6088574" y="2372802"/>
                  <a:pt x="6083559" y="2382832"/>
                </a:cubicBezTo>
                <a:cubicBezTo>
                  <a:pt x="6079160" y="2391629"/>
                  <a:pt x="6078103" y="2401784"/>
                  <a:pt x="6074229" y="2410824"/>
                </a:cubicBezTo>
                <a:cubicBezTo>
                  <a:pt x="6068750" y="2423609"/>
                  <a:pt x="6061047" y="2435362"/>
                  <a:pt x="6055568" y="2448147"/>
                </a:cubicBezTo>
                <a:cubicBezTo>
                  <a:pt x="6045642" y="2471309"/>
                  <a:pt x="6045257" y="2492833"/>
                  <a:pt x="6027576" y="2513461"/>
                </a:cubicBezTo>
                <a:cubicBezTo>
                  <a:pt x="6017455" y="2525268"/>
                  <a:pt x="6002694" y="2532122"/>
                  <a:pt x="5990253" y="2541453"/>
                </a:cubicBezTo>
                <a:cubicBezTo>
                  <a:pt x="5984033" y="2553894"/>
                  <a:pt x="5979677" y="2567457"/>
                  <a:pt x="5971592" y="2578775"/>
                </a:cubicBezTo>
                <a:cubicBezTo>
                  <a:pt x="5963922" y="2589513"/>
                  <a:pt x="5950919" y="2595788"/>
                  <a:pt x="5943600" y="2606767"/>
                </a:cubicBezTo>
                <a:cubicBezTo>
                  <a:pt x="5938144" y="2614951"/>
                  <a:pt x="5938144" y="2625719"/>
                  <a:pt x="5934270" y="2634759"/>
                </a:cubicBezTo>
                <a:cubicBezTo>
                  <a:pt x="5917324" y="2674298"/>
                  <a:pt x="5921869" y="2665820"/>
                  <a:pt x="5896947" y="2690743"/>
                </a:cubicBezTo>
                <a:cubicBezTo>
                  <a:pt x="5885650" y="2724636"/>
                  <a:pt x="5887617" y="2708900"/>
                  <a:pt x="5887617" y="2737396"/>
                </a:cubicBezTo>
              </a:path>
            </a:pathLst>
          </a:custGeom>
          <a:noFill/>
          <a:ln w="12600">
            <a:solidFill>
              <a:srgbClr val="ffff66"/>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476" name="フリーフォーム 13"/>
          <p:cNvSpPr/>
          <p:nvPr/>
        </p:nvSpPr>
        <p:spPr>
          <a:xfrm>
            <a:off x="3135240" y="3938760"/>
            <a:ext cx="961920" cy="828360"/>
          </a:xfrm>
          <a:custGeom>
            <a:avLst/>
            <a:gdLst/>
            <a:ahLst/>
            <a:rect l="l" t="t" r="r" b="b"/>
            <a:pathLst>
              <a:path w="961663" h="828864">
                <a:moveTo>
                  <a:pt x="793102" y="828864"/>
                </a:moveTo>
                <a:cubicBezTo>
                  <a:pt x="631371" y="822644"/>
                  <a:pt x="469377" y="821339"/>
                  <a:pt x="307910" y="810203"/>
                </a:cubicBezTo>
                <a:cubicBezTo>
                  <a:pt x="268196" y="807464"/>
                  <a:pt x="237932" y="781694"/>
                  <a:pt x="205273" y="763550"/>
                </a:cubicBezTo>
                <a:cubicBezTo>
                  <a:pt x="193114" y="756795"/>
                  <a:pt x="180110" y="751643"/>
                  <a:pt x="167951" y="744888"/>
                </a:cubicBezTo>
                <a:cubicBezTo>
                  <a:pt x="135693" y="726967"/>
                  <a:pt x="112027" y="712282"/>
                  <a:pt x="83975" y="688905"/>
                </a:cubicBezTo>
                <a:cubicBezTo>
                  <a:pt x="77217" y="683273"/>
                  <a:pt x="71534" y="676464"/>
                  <a:pt x="65314" y="670243"/>
                </a:cubicBezTo>
                <a:cubicBezTo>
                  <a:pt x="62204" y="660913"/>
                  <a:pt x="55983" y="652087"/>
                  <a:pt x="55983" y="642252"/>
                </a:cubicBezTo>
                <a:cubicBezTo>
                  <a:pt x="55983" y="555110"/>
                  <a:pt x="57425" y="467778"/>
                  <a:pt x="65314" y="380994"/>
                </a:cubicBezTo>
                <a:cubicBezTo>
                  <a:pt x="66830" y="364314"/>
                  <a:pt x="74684" y="348277"/>
                  <a:pt x="83975" y="334341"/>
                </a:cubicBezTo>
                <a:cubicBezTo>
                  <a:pt x="198594" y="162413"/>
                  <a:pt x="119944" y="291833"/>
                  <a:pt x="186612" y="213043"/>
                </a:cubicBezTo>
                <a:cubicBezTo>
                  <a:pt x="212340" y="182637"/>
                  <a:pt x="239164" y="152878"/>
                  <a:pt x="261257" y="119737"/>
                </a:cubicBezTo>
                <a:cubicBezTo>
                  <a:pt x="267477" y="110406"/>
                  <a:pt x="271989" y="99674"/>
                  <a:pt x="279918" y="91745"/>
                </a:cubicBezTo>
                <a:cubicBezTo>
                  <a:pt x="293105" y="78558"/>
                  <a:pt x="330597" y="61741"/>
                  <a:pt x="345232" y="54423"/>
                </a:cubicBezTo>
                <a:cubicBezTo>
                  <a:pt x="617044" y="67065"/>
                  <a:pt x="660483" y="0"/>
                  <a:pt x="802432" y="110407"/>
                </a:cubicBezTo>
                <a:cubicBezTo>
                  <a:pt x="818778" y="123121"/>
                  <a:pt x="849190" y="158807"/>
                  <a:pt x="858416" y="175721"/>
                </a:cubicBezTo>
                <a:cubicBezTo>
                  <a:pt x="869758" y="196515"/>
                  <a:pt x="876268" y="219629"/>
                  <a:pt x="886408" y="241035"/>
                </a:cubicBezTo>
                <a:cubicBezTo>
                  <a:pt x="904271" y="278746"/>
                  <a:pt x="942392" y="353003"/>
                  <a:pt x="942392" y="353003"/>
                </a:cubicBezTo>
                <a:cubicBezTo>
                  <a:pt x="959855" y="457789"/>
                  <a:pt x="961663" y="444339"/>
                  <a:pt x="942392" y="604929"/>
                </a:cubicBezTo>
                <a:cubicBezTo>
                  <a:pt x="940735" y="618739"/>
                  <a:pt x="931446" y="630679"/>
                  <a:pt x="923730" y="642252"/>
                </a:cubicBezTo>
                <a:cubicBezTo>
                  <a:pt x="912683" y="658822"/>
                  <a:pt x="900490" y="674823"/>
                  <a:pt x="886408" y="688905"/>
                </a:cubicBezTo>
                <a:cubicBezTo>
                  <a:pt x="865700" y="709613"/>
                  <a:pt x="826126" y="730079"/>
                  <a:pt x="802432" y="744888"/>
                </a:cubicBezTo>
                <a:cubicBezTo>
                  <a:pt x="792923" y="750831"/>
                  <a:pt x="784748" y="759133"/>
                  <a:pt x="774441" y="763550"/>
                </a:cubicBezTo>
                <a:cubicBezTo>
                  <a:pt x="762654" y="768602"/>
                  <a:pt x="749559" y="769770"/>
                  <a:pt x="737118" y="772880"/>
                </a:cubicBezTo>
                <a:lnTo>
                  <a:pt x="270587" y="763550"/>
                </a:lnTo>
                <a:cubicBezTo>
                  <a:pt x="228644" y="761997"/>
                  <a:pt x="238462" y="752152"/>
                  <a:pt x="205273" y="735558"/>
                </a:cubicBezTo>
                <a:cubicBezTo>
                  <a:pt x="190292" y="728068"/>
                  <a:pt x="173925" y="723699"/>
                  <a:pt x="158620" y="716897"/>
                </a:cubicBezTo>
                <a:cubicBezTo>
                  <a:pt x="145910" y="711248"/>
                  <a:pt x="133739" y="704456"/>
                  <a:pt x="121298" y="698235"/>
                </a:cubicBezTo>
                <a:cubicBezTo>
                  <a:pt x="75829" y="630034"/>
                  <a:pt x="136345" y="710775"/>
                  <a:pt x="65314" y="651582"/>
                </a:cubicBezTo>
                <a:cubicBezTo>
                  <a:pt x="56699" y="644403"/>
                  <a:pt x="53171" y="632715"/>
                  <a:pt x="46653" y="623590"/>
                </a:cubicBezTo>
                <a:cubicBezTo>
                  <a:pt x="37614" y="610936"/>
                  <a:pt x="27992" y="598709"/>
                  <a:pt x="18661" y="586268"/>
                </a:cubicBezTo>
                <a:cubicBezTo>
                  <a:pt x="14260" y="573066"/>
                  <a:pt x="0" y="532673"/>
                  <a:pt x="0" y="520954"/>
                </a:cubicBezTo>
                <a:cubicBezTo>
                  <a:pt x="0" y="483502"/>
                  <a:pt x="4685" y="446149"/>
                  <a:pt x="9330" y="408986"/>
                </a:cubicBezTo>
                <a:cubicBezTo>
                  <a:pt x="10921" y="396261"/>
                  <a:pt x="12433" y="382874"/>
                  <a:pt x="18661" y="371664"/>
                </a:cubicBezTo>
                <a:cubicBezTo>
                  <a:pt x="51594" y="312384"/>
                  <a:pt x="55488" y="338111"/>
                  <a:pt x="93306" y="287688"/>
                </a:cubicBezTo>
                <a:lnTo>
                  <a:pt x="121298" y="250366"/>
                </a:lnTo>
                <a:cubicBezTo>
                  <a:pt x="124408" y="241035"/>
                  <a:pt x="125568" y="230808"/>
                  <a:pt x="130628" y="222374"/>
                </a:cubicBezTo>
                <a:cubicBezTo>
                  <a:pt x="138066" y="209978"/>
                  <a:pt x="166386" y="190500"/>
                  <a:pt x="177281" y="185052"/>
                </a:cubicBezTo>
                <a:cubicBezTo>
                  <a:pt x="186078" y="180653"/>
                  <a:pt x="195816" y="178423"/>
                  <a:pt x="205273" y="175721"/>
                </a:cubicBezTo>
                <a:cubicBezTo>
                  <a:pt x="259911" y="160110"/>
                  <a:pt x="261543" y="164495"/>
                  <a:pt x="335902" y="157060"/>
                </a:cubicBezTo>
                <a:cubicBezTo>
                  <a:pt x="399301" y="135926"/>
                  <a:pt x="354059" y="147729"/>
                  <a:pt x="475861" y="147729"/>
                </a:cubicBezTo>
              </a:path>
            </a:pathLst>
          </a:custGeom>
          <a:noFill/>
          <a:ln w="12600">
            <a:solidFill>
              <a:srgbClr val="ffff66"/>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477" name="フリーフォーム 14"/>
          <p:cNvSpPr/>
          <p:nvPr/>
        </p:nvSpPr>
        <p:spPr>
          <a:xfrm>
            <a:off x="3583080" y="4610160"/>
            <a:ext cx="663480" cy="474480"/>
          </a:xfrm>
          <a:custGeom>
            <a:avLst/>
            <a:gdLst/>
            <a:ahLst/>
            <a:rect l="l" t="t" r="r" b="b"/>
            <a:pathLst>
              <a:path w="664364" h="475862">
                <a:moveTo>
                  <a:pt x="382555" y="475862"/>
                </a:moveTo>
                <a:lnTo>
                  <a:pt x="223935" y="457200"/>
                </a:lnTo>
                <a:cubicBezTo>
                  <a:pt x="192869" y="453748"/>
                  <a:pt x="161279" y="454000"/>
                  <a:pt x="130629" y="447870"/>
                </a:cubicBezTo>
                <a:cubicBezTo>
                  <a:pt x="114205" y="444585"/>
                  <a:pt x="99658" y="435090"/>
                  <a:pt x="83976" y="429209"/>
                </a:cubicBezTo>
                <a:cubicBezTo>
                  <a:pt x="74767" y="425756"/>
                  <a:pt x="65315" y="422988"/>
                  <a:pt x="55984" y="419878"/>
                </a:cubicBezTo>
                <a:cubicBezTo>
                  <a:pt x="9370" y="349958"/>
                  <a:pt x="26991" y="384718"/>
                  <a:pt x="0" y="317241"/>
                </a:cubicBezTo>
                <a:cubicBezTo>
                  <a:pt x="875" y="310242"/>
                  <a:pt x="8388" y="225821"/>
                  <a:pt x="18661" y="205274"/>
                </a:cubicBezTo>
                <a:cubicBezTo>
                  <a:pt x="25616" y="191365"/>
                  <a:pt x="37735" y="180691"/>
                  <a:pt x="46653" y="167951"/>
                </a:cubicBezTo>
                <a:cubicBezTo>
                  <a:pt x="59515" y="149577"/>
                  <a:pt x="65315" y="124409"/>
                  <a:pt x="83976" y="111968"/>
                </a:cubicBezTo>
                <a:cubicBezTo>
                  <a:pt x="102637" y="99527"/>
                  <a:pt x="124100" y="90504"/>
                  <a:pt x="139959" y="74645"/>
                </a:cubicBezTo>
                <a:cubicBezTo>
                  <a:pt x="154042" y="60563"/>
                  <a:pt x="175532" y="35414"/>
                  <a:pt x="195943" y="27992"/>
                </a:cubicBezTo>
                <a:cubicBezTo>
                  <a:pt x="235285" y="13686"/>
                  <a:pt x="284870" y="6951"/>
                  <a:pt x="326572" y="0"/>
                </a:cubicBezTo>
                <a:cubicBezTo>
                  <a:pt x="385209" y="8377"/>
                  <a:pt x="394411" y="5718"/>
                  <a:pt x="447869" y="27992"/>
                </a:cubicBezTo>
                <a:cubicBezTo>
                  <a:pt x="577439" y="81980"/>
                  <a:pt x="453518" y="39205"/>
                  <a:pt x="531845" y="65315"/>
                </a:cubicBezTo>
                <a:cubicBezTo>
                  <a:pt x="544286" y="74646"/>
                  <a:pt x="558171" y="82311"/>
                  <a:pt x="569167" y="93307"/>
                </a:cubicBezTo>
                <a:cubicBezTo>
                  <a:pt x="580163" y="104303"/>
                  <a:pt x="587203" y="118683"/>
                  <a:pt x="597159" y="130629"/>
                </a:cubicBezTo>
                <a:cubicBezTo>
                  <a:pt x="602791" y="137387"/>
                  <a:pt x="609600" y="143070"/>
                  <a:pt x="615821" y="149290"/>
                </a:cubicBezTo>
                <a:cubicBezTo>
                  <a:pt x="657541" y="232732"/>
                  <a:pt x="644346" y="197544"/>
                  <a:pt x="662474" y="251927"/>
                </a:cubicBezTo>
                <a:cubicBezTo>
                  <a:pt x="659364" y="283029"/>
                  <a:pt x="664364" y="316059"/>
                  <a:pt x="653143" y="345233"/>
                </a:cubicBezTo>
                <a:cubicBezTo>
                  <a:pt x="647561" y="359747"/>
                  <a:pt x="629730" y="366270"/>
                  <a:pt x="615821" y="373225"/>
                </a:cubicBezTo>
                <a:cubicBezTo>
                  <a:pt x="604351" y="378960"/>
                  <a:pt x="590829" y="379033"/>
                  <a:pt x="578498" y="382556"/>
                </a:cubicBezTo>
                <a:cubicBezTo>
                  <a:pt x="511556" y="401682"/>
                  <a:pt x="598696" y="382248"/>
                  <a:pt x="503853" y="401217"/>
                </a:cubicBezTo>
                <a:cubicBezTo>
                  <a:pt x="286907" y="394437"/>
                  <a:pt x="269758" y="451156"/>
                  <a:pt x="167951" y="363894"/>
                </a:cubicBezTo>
                <a:cubicBezTo>
                  <a:pt x="157932" y="355306"/>
                  <a:pt x="149290" y="345233"/>
                  <a:pt x="139959" y="335902"/>
                </a:cubicBezTo>
                <a:cubicBezTo>
                  <a:pt x="110988" y="248989"/>
                  <a:pt x="109351" y="267629"/>
                  <a:pt x="130629" y="139960"/>
                </a:cubicBezTo>
                <a:cubicBezTo>
                  <a:pt x="132473" y="128899"/>
                  <a:pt x="140675" y="119147"/>
                  <a:pt x="149290" y="111968"/>
                </a:cubicBezTo>
                <a:cubicBezTo>
                  <a:pt x="159975" y="103064"/>
                  <a:pt x="174536" y="100208"/>
                  <a:pt x="186612" y="93307"/>
                </a:cubicBezTo>
                <a:cubicBezTo>
                  <a:pt x="236730" y="64668"/>
                  <a:pt x="190624" y="80639"/>
                  <a:pt x="251927" y="65315"/>
                </a:cubicBezTo>
                <a:cubicBezTo>
                  <a:pt x="291533" y="45512"/>
                  <a:pt x="284225" y="45793"/>
                  <a:pt x="326572" y="37323"/>
                </a:cubicBezTo>
                <a:cubicBezTo>
                  <a:pt x="345123" y="33613"/>
                  <a:pt x="382555" y="27992"/>
                  <a:pt x="382555" y="27992"/>
                </a:cubicBezTo>
              </a:path>
            </a:pathLst>
          </a:custGeom>
          <a:noFill/>
          <a:ln w="12600">
            <a:solidFill>
              <a:srgbClr val="fcccf5"/>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478" name="フリーフォーム 15"/>
          <p:cNvSpPr/>
          <p:nvPr/>
        </p:nvSpPr>
        <p:spPr>
          <a:xfrm>
            <a:off x="3946680" y="4897440"/>
            <a:ext cx="544320" cy="312840"/>
          </a:xfrm>
          <a:custGeom>
            <a:avLst/>
            <a:gdLst/>
            <a:ahLst/>
            <a:rect l="l" t="t" r="r" b="b"/>
            <a:pathLst>
              <a:path w="544202" h="312695">
                <a:moveTo>
                  <a:pt x="354563" y="271260"/>
                </a:moveTo>
                <a:cubicBezTo>
                  <a:pt x="345232" y="274370"/>
                  <a:pt x="336358" y="281570"/>
                  <a:pt x="326571" y="280591"/>
                </a:cubicBezTo>
                <a:cubicBezTo>
                  <a:pt x="304041" y="278338"/>
                  <a:pt x="281870" y="271300"/>
                  <a:pt x="261257" y="261930"/>
                </a:cubicBezTo>
                <a:cubicBezTo>
                  <a:pt x="247100" y="255495"/>
                  <a:pt x="236589" y="242977"/>
                  <a:pt x="223935" y="233938"/>
                </a:cubicBezTo>
                <a:cubicBezTo>
                  <a:pt x="214810" y="227420"/>
                  <a:pt x="205746" y="220723"/>
                  <a:pt x="195943" y="215277"/>
                </a:cubicBezTo>
                <a:cubicBezTo>
                  <a:pt x="177705" y="205145"/>
                  <a:pt x="158620" y="196616"/>
                  <a:pt x="139959" y="187285"/>
                </a:cubicBezTo>
                <a:cubicBezTo>
                  <a:pt x="129200" y="155005"/>
                  <a:pt x="120254" y="142719"/>
                  <a:pt x="139959" y="103309"/>
                </a:cubicBezTo>
                <a:cubicBezTo>
                  <a:pt x="144974" y="93279"/>
                  <a:pt x="157703" y="89202"/>
                  <a:pt x="167951" y="84648"/>
                </a:cubicBezTo>
                <a:cubicBezTo>
                  <a:pt x="185926" y="76659"/>
                  <a:pt x="205274" y="72207"/>
                  <a:pt x="223935" y="65987"/>
                </a:cubicBezTo>
                <a:cubicBezTo>
                  <a:pt x="233266" y="62877"/>
                  <a:pt x="243743" y="62112"/>
                  <a:pt x="251927" y="56656"/>
                </a:cubicBezTo>
                <a:cubicBezTo>
                  <a:pt x="336909" y="0"/>
                  <a:pt x="268716" y="38504"/>
                  <a:pt x="485192" y="28664"/>
                </a:cubicBezTo>
                <a:cubicBezTo>
                  <a:pt x="491412" y="41105"/>
                  <a:pt x="496481" y="54192"/>
                  <a:pt x="503853" y="65987"/>
                </a:cubicBezTo>
                <a:cubicBezTo>
                  <a:pt x="544202" y="130545"/>
                  <a:pt x="522845" y="76306"/>
                  <a:pt x="541175" y="131301"/>
                </a:cubicBezTo>
                <a:cubicBezTo>
                  <a:pt x="537092" y="159884"/>
                  <a:pt x="540560" y="202706"/>
                  <a:pt x="513184" y="224607"/>
                </a:cubicBezTo>
                <a:cubicBezTo>
                  <a:pt x="505504" y="230751"/>
                  <a:pt x="494776" y="231726"/>
                  <a:pt x="485192" y="233938"/>
                </a:cubicBezTo>
                <a:cubicBezTo>
                  <a:pt x="454286" y="241070"/>
                  <a:pt x="422988" y="246379"/>
                  <a:pt x="391886" y="252599"/>
                </a:cubicBezTo>
                <a:lnTo>
                  <a:pt x="345233" y="261930"/>
                </a:lnTo>
                <a:cubicBezTo>
                  <a:pt x="242596" y="258820"/>
                  <a:pt x="139651" y="261127"/>
                  <a:pt x="37322" y="252599"/>
                </a:cubicBezTo>
                <a:cubicBezTo>
                  <a:pt x="26147" y="251668"/>
                  <a:pt x="15551" y="243268"/>
                  <a:pt x="9331" y="233938"/>
                </a:cubicBezTo>
                <a:cubicBezTo>
                  <a:pt x="2218" y="223268"/>
                  <a:pt x="3110" y="209056"/>
                  <a:pt x="0" y="196615"/>
                </a:cubicBezTo>
                <a:cubicBezTo>
                  <a:pt x="3489" y="175683"/>
                  <a:pt x="3393" y="129040"/>
                  <a:pt x="27992" y="112640"/>
                </a:cubicBezTo>
                <a:cubicBezTo>
                  <a:pt x="38662" y="105527"/>
                  <a:pt x="52640" y="105259"/>
                  <a:pt x="65314" y="103309"/>
                </a:cubicBezTo>
                <a:cubicBezTo>
                  <a:pt x="131804" y="93080"/>
                  <a:pt x="227366" y="88774"/>
                  <a:pt x="289249" y="84648"/>
                </a:cubicBezTo>
                <a:cubicBezTo>
                  <a:pt x="351453" y="87758"/>
                  <a:pt x="430581" y="51215"/>
                  <a:pt x="475861" y="93979"/>
                </a:cubicBezTo>
                <a:cubicBezTo>
                  <a:pt x="512321" y="128413"/>
                  <a:pt x="468079" y="194312"/>
                  <a:pt x="457200" y="243268"/>
                </a:cubicBezTo>
                <a:cubicBezTo>
                  <a:pt x="455292" y="251856"/>
                  <a:pt x="446407" y="257996"/>
                  <a:pt x="438539" y="261930"/>
                </a:cubicBezTo>
                <a:cubicBezTo>
                  <a:pt x="420945" y="270727"/>
                  <a:pt x="401216" y="274371"/>
                  <a:pt x="382555" y="280591"/>
                </a:cubicBezTo>
                <a:lnTo>
                  <a:pt x="354563" y="289921"/>
                </a:lnTo>
                <a:cubicBezTo>
                  <a:pt x="179752" y="260787"/>
                  <a:pt x="211992" y="312695"/>
                  <a:pt x="177282" y="243268"/>
                </a:cubicBezTo>
              </a:path>
            </a:pathLst>
          </a:custGeom>
          <a:noFill/>
          <a:ln w="12600">
            <a:solidFill>
              <a:srgbClr val="f2c74c"/>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479" name="フリーフォーム 16"/>
          <p:cNvSpPr/>
          <p:nvPr/>
        </p:nvSpPr>
        <p:spPr>
          <a:xfrm>
            <a:off x="503280" y="554040"/>
            <a:ext cx="6410160" cy="3989520"/>
          </a:xfrm>
          <a:custGeom>
            <a:avLst/>
            <a:gdLst/>
            <a:ahLst/>
            <a:rect l="l" t="t" r="r" b="b"/>
            <a:pathLst>
              <a:path w="6410131" h="3990033">
                <a:moveTo>
                  <a:pt x="3452327" y="3840743"/>
                </a:moveTo>
                <a:cubicBezTo>
                  <a:pt x="3338821" y="3878580"/>
                  <a:pt x="3405190" y="3859405"/>
                  <a:pt x="3144416" y="3859405"/>
                </a:cubicBezTo>
                <a:cubicBezTo>
                  <a:pt x="2914240" y="3859405"/>
                  <a:pt x="2684106" y="3853184"/>
                  <a:pt x="2453951" y="3850074"/>
                </a:cubicBezTo>
                <a:lnTo>
                  <a:pt x="2174033" y="3803421"/>
                </a:lnTo>
                <a:cubicBezTo>
                  <a:pt x="2145809" y="3798355"/>
                  <a:pt x="2118225" y="3790125"/>
                  <a:pt x="2090057" y="3784760"/>
                </a:cubicBezTo>
                <a:cubicBezTo>
                  <a:pt x="2052888" y="3777680"/>
                  <a:pt x="2015246" y="3773243"/>
                  <a:pt x="1978090" y="3766098"/>
                </a:cubicBezTo>
                <a:cubicBezTo>
                  <a:pt x="1701132" y="3712837"/>
                  <a:pt x="1945693" y="3754480"/>
                  <a:pt x="1791478" y="3728776"/>
                </a:cubicBezTo>
                <a:cubicBezTo>
                  <a:pt x="1751045" y="3710115"/>
                  <a:pt x="1711420" y="3689594"/>
                  <a:pt x="1670180" y="3672792"/>
                </a:cubicBezTo>
                <a:cubicBezTo>
                  <a:pt x="1534904" y="3617680"/>
                  <a:pt x="1569409" y="3649093"/>
                  <a:pt x="1474237" y="3588817"/>
                </a:cubicBezTo>
                <a:cubicBezTo>
                  <a:pt x="1402087" y="3543122"/>
                  <a:pt x="1315213" y="3513701"/>
                  <a:pt x="1259633" y="3448858"/>
                </a:cubicBezTo>
                <a:cubicBezTo>
                  <a:pt x="1034141" y="3185785"/>
                  <a:pt x="1261196" y="3431565"/>
                  <a:pt x="1035698" y="3234254"/>
                </a:cubicBezTo>
                <a:cubicBezTo>
                  <a:pt x="1020711" y="3221140"/>
                  <a:pt x="1013497" y="3200561"/>
                  <a:pt x="998376" y="3187601"/>
                </a:cubicBezTo>
                <a:cubicBezTo>
                  <a:pt x="969551" y="3162894"/>
                  <a:pt x="933802" y="3147101"/>
                  <a:pt x="905069" y="3122286"/>
                </a:cubicBezTo>
                <a:cubicBezTo>
                  <a:pt x="865123" y="3087787"/>
                  <a:pt x="833177" y="3044669"/>
                  <a:pt x="793102" y="3010319"/>
                </a:cubicBezTo>
                <a:cubicBezTo>
                  <a:pt x="767559" y="2988425"/>
                  <a:pt x="733647" y="2977369"/>
                  <a:pt x="709127" y="2954335"/>
                </a:cubicBezTo>
                <a:cubicBezTo>
                  <a:pt x="630568" y="2880537"/>
                  <a:pt x="560148" y="2798525"/>
                  <a:pt x="485192" y="2721070"/>
                </a:cubicBezTo>
                <a:cubicBezTo>
                  <a:pt x="423434" y="2657254"/>
                  <a:pt x="401572" y="2639281"/>
                  <a:pt x="326571" y="2571780"/>
                </a:cubicBezTo>
                <a:cubicBezTo>
                  <a:pt x="298733" y="2546726"/>
                  <a:pt x="265067" y="2527096"/>
                  <a:pt x="242596" y="2497135"/>
                </a:cubicBezTo>
                <a:cubicBezTo>
                  <a:pt x="210708" y="2454619"/>
                  <a:pt x="187990" y="2425766"/>
                  <a:pt x="158620" y="2375837"/>
                </a:cubicBezTo>
                <a:cubicBezTo>
                  <a:pt x="113954" y="2299905"/>
                  <a:pt x="122433" y="2292492"/>
                  <a:pt x="83976" y="2207886"/>
                </a:cubicBezTo>
                <a:cubicBezTo>
                  <a:pt x="15398" y="2057015"/>
                  <a:pt x="40221" y="2144832"/>
                  <a:pt x="18661" y="2058596"/>
                </a:cubicBezTo>
                <a:cubicBezTo>
                  <a:pt x="15278" y="2028146"/>
                  <a:pt x="0" y="1895734"/>
                  <a:pt x="0" y="1871984"/>
                </a:cubicBezTo>
                <a:cubicBezTo>
                  <a:pt x="0" y="1744428"/>
                  <a:pt x="4429" y="1616891"/>
                  <a:pt x="9331" y="1489429"/>
                </a:cubicBezTo>
                <a:cubicBezTo>
                  <a:pt x="12451" y="1408321"/>
                  <a:pt x="30244" y="1289042"/>
                  <a:pt x="55984" y="1218841"/>
                </a:cubicBezTo>
                <a:cubicBezTo>
                  <a:pt x="90838" y="1123784"/>
                  <a:pt x="112970" y="1124891"/>
                  <a:pt x="158620" y="1060221"/>
                </a:cubicBezTo>
                <a:cubicBezTo>
                  <a:pt x="184488" y="1023575"/>
                  <a:pt x="205620" y="983578"/>
                  <a:pt x="233265" y="948254"/>
                </a:cubicBezTo>
                <a:cubicBezTo>
                  <a:pt x="261761" y="911842"/>
                  <a:pt x="298485" y="882345"/>
                  <a:pt x="326571" y="845617"/>
                </a:cubicBezTo>
                <a:cubicBezTo>
                  <a:pt x="339245" y="829043"/>
                  <a:pt x="339209" y="803759"/>
                  <a:pt x="354563" y="789633"/>
                </a:cubicBezTo>
                <a:cubicBezTo>
                  <a:pt x="416042" y="733072"/>
                  <a:pt x="622427" y="568109"/>
                  <a:pt x="727788" y="547037"/>
                </a:cubicBezTo>
                <a:cubicBezTo>
                  <a:pt x="1009202" y="490755"/>
                  <a:pt x="658554" y="562422"/>
                  <a:pt x="895739" y="509715"/>
                </a:cubicBezTo>
                <a:cubicBezTo>
                  <a:pt x="926702" y="502834"/>
                  <a:pt x="958051" y="497792"/>
                  <a:pt x="989045" y="491054"/>
                </a:cubicBezTo>
                <a:cubicBezTo>
                  <a:pt x="1029593" y="482239"/>
                  <a:pt x="1069541" y="470618"/>
                  <a:pt x="1110343" y="463062"/>
                </a:cubicBezTo>
                <a:cubicBezTo>
                  <a:pt x="1153592" y="455053"/>
                  <a:pt x="1197428" y="450621"/>
                  <a:pt x="1240971" y="444401"/>
                </a:cubicBezTo>
                <a:cubicBezTo>
                  <a:pt x="1328630" y="409337"/>
                  <a:pt x="1277632" y="424165"/>
                  <a:pt x="1427584" y="416409"/>
                </a:cubicBezTo>
                <a:lnTo>
                  <a:pt x="1828800" y="397747"/>
                </a:lnTo>
                <a:lnTo>
                  <a:pt x="2425959" y="379086"/>
                </a:lnTo>
                <a:cubicBezTo>
                  <a:pt x="2519265" y="382196"/>
                  <a:pt x="2612520" y="388417"/>
                  <a:pt x="2705878" y="388417"/>
                </a:cubicBezTo>
                <a:cubicBezTo>
                  <a:pt x="2755738" y="388417"/>
                  <a:pt x="2805331" y="380643"/>
                  <a:pt x="2855167" y="379086"/>
                </a:cubicBezTo>
                <a:cubicBezTo>
                  <a:pt x="3004417" y="374422"/>
                  <a:pt x="3153747" y="372866"/>
                  <a:pt x="3303037" y="369756"/>
                </a:cubicBezTo>
                <a:lnTo>
                  <a:pt x="5561045" y="379086"/>
                </a:lnTo>
                <a:cubicBezTo>
                  <a:pt x="5599511" y="379692"/>
                  <a:pt x="5635288" y="399533"/>
                  <a:pt x="5673012" y="407078"/>
                </a:cubicBezTo>
                <a:cubicBezTo>
                  <a:pt x="5704114" y="413298"/>
                  <a:pt x="5735412" y="418607"/>
                  <a:pt x="5766318" y="425739"/>
                </a:cubicBezTo>
                <a:cubicBezTo>
                  <a:pt x="5810551" y="435947"/>
                  <a:pt x="5814222" y="453074"/>
                  <a:pt x="5868955" y="472392"/>
                </a:cubicBezTo>
                <a:cubicBezTo>
                  <a:pt x="5895995" y="481936"/>
                  <a:pt x="5924939" y="484833"/>
                  <a:pt x="5952931" y="491054"/>
                </a:cubicBezTo>
                <a:cubicBezTo>
                  <a:pt x="5974702" y="509715"/>
                  <a:pt x="5995854" y="529124"/>
                  <a:pt x="6018245" y="547037"/>
                </a:cubicBezTo>
                <a:cubicBezTo>
                  <a:pt x="6103501" y="615241"/>
                  <a:pt x="5952304" y="472388"/>
                  <a:pt x="6111551" y="621682"/>
                </a:cubicBezTo>
                <a:cubicBezTo>
                  <a:pt x="6140431" y="648757"/>
                  <a:pt x="6167535" y="677666"/>
                  <a:pt x="6195527" y="705658"/>
                </a:cubicBezTo>
                <a:cubicBezTo>
                  <a:pt x="6204857" y="724319"/>
                  <a:pt x="6211945" y="744281"/>
                  <a:pt x="6223518" y="761641"/>
                </a:cubicBezTo>
                <a:cubicBezTo>
                  <a:pt x="6271641" y="833826"/>
                  <a:pt x="6295096" y="851880"/>
                  <a:pt x="6354147" y="910931"/>
                </a:cubicBezTo>
                <a:cubicBezTo>
                  <a:pt x="6359738" y="923976"/>
                  <a:pt x="6399687" y="1012196"/>
                  <a:pt x="6400800" y="1032229"/>
                </a:cubicBezTo>
                <a:cubicBezTo>
                  <a:pt x="6402877" y="1069623"/>
                  <a:pt x="6394579" y="1106874"/>
                  <a:pt x="6391469" y="1144196"/>
                </a:cubicBezTo>
                <a:cubicBezTo>
                  <a:pt x="6394579" y="1203290"/>
                  <a:pt x="6397109" y="1262417"/>
                  <a:pt x="6400800" y="1321478"/>
                </a:cubicBezTo>
                <a:cubicBezTo>
                  <a:pt x="6403330" y="1361951"/>
                  <a:pt x="6410131" y="1402224"/>
                  <a:pt x="6410131" y="1442776"/>
                </a:cubicBezTo>
                <a:cubicBezTo>
                  <a:pt x="6410131" y="1604537"/>
                  <a:pt x="6405700" y="1766282"/>
                  <a:pt x="6400800" y="1927968"/>
                </a:cubicBezTo>
                <a:cubicBezTo>
                  <a:pt x="6396608" y="2066293"/>
                  <a:pt x="6404960" y="2027115"/>
                  <a:pt x="6363478" y="2123911"/>
                </a:cubicBezTo>
                <a:cubicBezTo>
                  <a:pt x="6357257" y="2170564"/>
                  <a:pt x="6351472" y="2217277"/>
                  <a:pt x="6344816" y="2263870"/>
                </a:cubicBezTo>
                <a:cubicBezTo>
                  <a:pt x="6339031" y="2304367"/>
                  <a:pt x="6331229" y="2344576"/>
                  <a:pt x="6326155" y="2385168"/>
                </a:cubicBezTo>
                <a:cubicBezTo>
                  <a:pt x="6321894" y="2419256"/>
                  <a:pt x="6325409" y="2454541"/>
                  <a:pt x="6316825" y="2487805"/>
                </a:cubicBezTo>
                <a:cubicBezTo>
                  <a:pt x="6266954" y="2681056"/>
                  <a:pt x="6273182" y="2637244"/>
                  <a:pt x="6186196" y="2767723"/>
                </a:cubicBezTo>
                <a:cubicBezTo>
                  <a:pt x="6176136" y="2782813"/>
                  <a:pt x="6168561" y="2799489"/>
                  <a:pt x="6158204" y="2814376"/>
                </a:cubicBezTo>
                <a:cubicBezTo>
                  <a:pt x="6118768" y="2871066"/>
                  <a:pt x="6067790" y="2920560"/>
                  <a:pt x="6036906" y="2982327"/>
                </a:cubicBezTo>
                <a:cubicBezTo>
                  <a:pt x="6015548" y="3025042"/>
                  <a:pt x="6011304" y="3041876"/>
                  <a:pt x="5980923" y="3075633"/>
                </a:cubicBezTo>
                <a:cubicBezTo>
                  <a:pt x="5963268" y="3095249"/>
                  <a:pt x="5949443" y="3121816"/>
                  <a:pt x="5924939" y="3131617"/>
                </a:cubicBezTo>
                <a:cubicBezTo>
                  <a:pt x="5884807" y="3147670"/>
                  <a:pt x="5861012" y="3155689"/>
                  <a:pt x="5822302" y="3178270"/>
                </a:cubicBezTo>
                <a:cubicBezTo>
                  <a:pt x="5802929" y="3189571"/>
                  <a:pt x="5785791" y="3204465"/>
                  <a:pt x="5766318" y="3215592"/>
                </a:cubicBezTo>
                <a:cubicBezTo>
                  <a:pt x="5742165" y="3229394"/>
                  <a:pt x="5715029" y="3237803"/>
                  <a:pt x="5691674" y="3252915"/>
                </a:cubicBezTo>
                <a:cubicBezTo>
                  <a:pt x="5550716" y="3344124"/>
                  <a:pt x="5664335" y="3299350"/>
                  <a:pt x="5551714" y="3336890"/>
                </a:cubicBezTo>
                <a:cubicBezTo>
                  <a:pt x="5514996" y="3373610"/>
                  <a:pt x="5546781" y="3347866"/>
                  <a:pt x="5467739" y="3374213"/>
                </a:cubicBezTo>
                <a:cubicBezTo>
                  <a:pt x="5451850" y="3379509"/>
                  <a:pt x="5437129" y="3388061"/>
                  <a:pt x="5421086" y="3392874"/>
                </a:cubicBezTo>
                <a:cubicBezTo>
                  <a:pt x="5394480" y="3400856"/>
                  <a:pt x="5371064" y="3399223"/>
                  <a:pt x="5346441" y="3411535"/>
                </a:cubicBezTo>
                <a:cubicBezTo>
                  <a:pt x="5324013" y="3422749"/>
                  <a:pt x="5303205" y="3436970"/>
                  <a:pt x="5281127" y="3448858"/>
                </a:cubicBezTo>
                <a:cubicBezTo>
                  <a:pt x="5262757" y="3458750"/>
                  <a:pt x="5243381" y="3466717"/>
                  <a:pt x="5225143" y="3476849"/>
                </a:cubicBezTo>
                <a:cubicBezTo>
                  <a:pt x="5215340" y="3482295"/>
                  <a:pt x="5207181" y="3490496"/>
                  <a:pt x="5197151" y="3495511"/>
                </a:cubicBezTo>
                <a:cubicBezTo>
                  <a:pt x="5169753" y="3509210"/>
                  <a:pt x="5139874" y="3517816"/>
                  <a:pt x="5113176" y="3532833"/>
                </a:cubicBezTo>
                <a:cubicBezTo>
                  <a:pt x="5089857" y="3545950"/>
                  <a:pt x="5072373" y="3568762"/>
                  <a:pt x="5047861" y="3579486"/>
                </a:cubicBezTo>
                <a:cubicBezTo>
                  <a:pt x="5005607" y="3597972"/>
                  <a:pt x="4934449" y="3599500"/>
                  <a:pt x="4889241" y="3607478"/>
                </a:cubicBezTo>
                <a:cubicBezTo>
                  <a:pt x="4861003" y="3612461"/>
                  <a:pt x="4832775" y="3618048"/>
                  <a:pt x="4805265" y="3626139"/>
                </a:cubicBezTo>
                <a:cubicBezTo>
                  <a:pt x="4779771" y="3633637"/>
                  <a:pt x="4756487" y="3648044"/>
                  <a:pt x="4730620" y="3654131"/>
                </a:cubicBezTo>
                <a:cubicBezTo>
                  <a:pt x="4703205" y="3660582"/>
                  <a:pt x="4674591" y="3659969"/>
                  <a:pt x="4646645" y="3663462"/>
                </a:cubicBezTo>
                <a:cubicBezTo>
                  <a:pt x="4624822" y="3666190"/>
                  <a:pt x="4602969" y="3668858"/>
                  <a:pt x="4581331" y="3672792"/>
                </a:cubicBezTo>
                <a:cubicBezTo>
                  <a:pt x="4508519" y="3686030"/>
                  <a:pt x="4581937" y="3681020"/>
                  <a:pt x="4488025" y="3691454"/>
                </a:cubicBezTo>
                <a:cubicBezTo>
                  <a:pt x="4450802" y="3695590"/>
                  <a:pt x="4413380" y="3697674"/>
                  <a:pt x="4376057" y="3700784"/>
                </a:cubicBezTo>
                <a:cubicBezTo>
                  <a:pt x="4336739" y="3708648"/>
                  <a:pt x="4325193" y="3706702"/>
                  <a:pt x="4292082" y="3728776"/>
                </a:cubicBezTo>
                <a:cubicBezTo>
                  <a:pt x="4217282" y="3778642"/>
                  <a:pt x="4276426" y="3758349"/>
                  <a:pt x="4208106" y="3775429"/>
                </a:cubicBezTo>
                <a:cubicBezTo>
                  <a:pt x="4078353" y="3853282"/>
                  <a:pt x="4241774" y="3758596"/>
                  <a:pt x="4114800" y="3822082"/>
                </a:cubicBezTo>
                <a:cubicBezTo>
                  <a:pt x="4104770" y="3827097"/>
                  <a:pt x="4096544" y="3835179"/>
                  <a:pt x="4086808" y="3840743"/>
                </a:cubicBezTo>
                <a:cubicBezTo>
                  <a:pt x="4074731" y="3847644"/>
                  <a:pt x="4061281" y="3852033"/>
                  <a:pt x="4049486" y="3859405"/>
                </a:cubicBezTo>
                <a:cubicBezTo>
                  <a:pt x="3989784" y="3896719"/>
                  <a:pt x="4031837" y="3874111"/>
                  <a:pt x="3993502" y="3906058"/>
                </a:cubicBezTo>
                <a:cubicBezTo>
                  <a:pt x="3981556" y="3916013"/>
                  <a:pt x="3967987" y="3923929"/>
                  <a:pt x="3956180" y="3934049"/>
                </a:cubicBezTo>
                <a:cubicBezTo>
                  <a:pt x="3946161" y="3942637"/>
                  <a:pt x="3939645" y="3955494"/>
                  <a:pt x="3928188" y="3962041"/>
                </a:cubicBezTo>
                <a:cubicBezTo>
                  <a:pt x="3917054" y="3968403"/>
                  <a:pt x="3902872" y="3966869"/>
                  <a:pt x="3890865" y="3971372"/>
                </a:cubicBezTo>
                <a:cubicBezTo>
                  <a:pt x="3877842" y="3976256"/>
                  <a:pt x="3865984" y="3983813"/>
                  <a:pt x="3853543" y="3990033"/>
                </a:cubicBezTo>
                <a:lnTo>
                  <a:pt x="3433665" y="3971372"/>
                </a:lnTo>
                <a:cubicBezTo>
                  <a:pt x="3393167" y="3969277"/>
                  <a:pt x="3352908" y="3962973"/>
                  <a:pt x="3312367" y="3962041"/>
                </a:cubicBezTo>
                <a:lnTo>
                  <a:pt x="2621902" y="3952711"/>
                </a:lnTo>
                <a:cubicBezTo>
                  <a:pt x="2441365" y="3930143"/>
                  <a:pt x="2628865" y="3955426"/>
                  <a:pt x="2500604" y="3934049"/>
                </a:cubicBezTo>
                <a:cubicBezTo>
                  <a:pt x="2478911" y="3930434"/>
                  <a:pt x="2457027" y="3928063"/>
                  <a:pt x="2435290" y="3924719"/>
                </a:cubicBezTo>
                <a:cubicBezTo>
                  <a:pt x="2416591" y="3921842"/>
                  <a:pt x="2397967" y="3918498"/>
                  <a:pt x="2379306" y="3915388"/>
                </a:cubicBezTo>
                <a:cubicBezTo>
                  <a:pt x="2303433" y="3877452"/>
                  <a:pt x="2361761" y="3905546"/>
                  <a:pt x="2230016" y="3850074"/>
                </a:cubicBezTo>
                <a:lnTo>
                  <a:pt x="2164702" y="3822082"/>
                </a:lnTo>
                <a:cubicBezTo>
                  <a:pt x="2149241" y="3815640"/>
                  <a:pt x="2134399" y="3807054"/>
                  <a:pt x="2118049" y="3803421"/>
                </a:cubicBezTo>
                <a:lnTo>
                  <a:pt x="2034074" y="3784760"/>
                </a:lnTo>
                <a:cubicBezTo>
                  <a:pt x="2006239" y="3766202"/>
                  <a:pt x="1968816" y="3740326"/>
                  <a:pt x="1940767" y="3728776"/>
                </a:cubicBezTo>
                <a:cubicBezTo>
                  <a:pt x="1910741" y="3716413"/>
                  <a:pt x="1877388" y="3713385"/>
                  <a:pt x="1847461" y="3700784"/>
                </a:cubicBezTo>
                <a:cubicBezTo>
                  <a:pt x="1817949" y="3688358"/>
                  <a:pt x="1792127" y="3668451"/>
                  <a:pt x="1763486" y="3654131"/>
                </a:cubicBezTo>
                <a:cubicBezTo>
                  <a:pt x="1754689" y="3649733"/>
                  <a:pt x="1744915" y="3647627"/>
                  <a:pt x="1735494" y="3644801"/>
                </a:cubicBezTo>
                <a:cubicBezTo>
                  <a:pt x="1713806" y="3638295"/>
                  <a:pt x="1691661" y="3633299"/>
                  <a:pt x="1670180" y="3626139"/>
                </a:cubicBezTo>
                <a:cubicBezTo>
                  <a:pt x="1654291" y="3620842"/>
                  <a:pt x="1639209" y="3613359"/>
                  <a:pt x="1623527" y="3607478"/>
                </a:cubicBezTo>
                <a:cubicBezTo>
                  <a:pt x="1614318" y="3604025"/>
                  <a:pt x="1604097" y="3602987"/>
                  <a:pt x="1595535" y="3598147"/>
                </a:cubicBezTo>
                <a:cubicBezTo>
                  <a:pt x="1532383" y="3562452"/>
                  <a:pt x="1473806" y="3518621"/>
                  <a:pt x="1408923" y="3486180"/>
                </a:cubicBezTo>
                <a:cubicBezTo>
                  <a:pt x="1384041" y="3473739"/>
                  <a:pt x="1360476" y="3458214"/>
                  <a:pt x="1334278" y="3448858"/>
                </a:cubicBezTo>
                <a:cubicBezTo>
                  <a:pt x="1316461" y="3442495"/>
                  <a:pt x="1296955" y="3442637"/>
                  <a:pt x="1278294" y="3439527"/>
                </a:cubicBezTo>
                <a:cubicBezTo>
                  <a:pt x="1253412" y="3423976"/>
                  <a:pt x="1226867" y="3410815"/>
                  <a:pt x="1203649" y="3392874"/>
                </a:cubicBezTo>
                <a:cubicBezTo>
                  <a:pt x="1158269" y="3357808"/>
                  <a:pt x="1113571" y="3321460"/>
                  <a:pt x="1073020" y="3280907"/>
                </a:cubicBezTo>
                <a:cubicBezTo>
                  <a:pt x="1066800" y="3274686"/>
                  <a:pt x="1060225" y="3268801"/>
                  <a:pt x="1054359" y="3262245"/>
                </a:cubicBezTo>
                <a:cubicBezTo>
                  <a:pt x="1007341" y="3209696"/>
                  <a:pt x="964260" y="3153485"/>
                  <a:pt x="914400" y="3103625"/>
                </a:cubicBezTo>
                <a:cubicBezTo>
                  <a:pt x="880188" y="3069413"/>
                  <a:pt x="848932" y="3031963"/>
                  <a:pt x="811763" y="3000988"/>
                </a:cubicBezTo>
                <a:cubicBezTo>
                  <a:pt x="793102" y="2985437"/>
                  <a:pt x="773440" y="2971014"/>
                  <a:pt x="755780" y="2954335"/>
                </a:cubicBezTo>
                <a:cubicBezTo>
                  <a:pt x="717407" y="2918094"/>
                  <a:pt x="681135" y="2879691"/>
                  <a:pt x="643812" y="2842368"/>
                </a:cubicBezTo>
                <a:cubicBezTo>
                  <a:pt x="615820" y="2814376"/>
                  <a:pt x="585600" y="2788448"/>
                  <a:pt x="559837" y="2758392"/>
                </a:cubicBezTo>
                <a:cubicBezTo>
                  <a:pt x="522514" y="2714849"/>
                  <a:pt x="484810" y="2671631"/>
                  <a:pt x="447869" y="2627764"/>
                </a:cubicBezTo>
                <a:cubicBezTo>
                  <a:pt x="435041" y="2612531"/>
                  <a:pt x="422851" y="2596771"/>
                  <a:pt x="410547" y="2581111"/>
                </a:cubicBezTo>
                <a:cubicBezTo>
                  <a:pt x="388638" y="2553227"/>
                  <a:pt x="368585" y="2523823"/>
                  <a:pt x="345233" y="2497135"/>
                </a:cubicBezTo>
                <a:lnTo>
                  <a:pt x="279918" y="2422490"/>
                </a:lnTo>
                <a:cubicBezTo>
                  <a:pt x="270588" y="2397608"/>
                  <a:pt x="265241" y="2370842"/>
                  <a:pt x="251927" y="2347845"/>
                </a:cubicBezTo>
                <a:cubicBezTo>
                  <a:pt x="230732" y="2311235"/>
                  <a:pt x="196201" y="2283046"/>
                  <a:pt x="177282" y="2245209"/>
                </a:cubicBezTo>
                <a:cubicBezTo>
                  <a:pt x="129929" y="2150504"/>
                  <a:pt x="155390" y="2193711"/>
                  <a:pt x="102637" y="2114580"/>
                </a:cubicBezTo>
                <a:cubicBezTo>
                  <a:pt x="99527" y="2102139"/>
                  <a:pt x="98514" y="2088976"/>
                  <a:pt x="93306" y="2077258"/>
                </a:cubicBezTo>
                <a:cubicBezTo>
                  <a:pt x="85940" y="2060686"/>
                  <a:pt x="69712" y="2048199"/>
                  <a:pt x="65314" y="2030605"/>
                </a:cubicBezTo>
                <a:cubicBezTo>
                  <a:pt x="56982" y="1997277"/>
                  <a:pt x="59094" y="1962180"/>
                  <a:pt x="55984" y="1927968"/>
                </a:cubicBezTo>
                <a:cubicBezTo>
                  <a:pt x="65315" y="1834662"/>
                  <a:pt x="62167" y="1739249"/>
                  <a:pt x="83976" y="1648049"/>
                </a:cubicBezTo>
                <a:cubicBezTo>
                  <a:pt x="102193" y="1571870"/>
                  <a:pt x="170976" y="1482649"/>
                  <a:pt x="214604" y="1414784"/>
                </a:cubicBezTo>
                <a:cubicBezTo>
                  <a:pt x="224411" y="1399529"/>
                  <a:pt x="232055" y="1382888"/>
                  <a:pt x="242596" y="1368131"/>
                </a:cubicBezTo>
                <a:cubicBezTo>
                  <a:pt x="278751" y="1317513"/>
                  <a:pt x="320058" y="1270598"/>
                  <a:pt x="354563" y="1218841"/>
                </a:cubicBezTo>
                <a:cubicBezTo>
                  <a:pt x="373224" y="1190849"/>
                  <a:pt x="387538" y="1159409"/>
                  <a:pt x="410547" y="1134866"/>
                </a:cubicBezTo>
                <a:cubicBezTo>
                  <a:pt x="434801" y="1108995"/>
                  <a:pt x="470964" y="1096057"/>
                  <a:pt x="494523" y="1069552"/>
                </a:cubicBezTo>
                <a:cubicBezTo>
                  <a:pt x="650406" y="894181"/>
                  <a:pt x="493117" y="1063517"/>
                  <a:pt x="634482" y="929592"/>
                </a:cubicBezTo>
                <a:cubicBezTo>
                  <a:pt x="672799" y="893292"/>
                  <a:pt x="700622" y="843812"/>
                  <a:pt x="746449" y="817625"/>
                </a:cubicBezTo>
                <a:cubicBezTo>
                  <a:pt x="768220" y="805184"/>
                  <a:pt x="789685" y="792191"/>
                  <a:pt x="811763" y="780303"/>
                </a:cubicBezTo>
                <a:cubicBezTo>
                  <a:pt x="830133" y="770411"/>
                  <a:pt x="850554" y="764131"/>
                  <a:pt x="867747" y="752311"/>
                </a:cubicBezTo>
                <a:cubicBezTo>
                  <a:pt x="967512" y="683722"/>
                  <a:pt x="944646" y="676893"/>
                  <a:pt x="1045029" y="621682"/>
                </a:cubicBezTo>
                <a:cubicBezTo>
                  <a:pt x="1077958" y="603571"/>
                  <a:pt x="1114506" y="592714"/>
                  <a:pt x="1147665" y="575029"/>
                </a:cubicBezTo>
                <a:cubicBezTo>
                  <a:pt x="1161387" y="567711"/>
                  <a:pt x="1171336" y="554484"/>
                  <a:pt x="1184988" y="547037"/>
                </a:cubicBezTo>
                <a:cubicBezTo>
                  <a:pt x="1306467" y="480776"/>
                  <a:pt x="1348543" y="464013"/>
                  <a:pt x="1464906" y="416409"/>
                </a:cubicBezTo>
                <a:cubicBezTo>
                  <a:pt x="1485467" y="407998"/>
                  <a:pt x="1660409" y="338947"/>
                  <a:pt x="1670180" y="332433"/>
                </a:cubicBezTo>
                <a:cubicBezTo>
                  <a:pt x="1716821" y="301339"/>
                  <a:pt x="1744285" y="278013"/>
                  <a:pt x="1791478" y="257788"/>
                </a:cubicBezTo>
                <a:cubicBezTo>
                  <a:pt x="1822267" y="244593"/>
                  <a:pt x="1854823" y="235447"/>
                  <a:pt x="1884784" y="220466"/>
                </a:cubicBezTo>
                <a:cubicBezTo>
                  <a:pt x="1911028" y="207344"/>
                  <a:pt x="1932840" y="186221"/>
                  <a:pt x="1959429" y="173813"/>
                </a:cubicBezTo>
                <a:cubicBezTo>
                  <a:pt x="1997984" y="155821"/>
                  <a:pt x="2039966" y="153973"/>
                  <a:pt x="2080727" y="145821"/>
                </a:cubicBezTo>
                <a:cubicBezTo>
                  <a:pt x="2227175" y="116531"/>
                  <a:pt x="2104867" y="135708"/>
                  <a:pt x="2230016" y="117829"/>
                </a:cubicBezTo>
                <a:cubicBezTo>
                  <a:pt x="2406763" y="0"/>
                  <a:pt x="2269819" y="84209"/>
                  <a:pt x="2799184" y="80507"/>
                </a:cubicBezTo>
                <a:lnTo>
                  <a:pt x="4133461" y="71176"/>
                </a:lnTo>
                <a:cubicBezTo>
                  <a:pt x="4419600" y="74286"/>
                  <a:pt x="4705886" y="70812"/>
                  <a:pt x="4991878" y="80507"/>
                </a:cubicBezTo>
                <a:cubicBezTo>
                  <a:pt x="5073233" y="83265"/>
                  <a:pt x="5153497" y="100193"/>
                  <a:pt x="5234474" y="108498"/>
                </a:cubicBezTo>
                <a:cubicBezTo>
                  <a:pt x="5274814" y="112635"/>
                  <a:pt x="5315339" y="114719"/>
                  <a:pt x="5355771" y="117829"/>
                </a:cubicBezTo>
                <a:cubicBezTo>
                  <a:pt x="5387626" y="124200"/>
                  <a:pt x="5429659" y="130601"/>
                  <a:pt x="5458408" y="145821"/>
                </a:cubicBezTo>
                <a:cubicBezTo>
                  <a:pt x="5556092" y="197536"/>
                  <a:pt x="5540063" y="197731"/>
                  <a:pt x="5607698" y="248458"/>
                </a:cubicBezTo>
                <a:cubicBezTo>
                  <a:pt x="5638094" y="271255"/>
                  <a:pt x="5676611" y="291741"/>
                  <a:pt x="5701004" y="323103"/>
                </a:cubicBezTo>
                <a:cubicBezTo>
                  <a:pt x="5714774" y="340806"/>
                  <a:pt x="5723323" y="362416"/>
                  <a:pt x="5738327" y="379086"/>
                </a:cubicBezTo>
                <a:cubicBezTo>
                  <a:pt x="5751650" y="393889"/>
                  <a:pt x="5770244" y="403013"/>
                  <a:pt x="5784980" y="416409"/>
                </a:cubicBezTo>
                <a:cubicBezTo>
                  <a:pt x="5804507" y="434161"/>
                  <a:pt x="5822302" y="453731"/>
                  <a:pt x="5840963" y="472392"/>
                </a:cubicBezTo>
                <a:cubicBezTo>
                  <a:pt x="5859361" y="564376"/>
                  <a:pt x="5838912" y="495951"/>
                  <a:pt x="5924939" y="621682"/>
                </a:cubicBezTo>
                <a:cubicBezTo>
                  <a:pt x="5941508" y="645898"/>
                  <a:pt x="5953768" y="673019"/>
                  <a:pt x="5971592" y="696327"/>
                </a:cubicBezTo>
                <a:cubicBezTo>
                  <a:pt x="5994342" y="726077"/>
                  <a:pt x="6023766" y="750341"/>
                  <a:pt x="6046237" y="780303"/>
                </a:cubicBezTo>
                <a:cubicBezTo>
                  <a:pt x="6120402" y="879190"/>
                  <a:pt x="6050450" y="813109"/>
                  <a:pt x="6111551" y="882939"/>
                </a:cubicBezTo>
                <a:cubicBezTo>
                  <a:pt x="6149091" y="925841"/>
                  <a:pt x="6144030" y="907121"/>
                  <a:pt x="6167535" y="948254"/>
                </a:cubicBezTo>
                <a:cubicBezTo>
                  <a:pt x="6174436" y="960330"/>
                  <a:pt x="6181312" y="972553"/>
                  <a:pt x="6186196" y="985576"/>
                </a:cubicBezTo>
                <a:cubicBezTo>
                  <a:pt x="6205707" y="1037603"/>
                  <a:pt x="6182775" y="1013008"/>
                  <a:pt x="6214188" y="1069552"/>
                </a:cubicBezTo>
                <a:cubicBezTo>
                  <a:pt x="6221740" y="1083146"/>
                  <a:pt x="6232849" y="1094433"/>
                  <a:pt x="6242180" y="1106874"/>
                </a:cubicBezTo>
                <a:cubicBezTo>
                  <a:pt x="6263791" y="1171710"/>
                  <a:pt x="6260841" y="1143187"/>
                  <a:pt x="6260841" y="1190849"/>
                </a:cubicBezTo>
              </a:path>
            </a:pathLst>
          </a:custGeom>
          <a:noFill/>
          <a:ln w="12600">
            <a:solidFill>
              <a:srgbClr val="d9f62a"/>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480" name="正方形/長方形 17"/>
          <p:cNvSpPr/>
          <p:nvPr/>
        </p:nvSpPr>
        <p:spPr>
          <a:xfrm>
            <a:off x="1428840" y="1928880"/>
            <a:ext cx="4572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663300"/>
                </a:solidFill>
                <a:latin typeface="Century Schoolbook"/>
              </a:rPr>
              <a:t>買回り品と最寄品の</a:t>
            </a:r>
            <a:endParaRPr b="0" lang="en-US" sz="24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663300"/>
                </a:solidFill>
                <a:latin typeface="Century Schoolbook"/>
              </a:rPr>
              <a:t>購買行動の違いについて</a:t>
            </a:r>
            <a:endParaRPr b="0" lang="en-US" sz="24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663300"/>
                </a:solidFill>
                <a:latin typeface="Century Schoolbook"/>
              </a:rPr>
              <a:t>詳しく見ていく。</a:t>
            </a:r>
            <a:endParaRPr b="0" lang="en-US" sz="2400" spc="-1" strike="noStrike">
              <a:solidFill>
                <a:srgbClr val="663300"/>
              </a:solidFill>
              <a:latin typeface="Century Schoolbook"/>
            </a:endParaRPr>
          </a:p>
        </p:txBody>
      </p:sp>
      <p:sp>
        <p:nvSpPr>
          <p:cNvPr id="481" name="フリーフォーム 18"/>
          <p:cNvSpPr/>
          <p:nvPr/>
        </p:nvSpPr>
        <p:spPr>
          <a:xfrm>
            <a:off x="7891560" y="3191040"/>
            <a:ext cx="58680" cy="403200"/>
          </a:xfrm>
          <a:custGeom>
            <a:avLst/>
            <a:gdLst/>
            <a:ahLst/>
            <a:rect l="l" t="t" r="r" b="b"/>
            <a:pathLst>
              <a:path w="59419" h="402302">
                <a:moveTo>
                  <a:pt x="0" y="0"/>
                </a:moveTo>
                <a:cubicBezTo>
                  <a:pt x="12192" y="57912"/>
                  <a:pt x="25400" y="115619"/>
                  <a:pt x="36576" y="173736"/>
                </a:cubicBezTo>
                <a:cubicBezTo>
                  <a:pt x="40646" y="194901"/>
                  <a:pt x="42177" y="216485"/>
                  <a:pt x="45720" y="237744"/>
                </a:cubicBezTo>
                <a:cubicBezTo>
                  <a:pt x="48275" y="253074"/>
                  <a:pt x="51816" y="268224"/>
                  <a:pt x="54864" y="283464"/>
                </a:cubicBezTo>
                <a:cubicBezTo>
                  <a:pt x="45042" y="381686"/>
                  <a:pt x="59419" y="402302"/>
                  <a:pt x="36576" y="356616"/>
                </a:cubicBezTo>
              </a:path>
            </a:pathLst>
          </a:custGeom>
          <a:noFill/>
          <a:ln w="1260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482" name="フリーフォーム 19"/>
          <p:cNvSpPr/>
          <p:nvPr/>
        </p:nvSpPr>
        <p:spPr>
          <a:xfrm>
            <a:off x="7788240" y="3319560"/>
            <a:ext cx="249120" cy="237960"/>
          </a:xfrm>
          <a:custGeom>
            <a:avLst/>
            <a:gdLst/>
            <a:ahLst/>
            <a:rect l="l" t="t" r="r" b="b"/>
            <a:pathLst>
              <a:path w="248579" h="237744">
                <a:moveTo>
                  <a:pt x="248579" y="0"/>
                </a:moveTo>
                <a:cubicBezTo>
                  <a:pt x="239435" y="9144"/>
                  <a:pt x="229032" y="17182"/>
                  <a:pt x="221147" y="27432"/>
                </a:cubicBezTo>
                <a:cubicBezTo>
                  <a:pt x="198462" y="56922"/>
                  <a:pt x="192435" y="107107"/>
                  <a:pt x="157139" y="118872"/>
                </a:cubicBezTo>
                <a:cubicBezTo>
                  <a:pt x="138851" y="124968"/>
                  <a:pt x="118315" y="126467"/>
                  <a:pt x="102275" y="137160"/>
                </a:cubicBezTo>
                <a:cubicBezTo>
                  <a:pt x="64042" y="162649"/>
                  <a:pt x="46838" y="168938"/>
                  <a:pt x="19979" y="201168"/>
                </a:cubicBezTo>
                <a:cubicBezTo>
                  <a:pt x="0" y="225142"/>
                  <a:pt x="1691" y="219273"/>
                  <a:pt x="1691" y="237744"/>
                </a:cubicBezTo>
              </a:path>
            </a:pathLst>
          </a:custGeom>
          <a:noFill/>
          <a:ln w="1260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483" name="フリーフォーム 20"/>
          <p:cNvSpPr/>
          <p:nvPr/>
        </p:nvSpPr>
        <p:spPr>
          <a:xfrm>
            <a:off x="7854840" y="3373560"/>
            <a:ext cx="282600" cy="137880"/>
          </a:xfrm>
          <a:custGeom>
            <a:avLst/>
            <a:gdLst/>
            <a:ahLst/>
            <a:rect l="l" t="t" r="r" b="b"/>
            <a:pathLst>
              <a:path w="283464" h="137160">
                <a:moveTo>
                  <a:pt x="0" y="0"/>
                </a:moveTo>
                <a:cubicBezTo>
                  <a:pt x="51917" y="38938"/>
                  <a:pt x="34516" y="29295"/>
                  <a:pt x="109728" y="64008"/>
                </a:cubicBezTo>
                <a:cubicBezTo>
                  <a:pt x="124631" y="70886"/>
                  <a:pt x="140767" y="74955"/>
                  <a:pt x="155448" y="82296"/>
                </a:cubicBezTo>
                <a:cubicBezTo>
                  <a:pt x="165278" y="87211"/>
                  <a:pt x="173338" y="95132"/>
                  <a:pt x="182880" y="100584"/>
                </a:cubicBezTo>
                <a:cubicBezTo>
                  <a:pt x="207264" y="114518"/>
                  <a:pt x="221241" y="120688"/>
                  <a:pt x="246888" y="128016"/>
                </a:cubicBezTo>
                <a:cubicBezTo>
                  <a:pt x="258972" y="131468"/>
                  <a:pt x="283464" y="137160"/>
                  <a:pt x="283464" y="137160"/>
                </a:cubicBezTo>
              </a:path>
            </a:pathLst>
          </a:custGeom>
          <a:noFill/>
          <a:ln w="1260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484" name="フリーフォーム 21"/>
          <p:cNvSpPr/>
          <p:nvPr/>
        </p:nvSpPr>
        <p:spPr>
          <a:xfrm flipV="1">
            <a:off x="8001000" y="3143160"/>
            <a:ext cx="71280" cy="108000"/>
          </a:xfrm>
          <a:custGeom>
            <a:avLst/>
            <a:gdLst/>
            <a:ahLst/>
            <a:rect l="l" t="t" r="r" b="b"/>
            <a:pathLst>
              <a:path w="113307" h="133637">
                <a:moveTo>
                  <a:pt x="40155" y="112793"/>
                </a:moveTo>
                <a:cubicBezTo>
                  <a:pt x="23391" y="117365"/>
                  <a:pt x="18819" y="103649"/>
                  <a:pt x="12723" y="94505"/>
                </a:cubicBezTo>
                <a:cubicBezTo>
                  <a:pt x="0" y="75420"/>
                  <a:pt x="879" y="29975"/>
                  <a:pt x="12723" y="12209"/>
                </a:cubicBezTo>
                <a:cubicBezTo>
                  <a:pt x="18070" y="4189"/>
                  <a:pt x="31011" y="6113"/>
                  <a:pt x="40155" y="3065"/>
                </a:cubicBezTo>
                <a:cubicBezTo>
                  <a:pt x="58443" y="6113"/>
                  <a:pt x="81066" y="0"/>
                  <a:pt x="95019" y="12209"/>
                </a:cubicBezTo>
                <a:cubicBezTo>
                  <a:pt x="109527" y="24903"/>
                  <a:pt x="113307" y="67073"/>
                  <a:pt x="113307" y="67073"/>
                </a:cubicBezTo>
                <a:cubicBezTo>
                  <a:pt x="80025" y="133637"/>
                  <a:pt x="56919" y="108221"/>
                  <a:pt x="40155" y="112793"/>
                </a:cubicBezTo>
                <a:close/>
              </a:path>
            </a:pathLst>
          </a:custGeom>
          <a:solidFill>
            <a:srgbClr val="ffffff"/>
          </a:solidFill>
          <a:ln w="12600">
            <a:solidFill>
              <a:srgbClr val="777c84"/>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485" name="フリーフォーム 23"/>
          <p:cNvSpPr/>
          <p:nvPr/>
        </p:nvSpPr>
        <p:spPr>
          <a:xfrm>
            <a:off x="714240" y="757080"/>
            <a:ext cx="5859720" cy="3797280"/>
          </a:xfrm>
          <a:custGeom>
            <a:avLst/>
            <a:gdLst/>
            <a:ahLst/>
            <a:rect l="l" t="t" r="r" b="b"/>
            <a:pathLst>
              <a:path w="5859637" h="3797700">
                <a:moveTo>
                  <a:pt x="3226165" y="3797046"/>
                </a:moveTo>
                <a:lnTo>
                  <a:pt x="2567797" y="3787902"/>
                </a:lnTo>
                <a:cubicBezTo>
                  <a:pt x="2494597" y="3786377"/>
                  <a:pt x="2421341" y="3784373"/>
                  <a:pt x="2348341" y="3778758"/>
                </a:cubicBezTo>
                <a:cubicBezTo>
                  <a:pt x="2302352" y="3775220"/>
                  <a:pt x="2256534" y="3768869"/>
                  <a:pt x="2211181" y="3760470"/>
                </a:cubicBezTo>
                <a:cubicBezTo>
                  <a:pt x="1893165" y="3701578"/>
                  <a:pt x="2330409" y="3765101"/>
                  <a:pt x="1973437" y="3705606"/>
                </a:cubicBezTo>
                <a:cubicBezTo>
                  <a:pt x="1943222" y="3700570"/>
                  <a:pt x="1912477" y="3699510"/>
                  <a:pt x="1881997" y="3696462"/>
                </a:cubicBezTo>
                <a:cubicBezTo>
                  <a:pt x="1869805" y="3693414"/>
                  <a:pt x="1857343" y="3691292"/>
                  <a:pt x="1845421" y="3687318"/>
                </a:cubicBezTo>
                <a:cubicBezTo>
                  <a:pt x="1829849" y="3682127"/>
                  <a:pt x="1815625" y="3673011"/>
                  <a:pt x="1799701" y="3669030"/>
                </a:cubicBezTo>
                <a:cubicBezTo>
                  <a:pt x="1778792" y="3663803"/>
                  <a:pt x="1757029" y="3662934"/>
                  <a:pt x="1735693" y="3659886"/>
                </a:cubicBezTo>
                <a:cubicBezTo>
                  <a:pt x="1723501" y="3647694"/>
                  <a:pt x="1714254" y="3631566"/>
                  <a:pt x="1699117" y="3623310"/>
                </a:cubicBezTo>
                <a:cubicBezTo>
                  <a:pt x="1679637" y="3612684"/>
                  <a:pt x="1656289" y="3611641"/>
                  <a:pt x="1635109" y="3605022"/>
                </a:cubicBezTo>
                <a:cubicBezTo>
                  <a:pt x="1607509" y="3596397"/>
                  <a:pt x="1579801" y="3587970"/>
                  <a:pt x="1552813" y="3577590"/>
                </a:cubicBezTo>
                <a:cubicBezTo>
                  <a:pt x="1540091" y="3572697"/>
                  <a:pt x="1528959" y="3564195"/>
                  <a:pt x="1516237" y="3559302"/>
                </a:cubicBezTo>
                <a:cubicBezTo>
                  <a:pt x="1489249" y="3548922"/>
                  <a:pt x="1460929" y="3542250"/>
                  <a:pt x="1433941" y="3531870"/>
                </a:cubicBezTo>
                <a:cubicBezTo>
                  <a:pt x="1421219" y="3526977"/>
                  <a:pt x="1409948" y="3518825"/>
                  <a:pt x="1397365" y="3513582"/>
                </a:cubicBezTo>
                <a:cubicBezTo>
                  <a:pt x="1373326" y="3503566"/>
                  <a:pt x="1347506" y="3497796"/>
                  <a:pt x="1324213" y="3486150"/>
                </a:cubicBezTo>
                <a:cubicBezTo>
                  <a:pt x="1298494" y="3473290"/>
                  <a:pt x="1274986" y="3456380"/>
                  <a:pt x="1251061" y="3440430"/>
                </a:cubicBezTo>
                <a:cubicBezTo>
                  <a:pt x="1207219" y="3411202"/>
                  <a:pt x="1186295" y="3385522"/>
                  <a:pt x="1141333" y="3348990"/>
                </a:cubicBezTo>
                <a:cubicBezTo>
                  <a:pt x="1117677" y="3329770"/>
                  <a:pt x="1093542" y="3311033"/>
                  <a:pt x="1068181" y="3294126"/>
                </a:cubicBezTo>
                <a:cubicBezTo>
                  <a:pt x="1056839" y="3286565"/>
                  <a:pt x="1042409" y="3284149"/>
                  <a:pt x="1031605" y="3275838"/>
                </a:cubicBezTo>
                <a:cubicBezTo>
                  <a:pt x="1002513" y="3253460"/>
                  <a:pt x="977715" y="3225928"/>
                  <a:pt x="949309" y="3202686"/>
                </a:cubicBezTo>
                <a:cubicBezTo>
                  <a:pt x="910618" y="3171030"/>
                  <a:pt x="869292" y="3142700"/>
                  <a:pt x="830437" y="3111246"/>
                </a:cubicBezTo>
                <a:cubicBezTo>
                  <a:pt x="743468" y="3040843"/>
                  <a:pt x="755420" y="3040894"/>
                  <a:pt x="665845" y="2955798"/>
                </a:cubicBezTo>
                <a:cubicBezTo>
                  <a:pt x="636115" y="2927555"/>
                  <a:pt x="596138" y="2908276"/>
                  <a:pt x="574405" y="2873502"/>
                </a:cubicBezTo>
                <a:cubicBezTo>
                  <a:pt x="559165" y="2849118"/>
                  <a:pt x="545487" y="2823685"/>
                  <a:pt x="528685" y="2800350"/>
                </a:cubicBezTo>
                <a:cubicBezTo>
                  <a:pt x="490571" y="2747414"/>
                  <a:pt x="438985" y="2703246"/>
                  <a:pt x="409813" y="2644902"/>
                </a:cubicBezTo>
                <a:cubicBezTo>
                  <a:pt x="394573" y="2614422"/>
                  <a:pt x="381000" y="2583050"/>
                  <a:pt x="364093" y="2553462"/>
                </a:cubicBezTo>
                <a:cubicBezTo>
                  <a:pt x="351901" y="2532126"/>
                  <a:pt x="337815" y="2511766"/>
                  <a:pt x="327517" y="2489454"/>
                </a:cubicBezTo>
                <a:cubicBezTo>
                  <a:pt x="319439" y="2471951"/>
                  <a:pt x="317206" y="2452139"/>
                  <a:pt x="309229" y="2434590"/>
                </a:cubicBezTo>
                <a:cubicBezTo>
                  <a:pt x="301875" y="2418410"/>
                  <a:pt x="290075" y="2404597"/>
                  <a:pt x="281797" y="2388870"/>
                </a:cubicBezTo>
                <a:cubicBezTo>
                  <a:pt x="219689" y="2270865"/>
                  <a:pt x="231621" y="2302350"/>
                  <a:pt x="208645" y="2233422"/>
                </a:cubicBezTo>
                <a:cubicBezTo>
                  <a:pt x="205597" y="2199894"/>
                  <a:pt x="203512" y="2166264"/>
                  <a:pt x="199501" y="2132838"/>
                </a:cubicBezTo>
                <a:cubicBezTo>
                  <a:pt x="194365" y="2090040"/>
                  <a:pt x="181213" y="2004822"/>
                  <a:pt x="181213" y="2004822"/>
                </a:cubicBezTo>
                <a:cubicBezTo>
                  <a:pt x="187309" y="1791462"/>
                  <a:pt x="190855" y="1578014"/>
                  <a:pt x="199501" y="1364742"/>
                </a:cubicBezTo>
                <a:cubicBezTo>
                  <a:pt x="201058" y="1326344"/>
                  <a:pt x="210793" y="1326018"/>
                  <a:pt x="236077" y="1300734"/>
                </a:cubicBezTo>
                <a:cubicBezTo>
                  <a:pt x="242173" y="1282446"/>
                  <a:pt x="245744" y="1263112"/>
                  <a:pt x="254365" y="1245870"/>
                </a:cubicBezTo>
                <a:cubicBezTo>
                  <a:pt x="267225" y="1220151"/>
                  <a:pt x="283795" y="1196413"/>
                  <a:pt x="300085" y="1172718"/>
                </a:cubicBezTo>
                <a:cubicBezTo>
                  <a:pt x="321035" y="1142245"/>
                  <a:pt x="351077" y="1098622"/>
                  <a:pt x="382381" y="1072134"/>
                </a:cubicBezTo>
                <a:cubicBezTo>
                  <a:pt x="412179" y="1046921"/>
                  <a:pt x="446220" y="1026583"/>
                  <a:pt x="473821" y="998982"/>
                </a:cubicBezTo>
                <a:cubicBezTo>
                  <a:pt x="492361" y="980442"/>
                  <a:pt x="502193" y="954635"/>
                  <a:pt x="519541" y="934974"/>
                </a:cubicBezTo>
                <a:cubicBezTo>
                  <a:pt x="548060" y="902652"/>
                  <a:pt x="578407" y="871765"/>
                  <a:pt x="610981" y="843534"/>
                </a:cubicBezTo>
                <a:cubicBezTo>
                  <a:pt x="624412" y="831894"/>
                  <a:pt x="642328" y="826555"/>
                  <a:pt x="656701" y="816102"/>
                </a:cubicBezTo>
                <a:cubicBezTo>
                  <a:pt x="754328" y="745101"/>
                  <a:pt x="667279" y="793576"/>
                  <a:pt x="775573" y="724662"/>
                </a:cubicBezTo>
                <a:cubicBezTo>
                  <a:pt x="787073" y="717344"/>
                  <a:pt x="801175" y="714460"/>
                  <a:pt x="812149" y="706374"/>
                </a:cubicBezTo>
                <a:cubicBezTo>
                  <a:pt x="859285" y="671642"/>
                  <a:pt x="899444" y="627332"/>
                  <a:pt x="949309" y="596646"/>
                </a:cubicBezTo>
                <a:cubicBezTo>
                  <a:pt x="988933" y="572262"/>
                  <a:pt x="1030960" y="551409"/>
                  <a:pt x="1068181" y="523494"/>
                </a:cubicBezTo>
                <a:cubicBezTo>
                  <a:pt x="1092565" y="505206"/>
                  <a:pt x="1115374" y="484604"/>
                  <a:pt x="1141333" y="468630"/>
                </a:cubicBezTo>
                <a:cubicBezTo>
                  <a:pt x="1155312" y="460027"/>
                  <a:pt x="1172601" y="458124"/>
                  <a:pt x="1187053" y="450342"/>
                </a:cubicBezTo>
                <a:cubicBezTo>
                  <a:pt x="1212371" y="436709"/>
                  <a:pt x="1234486" y="417482"/>
                  <a:pt x="1260205" y="404622"/>
                </a:cubicBezTo>
                <a:cubicBezTo>
                  <a:pt x="1277447" y="396001"/>
                  <a:pt x="1296952" y="392922"/>
                  <a:pt x="1315069" y="386334"/>
                </a:cubicBezTo>
                <a:cubicBezTo>
                  <a:pt x="1330495" y="380725"/>
                  <a:pt x="1346108" y="375387"/>
                  <a:pt x="1360789" y="368046"/>
                </a:cubicBezTo>
                <a:cubicBezTo>
                  <a:pt x="1382768" y="357056"/>
                  <a:pt x="1402818" y="342460"/>
                  <a:pt x="1424797" y="331470"/>
                </a:cubicBezTo>
                <a:cubicBezTo>
                  <a:pt x="1439478" y="324129"/>
                  <a:pt x="1455574" y="319974"/>
                  <a:pt x="1470517" y="313182"/>
                </a:cubicBezTo>
                <a:cubicBezTo>
                  <a:pt x="1489131" y="304721"/>
                  <a:pt x="1506649" y="293945"/>
                  <a:pt x="1525381" y="285750"/>
                </a:cubicBezTo>
                <a:cubicBezTo>
                  <a:pt x="1555457" y="272592"/>
                  <a:pt x="1589506" y="267384"/>
                  <a:pt x="1616821" y="249174"/>
                </a:cubicBezTo>
                <a:cubicBezTo>
                  <a:pt x="1664015" y="217712"/>
                  <a:pt x="1627298" y="238714"/>
                  <a:pt x="1699117" y="212598"/>
                </a:cubicBezTo>
                <a:cubicBezTo>
                  <a:pt x="1714543" y="206989"/>
                  <a:pt x="1729468" y="200073"/>
                  <a:pt x="1744837" y="194310"/>
                </a:cubicBezTo>
                <a:cubicBezTo>
                  <a:pt x="1753862" y="190926"/>
                  <a:pt x="1763244" y="188550"/>
                  <a:pt x="1772269" y="185166"/>
                </a:cubicBezTo>
                <a:cubicBezTo>
                  <a:pt x="1787638" y="179403"/>
                  <a:pt x="1802267" y="171595"/>
                  <a:pt x="1817989" y="166878"/>
                </a:cubicBezTo>
                <a:cubicBezTo>
                  <a:pt x="1832875" y="162412"/>
                  <a:pt x="1848469" y="160782"/>
                  <a:pt x="1863709" y="157734"/>
                </a:cubicBezTo>
                <a:cubicBezTo>
                  <a:pt x="1907230" y="128720"/>
                  <a:pt x="1874038" y="146406"/>
                  <a:pt x="1927717" y="130302"/>
                </a:cubicBezTo>
                <a:cubicBezTo>
                  <a:pt x="1946181" y="124763"/>
                  <a:pt x="1964156" y="117683"/>
                  <a:pt x="1982581" y="112014"/>
                </a:cubicBezTo>
                <a:cubicBezTo>
                  <a:pt x="2003790" y="105488"/>
                  <a:pt x="2025253" y="99822"/>
                  <a:pt x="2046589" y="93726"/>
                </a:cubicBezTo>
                <a:cubicBezTo>
                  <a:pt x="2102932" y="56164"/>
                  <a:pt x="2040646" y="92659"/>
                  <a:pt x="2119741" y="66294"/>
                </a:cubicBezTo>
                <a:cubicBezTo>
                  <a:pt x="2255144" y="21160"/>
                  <a:pt x="1943171" y="62642"/>
                  <a:pt x="2311765" y="38862"/>
                </a:cubicBezTo>
                <a:cubicBezTo>
                  <a:pt x="2583943" y="21302"/>
                  <a:pt x="2290209" y="34392"/>
                  <a:pt x="2732389" y="20574"/>
                </a:cubicBezTo>
                <a:lnTo>
                  <a:pt x="4039981" y="29718"/>
                </a:lnTo>
                <a:cubicBezTo>
                  <a:pt x="4055521" y="29928"/>
                  <a:pt x="4070671" y="34907"/>
                  <a:pt x="4085701" y="38862"/>
                </a:cubicBezTo>
                <a:cubicBezTo>
                  <a:pt x="4128619" y="50156"/>
                  <a:pt x="4170199" y="66734"/>
                  <a:pt x="4213717" y="75438"/>
                </a:cubicBezTo>
                <a:cubicBezTo>
                  <a:pt x="4228957" y="78486"/>
                  <a:pt x="4244693" y="79667"/>
                  <a:pt x="4259437" y="84582"/>
                </a:cubicBezTo>
                <a:cubicBezTo>
                  <a:pt x="4290580" y="94963"/>
                  <a:pt x="4319029" y="113196"/>
                  <a:pt x="4350877" y="121158"/>
                </a:cubicBezTo>
                <a:cubicBezTo>
                  <a:pt x="4485668" y="154856"/>
                  <a:pt x="4178667" y="75947"/>
                  <a:pt x="4533757" y="194310"/>
                </a:cubicBezTo>
                <a:cubicBezTo>
                  <a:pt x="4570333" y="206502"/>
                  <a:pt x="4608253" y="215228"/>
                  <a:pt x="4643485" y="230886"/>
                </a:cubicBezTo>
                <a:cubicBezTo>
                  <a:pt x="4913226" y="350771"/>
                  <a:pt x="4521496" y="175177"/>
                  <a:pt x="4817221" y="313182"/>
                </a:cubicBezTo>
                <a:cubicBezTo>
                  <a:pt x="4832095" y="320123"/>
                  <a:pt x="4848260" y="324129"/>
                  <a:pt x="4862941" y="331470"/>
                </a:cubicBezTo>
                <a:cubicBezTo>
                  <a:pt x="4884920" y="342460"/>
                  <a:pt x="4904578" y="357877"/>
                  <a:pt x="4926949" y="368046"/>
                </a:cubicBezTo>
                <a:cubicBezTo>
                  <a:pt x="4938390" y="373246"/>
                  <a:pt x="4951488" y="373579"/>
                  <a:pt x="4963525" y="377190"/>
                </a:cubicBezTo>
                <a:cubicBezTo>
                  <a:pt x="4981989" y="382729"/>
                  <a:pt x="5000101" y="389382"/>
                  <a:pt x="5018389" y="395478"/>
                </a:cubicBezTo>
                <a:cubicBezTo>
                  <a:pt x="5099723" y="476812"/>
                  <a:pt x="4982359" y="355013"/>
                  <a:pt x="5073253" y="468630"/>
                </a:cubicBezTo>
                <a:cubicBezTo>
                  <a:pt x="5086717" y="485460"/>
                  <a:pt x="5105509" y="497520"/>
                  <a:pt x="5118973" y="514350"/>
                </a:cubicBezTo>
                <a:cubicBezTo>
                  <a:pt x="5130076" y="528228"/>
                  <a:pt x="5133838" y="547503"/>
                  <a:pt x="5146405" y="560070"/>
                </a:cubicBezTo>
                <a:cubicBezTo>
                  <a:pt x="5170979" y="584644"/>
                  <a:pt x="5203165" y="600506"/>
                  <a:pt x="5228701" y="624078"/>
                </a:cubicBezTo>
                <a:cubicBezTo>
                  <a:pt x="5243042" y="637316"/>
                  <a:pt x="5250690" y="656832"/>
                  <a:pt x="5265277" y="669798"/>
                </a:cubicBezTo>
                <a:cubicBezTo>
                  <a:pt x="5359366" y="753433"/>
                  <a:pt x="5259125" y="619659"/>
                  <a:pt x="5375005" y="752094"/>
                </a:cubicBezTo>
                <a:cubicBezTo>
                  <a:pt x="5399505" y="780094"/>
                  <a:pt x="5409960" y="820292"/>
                  <a:pt x="5439013" y="843534"/>
                </a:cubicBezTo>
                <a:cubicBezTo>
                  <a:pt x="5454253" y="855726"/>
                  <a:pt x="5471605" y="865669"/>
                  <a:pt x="5484733" y="880110"/>
                </a:cubicBezTo>
                <a:cubicBezTo>
                  <a:pt x="5502370" y="899511"/>
                  <a:pt x="5514254" y="923501"/>
                  <a:pt x="5530453" y="944118"/>
                </a:cubicBezTo>
                <a:cubicBezTo>
                  <a:pt x="5547815" y="966214"/>
                  <a:pt x="5567029" y="986790"/>
                  <a:pt x="5585317" y="1008126"/>
                </a:cubicBezTo>
                <a:cubicBezTo>
                  <a:pt x="5588365" y="1023366"/>
                  <a:pt x="5588689" y="1039416"/>
                  <a:pt x="5594461" y="1053846"/>
                </a:cubicBezTo>
                <a:cubicBezTo>
                  <a:pt x="5617360" y="1111094"/>
                  <a:pt x="5621840" y="1086669"/>
                  <a:pt x="5649325" y="1136142"/>
                </a:cubicBezTo>
                <a:cubicBezTo>
                  <a:pt x="5692620" y="1214073"/>
                  <a:pt x="5640089" y="1154338"/>
                  <a:pt x="5695045" y="1209294"/>
                </a:cubicBezTo>
                <a:cubicBezTo>
                  <a:pt x="5742023" y="1326739"/>
                  <a:pt x="5680970" y="1181144"/>
                  <a:pt x="5740765" y="1300734"/>
                </a:cubicBezTo>
                <a:cubicBezTo>
                  <a:pt x="5748106" y="1315415"/>
                  <a:pt x="5752957" y="1331214"/>
                  <a:pt x="5759053" y="1346454"/>
                </a:cubicBezTo>
                <a:cubicBezTo>
                  <a:pt x="5780600" y="1475738"/>
                  <a:pt x="5750142" y="1319768"/>
                  <a:pt x="5795629" y="1465326"/>
                </a:cubicBezTo>
                <a:cubicBezTo>
                  <a:pt x="5821596" y="1548421"/>
                  <a:pt x="5808378" y="1540016"/>
                  <a:pt x="5823061" y="1620774"/>
                </a:cubicBezTo>
                <a:cubicBezTo>
                  <a:pt x="5824785" y="1630257"/>
                  <a:pt x="5829867" y="1638855"/>
                  <a:pt x="5832205" y="1648206"/>
                </a:cubicBezTo>
                <a:cubicBezTo>
                  <a:pt x="5835974" y="1663284"/>
                  <a:pt x="5838648" y="1678621"/>
                  <a:pt x="5841349" y="1693926"/>
                </a:cubicBezTo>
                <a:cubicBezTo>
                  <a:pt x="5847793" y="1730442"/>
                  <a:pt x="5859637" y="1803654"/>
                  <a:pt x="5859637" y="1803654"/>
                </a:cubicBezTo>
                <a:cubicBezTo>
                  <a:pt x="5856589" y="1919478"/>
                  <a:pt x="5856478" y="2035417"/>
                  <a:pt x="5850493" y="2151126"/>
                </a:cubicBezTo>
                <a:cubicBezTo>
                  <a:pt x="5847328" y="2212308"/>
                  <a:pt x="5832205" y="2334006"/>
                  <a:pt x="5832205" y="2334006"/>
                </a:cubicBezTo>
                <a:cubicBezTo>
                  <a:pt x="5820268" y="2727921"/>
                  <a:pt x="5837751" y="2521014"/>
                  <a:pt x="5813917" y="2699766"/>
                </a:cubicBezTo>
                <a:cubicBezTo>
                  <a:pt x="5810669" y="2724124"/>
                  <a:pt x="5811105" y="2749174"/>
                  <a:pt x="5804773" y="2772918"/>
                </a:cubicBezTo>
                <a:cubicBezTo>
                  <a:pt x="5788419" y="2834247"/>
                  <a:pt x="5775442" y="2831580"/>
                  <a:pt x="5749909" y="2882646"/>
                </a:cubicBezTo>
                <a:cubicBezTo>
                  <a:pt x="5742568" y="2897327"/>
                  <a:pt x="5739765" y="2914115"/>
                  <a:pt x="5731621" y="2928366"/>
                </a:cubicBezTo>
                <a:cubicBezTo>
                  <a:pt x="5715264" y="2956991"/>
                  <a:pt x="5693473" y="2982245"/>
                  <a:pt x="5676757" y="3010662"/>
                </a:cubicBezTo>
                <a:cubicBezTo>
                  <a:pt x="5662935" y="3034160"/>
                  <a:pt x="5655303" y="3061131"/>
                  <a:pt x="5640181" y="3083814"/>
                </a:cubicBezTo>
                <a:cubicBezTo>
                  <a:pt x="5630617" y="3098160"/>
                  <a:pt x="5615139" y="3107574"/>
                  <a:pt x="5603605" y="3120390"/>
                </a:cubicBezTo>
                <a:cubicBezTo>
                  <a:pt x="5587680" y="3138085"/>
                  <a:pt x="5572593" y="3156535"/>
                  <a:pt x="5557885" y="3175254"/>
                </a:cubicBezTo>
                <a:cubicBezTo>
                  <a:pt x="5539054" y="3199221"/>
                  <a:pt x="5523761" y="3226070"/>
                  <a:pt x="5503021" y="3248406"/>
                </a:cubicBezTo>
                <a:cubicBezTo>
                  <a:pt x="5452213" y="3303122"/>
                  <a:pt x="5422230" y="3312594"/>
                  <a:pt x="5356717" y="3348990"/>
                </a:cubicBezTo>
                <a:cubicBezTo>
                  <a:pt x="5317093" y="3394710"/>
                  <a:pt x="5288185" y="3452590"/>
                  <a:pt x="5237845" y="3486150"/>
                </a:cubicBezTo>
                <a:lnTo>
                  <a:pt x="5128117" y="3559302"/>
                </a:lnTo>
                <a:cubicBezTo>
                  <a:pt x="5118973" y="3565398"/>
                  <a:pt x="5111111" y="3574115"/>
                  <a:pt x="5100685" y="3577590"/>
                </a:cubicBezTo>
                <a:cubicBezTo>
                  <a:pt x="5082397" y="3583686"/>
                  <a:pt x="5063063" y="3587257"/>
                  <a:pt x="5045821" y="3595878"/>
                </a:cubicBezTo>
                <a:cubicBezTo>
                  <a:pt x="4905122" y="3666228"/>
                  <a:pt x="5008231" y="3643049"/>
                  <a:pt x="4890373" y="3659886"/>
                </a:cubicBezTo>
                <a:cubicBezTo>
                  <a:pt x="4849824" y="3673402"/>
                  <a:pt x="4827960" y="3679497"/>
                  <a:pt x="4789789" y="3696462"/>
                </a:cubicBezTo>
                <a:cubicBezTo>
                  <a:pt x="4777333" y="3701998"/>
                  <a:pt x="4764713" y="3707432"/>
                  <a:pt x="4753213" y="3714750"/>
                </a:cubicBezTo>
                <a:cubicBezTo>
                  <a:pt x="4660996" y="3773433"/>
                  <a:pt x="4724347" y="3754613"/>
                  <a:pt x="4634341" y="3769614"/>
                </a:cubicBezTo>
                <a:cubicBezTo>
                  <a:pt x="4606655" y="3788071"/>
                  <a:pt x="4599756" y="3797700"/>
                  <a:pt x="4561189" y="3797046"/>
                </a:cubicBezTo>
                <a:lnTo>
                  <a:pt x="3527917" y="3769614"/>
                </a:lnTo>
                <a:lnTo>
                  <a:pt x="2046589" y="3760470"/>
                </a:lnTo>
                <a:cubicBezTo>
                  <a:pt x="2028301" y="3754374"/>
                  <a:pt x="2010299" y="3747341"/>
                  <a:pt x="1991725" y="3742182"/>
                </a:cubicBezTo>
                <a:cubicBezTo>
                  <a:pt x="1955399" y="3732091"/>
                  <a:pt x="1917924" y="3726181"/>
                  <a:pt x="1881997" y="3714750"/>
                </a:cubicBezTo>
                <a:cubicBezTo>
                  <a:pt x="1850714" y="3704796"/>
                  <a:pt x="1790557" y="3678174"/>
                  <a:pt x="1790557" y="3678174"/>
                </a:cubicBezTo>
                <a:cubicBezTo>
                  <a:pt x="1723101" y="3610718"/>
                  <a:pt x="1818751" y="3698801"/>
                  <a:pt x="1689973" y="3623310"/>
                </a:cubicBezTo>
                <a:cubicBezTo>
                  <a:pt x="1623607" y="3584406"/>
                  <a:pt x="1562335" y="3537393"/>
                  <a:pt x="1497949" y="3495294"/>
                </a:cubicBezTo>
                <a:cubicBezTo>
                  <a:pt x="1483074" y="3485568"/>
                  <a:pt x="1466107" y="3478965"/>
                  <a:pt x="1452229" y="3467862"/>
                </a:cubicBezTo>
                <a:cubicBezTo>
                  <a:pt x="1421749" y="3443478"/>
                  <a:pt x="1393623" y="3415818"/>
                  <a:pt x="1360789" y="3394710"/>
                </a:cubicBezTo>
                <a:cubicBezTo>
                  <a:pt x="1307995" y="3360771"/>
                  <a:pt x="1250835" y="3334153"/>
                  <a:pt x="1196197" y="3303270"/>
                </a:cubicBezTo>
                <a:cubicBezTo>
                  <a:pt x="1180725" y="3294525"/>
                  <a:pt x="1163044" y="3288405"/>
                  <a:pt x="1150477" y="3275838"/>
                </a:cubicBezTo>
                <a:cubicBezTo>
                  <a:pt x="1123045" y="3248406"/>
                  <a:pt x="1097856" y="3218531"/>
                  <a:pt x="1068181" y="3193542"/>
                </a:cubicBezTo>
                <a:cubicBezTo>
                  <a:pt x="1039722" y="3169577"/>
                  <a:pt x="1006335" y="3152082"/>
                  <a:pt x="976741" y="3129534"/>
                </a:cubicBezTo>
                <a:cubicBezTo>
                  <a:pt x="942283" y="3103280"/>
                  <a:pt x="908640" y="3075900"/>
                  <a:pt x="876157" y="3047238"/>
                </a:cubicBezTo>
                <a:cubicBezTo>
                  <a:pt x="842352" y="3017410"/>
                  <a:pt x="759230" y="2925928"/>
                  <a:pt x="738997" y="2900934"/>
                </a:cubicBezTo>
                <a:cubicBezTo>
                  <a:pt x="677242" y="2824648"/>
                  <a:pt x="645290" y="2753803"/>
                  <a:pt x="565261" y="2690622"/>
                </a:cubicBezTo>
                <a:cubicBezTo>
                  <a:pt x="544821" y="2674485"/>
                  <a:pt x="516493" y="2672334"/>
                  <a:pt x="492109" y="2663190"/>
                </a:cubicBezTo>
                <a:cubicBezTo>
                  <a:pt x="455377" y="2631705"/>
                  <a:pt x="320492" y="2521767"/>
                  <a:pt x="281797" y="2471166"/>
                </a:cubicBezTo>
                <a:cubicBezTo>
                  <a:pt x="265237" y="2449510"/>
                  <a:pt x="258359" y="2421902"/>
                  <a:pt x="245221" y="2398014"/>
                </a:cubicBezTo>
                <a:cubicBezTo>
                  <a:pt x="224815" y="2360911"/>
                  <a:pt x="181213" y="2288286"/>
                  <a:pt x="181213" y="2288286"/>
                </a:cubicBezTo>
                <a:cubicBezTo>
                  <a:pt x="175117" y="2266950"/>
                  <a:pt x="172309" y="2244386"/>
                  <a:pt x="162925" y="2224278"/>
                </a:cubicBezTo>
                <a:cubicBezTo>
                  <a:pt x="145204" y="2186304"/>
                  <a:pt x="115338" y="2148636"/>
                  <a:pt x="89773" y="2114550"/>
                </a:cubicBezTo>
                <a:cubicBezTo>
                  <a:pt x="86725" y="2102358"/>
                  <a:pt x="84081" y="2090058"/>
                  <a:pt x="80629" y="2077974"/>
                </a:cubicBezTo>
                <a:cubicBezTo>
                  <a:pt x="73491" y="2052991"/>
                  <a:pt x="47199" y="1986199"/>
                  <a:pt x="44053" y="1977390"/>
                </a:cubicBezTo>
                <a:cubicBezTo>
                  <a:pt x="37569" y="1959236"/>
                  <a:pt x="31861" y="1940814"/>
                  <a:pt x="25765" y="1922526"/>
                </a:cubicBezTo>
                <a:cubicBezTo>
                  <a:pt x="0" y="1742172"/>
                  <a:pt x="1502" y="1777662"/>
                  <a:pt x="25765" y="1456182"/>
                </a:cubicBezTo>
                <a:cubicBezTo>
                  <a:pt x="29711" y="1403903"/>
                  <a:pt x="47404" y="1382575"/>
                  <a:pt x="71485" y="1346454"/>
                </a:cubicBezTo>
                <a:cubicBezTo>
                  <a:pt x="107213" y="1185678"/>
                  <a:pt x="64252" y="1342153"/>
                  <a:pt x="135493" y="1181862"/>
                </a:cubicBezTo>
                <a:cubicBezTo>
                  <a:pt x="163711" y="1118370"/>
                  <a:pt x="154686" y="1106900"/>
                  <a:pt x="181213" y="1053846"/>
                </a:cubicBezTo>
                <a:cubicBezTo>
                  <a:pt x="235551" y="945170"/>
                  <a:pt x="216813" y="991892"/>
                  <a:pt x="290941" y="889254"/>
                </a:cubicBezTo>
                <a:cubicBezTo>
                  <a:pt x="365182" y="786459"/>
                  <a:pt x="312403" y="826999"/>
                  <a:pt x="391525" y="779526"/>
                </a:cubicBezTo>
                <a:cubicBezTo>
                  <a:pt x="406765" y="755142"/>
                  <a:pt x="420955" y="730069"/>
                  <a:pt x="437245" y="706374"/>
                </a:cubicBezTo>
                <a:cubicBezTo>
                  <a:pt x="454513" y="681257"/>
                  <a:pt x="475551" y="658812"/>
                  <a:pt x="492109" y="633222"/>
                </a:cubicBezTo>
                <a:cubicBezTo>
                  <a:pt x="509157" y="606875"/>
                  <a:pt x="519000" y="576031"/>
                  <a:pt x="537829" y="550926"/>
                </a:cubicBezTo>
                <a:cubicBezTo>
                  <a:pt x="555933" y="526787"/>
                  <a:pt x="581448" y="509161"/>
                  <a:pt x="601837" y="486918"/>
                </a:cubicBezTo>
                <a:cubicBezTo>
                  <a:pt x="615025" y="472531"/>
                  <a:pt x="625175" y="455539"/>
                  <a:pt x="638413" y="441198"/>
                </a:cubicBezTo>
                <a:cubicBezTo>
                  <a:pt x="661803" y="415859"/>
                  <a:pt x="688857" y="393998"/>
                  <a:pt x="711565" y="368046"/>
                </a:cubicBezTo>
                <a:cubicBezTo>
                  <a:pt x="731636" y="345107"/>
                  <a:pt x="743287" y="314730"/>
                  <a:pt x="766429" y="294894"/>
                </a:cubicBezTo>
                <a:cubicBezTo>
                  <a:pt x="787128" y="277152"/>
                  <a:pt x="816649" y="273060"/>
                  <a:pt x="839581" y="258318"/>
                </a:cubicBezTo>
                <a:cubicBezTo>
                  <a:pt x="912641" y="211351"/>
                  <a:pt x="873428" y="213963"/>
                  <a:pt x="949309" y="176022"/>
                </a:cubicBezTo>
                <a:cubicBezTo>
                  <a:pt x="1166401" y="67476"/>
                  <a:pt x="1002763" y="147312"/>
                  <a:pt x="1132189" y="112014"/>
                </a:cubicBezTo>
                <a:cubicBezTo>
                  <a:pt x="1181482" y="98570"/>
                  <a:pt x="1227913" y="73520"/>
                  <a:pt x="1278493" y="66294"/>
                </a:cubicBezTo>
                <a:lnTo>
                  <a:pt x="1342501" y="57150"/>
                </a:lnTo>
                <a:cubicBezTo>
                  <a:pt x="1366859" y="53902"/>
                  <a:pt x="1391351" y="51651"/>
                  <a:pt x="1415653" y="48006"/>
                </a:cubicBezTo>
                <a:cubicBezTo>
                  <a:pt x="1452323" y="42505"/>
                  <a:pt x="1488453" y="33075"/>
                  <a:pt x="1525381" y="29718"/>
                </a:cubicBezTo>
                <a:cubicBezTo>
                  <a:pt x="1589198" y="23916"/>
                  <a:pt x="1653328" y="21245"/>
                  <a:pt x="1717405" y="20574"/>
                </a:cubicBezTo>
                <a:lnTo>
                  <a:pt x="3271885" y="11430"/>
                </a:lnTo>
                <a:cubicBezTo>
                  <a:pt x="3866223" y="0"/>
                  <a:pt x="3588848" y="2286"/>
                  <a:pt x="4103989" y="2286"/>
                </a:cubicBezTo>
              </a:path>
            </a:pathLst>
          </a:custGeom>
          <a:noFill/>
          <a:ln w="12600">
            <a:solidFill>
              <a:srgbClr val="fcccf5"/>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486" name="テキスト ボックス 24"/>
          <p:cNvSpPr/>
          <p:nvPr/>
        </p:nvSpPr>
        <p:spPr>
          <a:xfrm>
            <a:off x="214200" y="142920"/>
            <a:ext cx="3071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丸ｺﾞｼｯｸM-PRO"/>
                <a:ea typeface="HG丸ｺﾞｼｯｸM-PRO"/>
              </a:rPr>
              <a:t>仮説の導出</a:t>
            </a:r>
            <a:endParaRPr b="0" lang="en-US" sz="4400" spc="-1" strike="noStrike">
              <a:solidFill>
                <a:srgbClr val="663300"/>
              </a:solidFill>
              <a:latin typeface="Century School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456840" y="274320"/>
            <a:ext cx="7467480" cy="654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575f6d"/>
                </a:solidFill>
                <a:latin typeface="Century Schoolbook"/>
              </a:rPr>
              <a:t>アサエルの４つの製品タイプ</a:t>
            </a:r>
            <a:endParaRPr b="0" lang="en-US" sz="3000" spc="-1" strike="noStrike">
              <a:solidFill>
                <a:srgbClr val="575f6d"/>
              </a:solidFill>
              <a:latin typeface="Century Schoolbook"/>
            </a:endParaRPr>
          </a:p>
        </p:txBody>
      </p:sp>
      <p:sp>
        <p:nvSpPr>
          <p:cNvPr id="488" name="スライド番号プレースホル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B5BFF-64A6-4BE2-83E8-EE275876F805}" type="slidenum">
              <a:rPr b="1" lang="ja-JP" sz="1400" spc="-1" strike="noStrike">
                <a:solidFill>
                  <a:srgbClr val="ffffff"/>
                </a:solidFill>
                <a:latin typeface="Century Schoolbook"/>
              </a:rPr>
              <a:t>&lt;number&gt;</a:t>
            </a:fld>
            <a:endParaRPr b="0" lang="en-US" sz="1400" spc="-1" strike="noStrike">
              <a:solidFill>
                <a:srgbClr val="663300"/>
              </a:solidFill>
              <a:latin typeface="Century Schoolbook"/>
            </a:endParaRPr>
          </a:p>
        </p:txBody>
      </p:sp>
      <p:graphicFrame>
        <p:nvGraphicFramePr>
          <p:cNvPr id="489" name=""/>
          <p:cNvGraphicFramePr/>
          <p:nvPr/>
        </p:nvGraphicFramePr>
        <p:xfrm>
          <a:off x="571680" y="1500120"/>
          <a:ext cx="7572240" cy="5000760"/>
        </p:xfrm>
        <a:graphic>
          <a:graphicData uri="http://schemas.openxmlformats.org/drawingml/2006/table">
            <a:tbl>
              <a:tblPr/>
              <a:tblGrid>
                <a:gridCol w="428400"/>
                <a:gridCol w="3571920"/>
                <a:gridCol w="3571920"/>
              </a:tblGrid>
              <a:tr h="428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a:txBody>
                  <a:tcPr anchor="t" marL="90000" marR="90000">
                    <a:lnL w="5760">
                      <a:solidFill>
                        <a:srgbClr val="f5cd2d"/>
                      </a:solidFill>
                    </a:lnL>
                    <a:lnR w="5760">
                      <a:solidFill>
                        <a:srgbClr val="f5cd2d"/>
                      </a:solidFill>
                    </a:lnR>
                    <a:lnT w="5760">
                      <a:solidFill>
                        <a:srgbClr val="f5cd2d"/>
                      </a:solidFill>
                    </a:lnT>
                    <a:lnB w="5760">
                      <a:solidFill>
                        <a:srgbClr val="f5cd2d"/>
                      </a:solidFill>
                    </a:lnB>
                    <a:solidFill>
                      <a:srgbClr val="fdf6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entury Schoolbook"/>
                        </a:rPr>
                        <a:t>高</a:t>
                      </a:r>
                      <a:endParaRPr b="0" lang="en-US" sz="1800" spc="-1" strike="noStrike">
                        <a:solidFill>
                          <a:srgbClr val="663300"/>
                        </a:solidFill>
                        <a:latin typeface="Century Schoolbook"/>
                      </a:endParaRPr>
                    </a:p>
                  </a:txBody>
                  <a:tcPr anchor="t" marL="90000" marR="90000">
                    <a:lnL w="5760">
                      <a:solidFill>
                        <a:srgbClr val="f5cd2d"/>
                      </a:solidFill>
                    </a:lnL>
                    <a:lnR w="5760">
                      <a:solidFill>
                        <a:srgbClr val="f5cd2d"/>
                      </a:solidFill>
                    </a:lnR>
                    <a:lnT w="5760">
                      <a:solidFill>
                        <a:srgbClr val="f5cd2d"/>
                      </a:solidFill>
                    </a:lnT>
                    <a:lnB w="5760">
                      <a:solidFill>
                        <a:srgbClr val="f5cd2d"/>
                      </a:solidFill>
                    </a:lnB>
                    <a:solidFill>
                      <a:srgbClr val="ffc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entury Schoolbook"/>
                        </a:rPr>
                        <a:t>低</a:t>
                      </a:r>
                      <a:endParaRPr b="0" lang="en-US" sz="1800" spc="-1" strike="noStrike">
                        <a:solidFill>
                          <a:srgbClr val="663300"/>
                        </a:solidFill>
                        <a:latin typeface="Century Schoolbook"/>
                      </a:endParaRPr>
                    </a:p>
                  </a:txBody>
                  <a:tcPr anchor="t" marL="90000" marR="90000">
                    <a:lnL w="5760">
                      <a:solidFill>
                        <a:srgbClr val="f5cd2d"/>
                      </a:solidFill>
                    </a:lnL>
                    <a:lnR w="5760">
                      <a:solidFill>
                        <a:srgbClr val="f5cd2d"/>
                      </a:solidFill>
                    </a:lnR>
                    <a:lnT w="5760">
                      <a:solidFill>
                        <a:srgbClr val="f5cd2d"/>
                      </a:solidFill>
                    </a:lnT>
                    <a:lnB w="5760">
                      <a:solidFill>
                        <a:srgbClr val="f5cd2d"/>
                      </a:solidFill>
                    </a:lnB>
                    <a:solidFill>
                      <a:srgbClr val="ffc000"/>
                    </a:solidFill>
                  </a:tcPr>
                </a:tc>
              </a:tr>
              <a:tr h="2268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entury Schoolbook"/>
                        </a:rPr>
                        <a:t>高</a:t>
                      </a:r>
                      <a:endParaRPr b="0" lang="en-US" sz="1800" spc="-1" strike="noStrike">
                        <a:solidFill>
                          <a:srgbClr val="663300"/>
                        </a:solidFill>
                        <a:latin typeface="Century Schoolbook"/>
                      </a:endParaRPr>
                    </a:p>
                  </a:txBody>
                  <a:tcPr anchor="t" marL="90000" marR="90000">
                    <a:lnL w="5760">
                      <a:solidFill>
                        <a:srgbClr val="f5cd2d"/>
                      </a:solidFill>
                    </a:lnL>
                    <a:lnR w="5760">
                      <a:solidFill>
                        <a:srgbClr val="f5cd2d"/>
                      </a:solidFill>
                    </a:lnR>
                    <a:lnT w="5760">
                      <a:solidFill>
                        <a:srgbClr val="f5cd2d"/>
                      </a:solidFill>
                    </a:lnT>
                    <a:lnB w="5760">
                      <a:solidFill>
                        <a:srgbClr val="f5cd2d"/>
                      </a:solidFill>
                    </a:lnB>
                    <a:solidFill>
                      <a:srgbClr val="ffc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u="sng">
                          <a:solidFill>
                            <a:srgbClr val="000000"/>
                          </a:solidFill>
                          <a:uFillTx/>
                          <a:latin typeface="Century Schoolbook"/>
                        </a:rPr>
                        <a:t>複雑な購買行動型の製品</a:t>
                      </a:r>
                      <a:endParaRPr b="0" lang="en-US" sz="1800" spc="-1" strike="noStrike">
                        <a:solidFill>
                          <a:srgbClr val="6633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Century Schoolbook"/>
                      </a:endParaRPr>
                    </a:p>
                  </a:txBody>
                  <a:tcPr anchor="t" marL="90000" marR="90000">
                    <a:lnL w="5760">
                      <a:solidFill>
                        <a:srgbClr val="f5cd2d"/>
                      </a:solidFill>
                    </a:lnL>
                    <a:lnR w="5760">
                      <a:solidFill>
                        <a:srgbClr val="f5cd2d"/>
                      </a:solidFill>
                    </a:lnR>
                    <a:lnT w="5760">
                      <a:solidFill>
                        <a:srgbClr val="f5cd2d"/>
                      </a:solidFill>
                    </a:lnT>
                    <a:lnB w="5760">
                      <a:solidFill>
                        <a:srgbClr val="f5cd2d"/>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u="sng">
                          <a:solidFill>
                            <a:srgbClr val="000000"/>
                          </a:solidFill>
                          <a:uFillTx/>
                          <a:latin typeface="Century Schoolbook"/>
                        </a:rPr>
                        <a:t>バラエティ・シーキング型の製品</a:t>
                      </a:r>
                      <a:endParaRPr b="0" lang="en-US" sz="1800" spc="-1" strike="noStrike">
                        <a:solidFill>
                          <a:srgbClr val="663300"/>
                        </a:solidFill>
                        <a:latin typeface="Century Schoolbook"/>
                      </a:endParaRPr>
                    </a:p>
                  </a:txBody>
                  <a:tcPr anchor="t" marL="90000" marR="90000">
                    <a:lnL w="5760">
                      <a:solidFill>
                        <a:srgbClr val="f5cd2d"/>
                      </a:solidFill>
                    </a:lnL>
                    <a:lnR w="5760">
                      <a:solidFill>
                        <a:srgbClr val="f5cd2d"/>
                      </a:solidFill>
                    </a:lnR>
                    <a:lnT w="5760">
                      <a:solidFill>
                        <a:srgbClr val="f5cd2d"/>
                      </a:solidFill>
                    </a:lnT>
                    <a:lnB w="5760">
                      <a:solidFill>
                        <a:srgbClr val="f5cd2d"/>
                      </a:solidFill>
                    </a:lnB>
                    <a:solidFill>
                      <a:srgbClr val="ffffff"/>
                    </a:solidFill>
                  </a:tcPr>
                </a:tc>
              </a:tr>
              <a:tr h="23036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entury Schoolbook"/>
                        </a:rPr>
                        <a:t>低</a:t>
                      </a:r>
                      <a:endParaRPr b="0" lang="en-US" sz="1800" spc="-1" strike="noStrike">
                        <a:solidFill>
                          <a:srgbClr val="663300"/>
                        </a:solidFill>
                        <a:latin typeface="Century Schoolbook"/>
                      </a:endParaRPr>
                    </a:p>
                  </a:txBody>
                  <a:tcPr anchor="t" marL="90000" marR="90000">
                    <a:lnL w="5760">
                      <a:solidFill>
                        <a:srgbClr val="f5cd2d"/>
                      </a:solidFill>
                    </a:lnL>
                    <a:lnR w="5760">
                      <a:solidFill>
                        <a:srgbClr val="f5cd2d"/>
                      </a:solidFill>
                    </a:lnR>
                    <a:lnT w="5760">
                      <a:solidFill>
                        <a:srgbClr val="f5cd2d"/>
                      </a:solidFill>
                    </a:lnT>
                    <a:lnB w="5760">
                      <a:solidFill>
                        <a:srgbClr val="f5cd2d"/>
                      </a:solidFill>
                    </a:lnB>
                    <a:solidFill>
                      <a:srgbClr val="ffc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u="sng">
                          <a:solidFill>
                            <a:srgbClr val="000000"/>
                          </a:solidFill>
                          <a:uFillTx/>
                          <a:latin typeface="Century Schoolbook"/>
                        </a:rPr>
                        <a:t>不協和低減型の製品</a:t>
                      </a:r>
                      <a:endParaRPr b="0" lang="en-US" sz="1800" spc="-1" strike="noStrike">
                        <a:solidFill>
                          <a:srgbClr val="663300"/>
                        </a:solidFill>
                        <a:latin typeface="Century Schoolbook"/>
                      </a:endParaRPr>
                    </a:p>
                  </a:txBody>
                  <a:tcPr anchor="t" marL="90000" marR="90000">
                    <a:lnL w="5760">
                      <a:solidFill>
                        <a:srgbClr val="f5cd2d"/>
                      </a:solidFill>
                    </a:lnL>
                    <a:lnR w="5760">
                      <a:solidFill>
                        <a:srgbClr val="f5cd2d"/>
                      </a:solidFill>
                    </a:lnR>
                    <a:lnT w="5760">
                      <a:solidFill>
                        <a:srgbClr val="f5cd2d"/>
                      </a:solidFill>
                    </a:lnT>
                    <a:lnB w="5760">
                      <a:solidFill>
                        <a:srgbClr val="f5cd2d"/>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u="sng">
                          <a:solidFill>
                            <a:srgbClr val="000000"/>
                          </a:solidFill>
                          <a:uFillTx/>
                          <a:latin typeface="Century Schoolbook"/>
                        </a:rPr>
                        <a:t>習慣購買型の製品</a:t>
                      </a:r>
                      <a:endParaRPr b="0" lang="en-US" sz="1800" spc="-1" strike="noStrike">
                        <a:solidFill>
                          <a:srgbClr val="663300"/>
                        </a:solidFill>
                        <a:latin typeface="Century Schoolbook"/>
                      </a:endParaRPr>
                    </a:p>
                  </a:txBody>
                  <a:tcPr anchor="t" marL="90000" marR="90000">
                    <a:lnL w="5760">
                      <a:solidFill>
                        <a:srgbClr val="f5cd2d"/>
                      </a:solidFill>
                    </a:lnL>
                    <a:lnR w="5760">
                      <a:solidFill>
                        <a:srgbClr val="f5cd2d"/>
                      </a:solidFill>
                    </a:lnR>
                    <a:lnT w="5760">
                      <a:solidFill>
                        <a:srgbClr val="f5cd2d"/>
                      </a:solidFill>
                    </a:lnT>
                    <a:lnB w="5760">
                      <a:solidFill>
                        <a:srgbClr val="f5cd2d"/>
                      </a:solidFill>
                    </a:lnB>
                    <a:solidFill>
                      <a:srgbClr val="ffffff"/>
                    </a:solidFill>
                  </a:tcPr>
                </a:tc>
              </a:tr>
            </a:tbl>
          </a:graphicData>
        </a:graphic>
      </p:graphicFrame>
      <p:sp>
        <p:nvSpPr>
          <p:cNvPr id="490" name="テキスト ボックス 9"/>
          <p:cNvSpPr/>
          <p:nvPr/>
        </p:nvSpPr>
        <p:spPr>
          <a:xfrm>
            <a:off x="3857760" y="107172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entury Schoolbook"/>
              </a:rPr>
              <a:t>関与水準</a:t>
            </a:r>
            <a:endParaRPr b="0" lang="en-US" sz="1800" spc="-1" strike="noStrike">
              <a:solidFill>
                <a:srgbClr val="663300"/>
              </a:solidFill>
              <a:latin typeface="Century Schoolbook"/>
            </a:endParaRPr>
          </a:p>
        </p:txBody>
      </p:sp>
      <p:sp>
        <p:nvSpPr>
          <p:cNvPr id="491" name="テキスト ボックス 11"/>
          <p:cNvSpPr/>
          <p:nvPr/>
        </p:nvSpPr>
        <p:spPr>
          <a:xfrm>
            <a:off x="-124200" y="2643120"/>
            <a:ext cx="729000" cy="2071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entury Schoolbook"/>
              </a:rPr>
              <a:t>ブランド間知覚差異</a:t>
            </a:r>
            <a:endParaRPr b="0" lang="en-US" sz="1800" spc="-1" strike="noStrike">
              <a:solidFill>
                <a:srgbClr val="663300"/>
              </a:solidFill>
              <a:latin typeface="Century Schoolbook"/>
            </a:endParaRPr>
          </a:p>
        </p:txBody>
      </p:sp>
      <p:sp>
        <p:nvSpPr>
          <p:cNvPr id="492" name="円/楕円 12"/>
          <p:cNvSpPr/>
          <p:nvPr/>
        </p:nvSpPr>
        <p:spPr>
          <a:xfrm>
            <a:off x="1071720" y="2786040"/>
            <a:ext cx="857160" cy="857160"/>
          </a:xfrm>
          <a:prstGeom prst="ellipse">
            <a:avLst/>
          </a:prstGeom>
          <a:solidFill>
            <a:srgbClr val="f2fcb6"/>
          </a:solidFill>
          <a:ln w="25560">
            <a:solidFill>
              <a:srgbClr val="d9f62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entury Schoolbook"/>
              </a:rPr>
              <a:t>認知</a:t>
            </a:r>
            <a:endParaRPr b="0" lang="en-US" sz="1600" spc="-1" strike="noStrike">
              <a:solidFill>
                <a:srgbClr val="663300"/>
              </a:solidFill>
              <a:latin typeface="Century Schoolbook"/>
            </a:endParaRPr>
          </a:p>
        </p:txBody>
      </p:sp>
      <p:sp>
        <p:nvSpPr>
          <p:cNvPr id="493" name="円/楕円 13"/>
          <p:cNvSpPr/>
          <p:nvPr/>
        </p:nvSpPr>
        <p:spPr>
          <a:xfrm>
            <a:off x="2357280" y="2786040"/>
            <a:ext cx="857520" cy="857160"/>
          </a:xfrm>
          <a:prstGeom prst="ellipse">
            <a:avLst/>
          </a:prstGeom>
          <a:solidFill>
            <a:srgbClr val="f2fcb6"/>
          </a:solidFill>
          <a:ln w="25560">
            <a:solidFill>
              <a:srgbClr val="d9f62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entury Schoolbook"/>
              </a:rPr>
              <a:t>評価</a:t>
            </a:r>
            <a:endParaRPr b="0" lang="en-US" sz="1600" spc="-1" strike="noStrike">
              <a:solidFill>
                <a:srgbClr val="663300"/>
              </a:solidFill>
              <a:latin typeface="Century Schoolbook"/>
            </a:endParaRPr>
          </a:p>
        </p:txBody>
      </p:sp>
      <p:sp>
        <p:nvSpPr>
          <p:cNvPr id="494" name="円/楕円 14"/>
          <p:cNvSpPr/>
          <p:nvPr/>
        </p:nvSpPr>
        <p:spPr>
          <a:xfrm>
            <a:off x="3643200" y="2786040"/>
            <a:ext cx="857520" cy="857160"/>
          </a:xfrm>
          <a:prstGeom prst="ellipse">
            <a:avLst/>
          </a:prstGeom>
          <a:solidFill>
            <a:srgbClr val="f2fcb6"/>
          </a:solidFill>
          <a:ln w="25560">
            <a:solidFill>
              <a:srgbClr val="d9f62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entury Schoolbook"/>
              </a:rPr>
              <a:t>行動</a:t>
            </a:r>
            <a:endParaRPr b="0" lang="en-US" sz="1600" spc="-1" strike="noStrike">
              <a:solidFill>
                <a:srgbClr val="663300"/>
              </a:solidFill>
              <a:latin typeface="Century Schoolbook"/>
            </a:endParaRPr>
          </a:p>
        </p:txBody>
      </p:sp>
      <p:sp>
        <p:nvSpPr>
          <p:cNvPr id="495" name="円/楕円 15"/>
          <p:cNvSpPr/>
          <p:nvPr/>
        </p:nvSpPr>
        <p:spPr>
          <a:xfrm>
            <a:off x="7215120" y="2786040"/>
            <a:ext cx="857160" cy="857160"/>
          </a:xfrm>
          <a:prstGeom prst="ellipse">
            <a:avLst/>
          </a:prstGeom>
          <a:solidFill>
            <a:srgbClr val="f2fcb6"/>
          </a:solidFill>
          <a:ln w="25560">
            <a:solidFill>
              <a:srgbClr val="d9f62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entury Schoolbook"/>
              </a:rPr>
              <a:t>評価</a:t>
            </a:r>
            <a:endParaRPr b="0" lang="en-US" sz="1600" spc="-1" strike="noStrike">
              <a:solidFill>
                <a:srgbClr val="663300"/>
              </a:solidFill>
              <a:latin typeface="Century Schoolbook"/>
            </a:endParaRPr>
          </a:p>
        </p:txBody>
      </p:sp>
      <p:sp>
        <p:nvSpPr>
          <p:cNvPr id="496" name="円/楕円 16"/>
          <p:cNvSpPr/>
          <p:nvPr/>
        </p:nvSpPr>
        <p:spPr>
          <a:xfrm>
            <a:off x="5929200" y="2786040"/>
            <a:ext cx="857520" cy="857160"/>
          </a:xfrm>
          <a:prstGeom prst="ellipse">
            <a:avLst/>
          </a:prstGeom>
          <a:solidFill>
            <a:srgbClr val="f2fcb6"/>
          </a:solidFill>
          <a:ln w="25560">
            <a:solidFill>
              <a:srgbClr val="d9f62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entury Schoolbook"/>
              </a:rPr>
              <a:t>行動</a:t>
            </a:r>
            <a:endParaRPr b="0" lang="en-US" sz="1600" spc="-1" strike="noStrike">
              <a:solidFill>
                <a:srgbClr val="663300"/>
              </a:solidFill>
              <a:latin typeface="Century Schoolbook"/>
            </a:endParaRPr>
          </a:p>
        </p:txBody>
      </p:sp>
      <p:sp>
        <p:nvSpPr>
          <p:cNvPr id="497" name="円/楕円 17"/>
          <p:cNvSpPr/>
          <p:nvPr/>
        </p:nvSpPr>
        <p:spPr>
          <a:xfrm>
            <a:off x="4643280" y="2786040"/>
            <a:ext cx="857520" cy="857160"/>
          </a:xfrm>
          <a:prstGeom prst="ellipse">
            <a:avLst/>
          </a:prstGeom>
          <a:solidFill>
            <a:srgbClr val="f2fcb6"/>
          </a:solidFill>
          <a:ln w="25560">
            <a:solidFill>
              <a:srgbClr val="d9f62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entury Schoolbook"/>
              </a:rPr>
              <a:t>認知</a:t>
            </a:r>
            <a:endParaRPr b="0" lang="en-US" sz="1600" spc="-1" strike="noStrike">
              <a:solidFill>
                <a:srgbClr val="663300"/>
              </a:solidFill>
              <a:latin typeface="Century Schoolbook"/>
            </a:endParaRPr>
          </a:p>
        </p:txBody>
      </p:sp>
      <p:sp>
        <p:nvSpPr>
          <p:cNvPr id="498" name="右矢印 18"/>
          <p:cNvSpPr/>
          <p:nvPr/>
        </p:nvSpPr>
        <p:spPr>
          <a:xfrm>
            <a:off x="2000160" y="3000240"/>
            <a:ext cx="285840" cy="428760"/>
          </a:xfrm>
          <a:prstGeom prst="rightArrow">
            <a:avLst>
              <a:gd name="adj1" fmla="val 50000"/>
              <a:gd name="adj2" fmla="val 50000"/>
            </a:avLst>
          </a:prstGeom>
          <a:solidFill>
            <a:srgbClr val="fde7ee"/>
          </a:solidFill>
          <a:ln w="25560">
            <a:solidFill>
              <a:srgbClr val="fba9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499" name="右矢印 19"/>
          <p:cNvSpPr/>
          <p:nvPr/>
        </p:nvSpPr>
        <p:spPr>
          <a:xfrm>
            <a:off x="6858000" y="3000240"/>
            <a:ext cx="285840" cy="428760"/>
          </a:xfrm>
          <a:prstGeom prst="rightArrow">
            <a:avLst>
              <a:gd name="adj1" fmla="val 50000"/>
              <a:gd name="adj2" fmla="val 50000"/>
            </a:avLst>
          </a:prstGeom>
          <a:solidFill>
            <a:srgbClr val="fde7ee"/>
          </a:solidFill>
          <a:ln w="25560">
            <a:solidFill>
              <a:srgbClr val="fba9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500" name="右矢印 20"/>
          <p:cNvSpPr/>
          <p:nvPr/>
        </p:nvSpPr>
        <p:spPr>
          <a:xfrm>
            <a:off x="5572080" y="3000240"/>
            <a:ext cx="285840" cy="428760"/>
          </a:xfrm>
          <a:prstGeom prst="rightArrow">
            <a:avLst>
              <a:gd name="adj1" fmla="val 50000"/>
              <a:gd name="adj2" fmla="val 50000"/>
            </a:avLst>
          </a:prstGeom>
          <a:solidFill>
            <a:srgbClr val="fde7ee"/>
          </a:solidFill>
          <a:ln w="25560">
            <a:solidFill>
              <a:srgbClr val="fba9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501" name="右矢印 21"/>
          <p:cNvSpPr/>
          <p:nvPr/>
        </p:nvSpPr>
        <p:spPr>
          <a:xfrm>
            <a:off x="3286080" y="3000240"/>
            <a:ext cx="285840" cy="428760"/>
          </a:xfrm>
          <a:prstGeom prst="rightArrow">
            <a:avLst>
              <a:gd name="adj1" fmla="val 50000"/>
              <a:gd name="adj2" fmla="val 50000"/>
            </a:avLst>
          </a:prstGeom>
          <a:solidFill>
            <a:srgbClr val="fde7ee"/>
          </a:solidFill>
          <a:ln w="25560">
            <a:solidFill>
              <a:srgbClr val="fba9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502" name="テキスト ボックス 22"/>
          <p:cNvSpPr/>
          <p:nvPr/>
        </p:nvSpPr>
        <p:spPr>
          <a:xfrm>
            <a:off x="1071720" y="3786120"/>
            <a:ext cx="35002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Schoolbook"/>
              </a:rPr>
              <a:t>（知り）　　　　　　　 （感じ）　　　　　（行動する）</a:t>
            </a:r>
            <a:endParaRPr b="0" lang="en-US" sz="1400" spc="-1" strike="noStrike">
              <a:solidFill>
                <a:srgbClr val="663300"/>
              </a:solidFill>
              <a:latin typeface="Century Schoolbook"/>
            </a:endParaRPr>
          </a:p>
        </p:txBody>
      </p:sp>
      <p:sp>
        <p:nvSpPr>
          <p:cNvPr id="503" name="テキスト ボックス 23"/>
          <p:cNvSpPr/>
          <p:nvPr/>
        </p:nvSpPr>
        <p:spPr>
          <a:xfrm>
            <a:off x="4643280" y="3786120"/>
            <a:ext cx="3500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Schoolbook"/>
              </a:rPr>
              <a:t>（知り）　　　　　　　（行動し） 　　　　　（感じる）</a:t>
            </a:r>
            <a:endParaRPr b="0" lang="en-US" sz="1400" spc="-1" strike="noStrike">
              <a:solidFill>
                <a:srgbClr val="663300"/>
              </a:solidFill>
              <a:latin typeface="Century Schoolbook"/>
            </a:endParaRPr>
          </a:p>
        </p:txBody>
      </p:sp>
      <p:sp>
        <p:nvSpPr>
          <p:cNvPr id="504" name="円/楕円 24"/>
          <p:cNvSpPr/>
          <p:nvPr/>
        </p:nvSpPr>
        <p:spPr>
          <a:xfrm>
            <a:off x="2357280" y="5000760"/>
            <a:ext cx="857520" cy="857160"/>
          </a:xfrm>
          <a:prstGeom prst="ellipse">
            <a:avLst/>
          </a:prstGeom>
          <a:solidFill>
            <a:srgbClr val="f2fcb6"/>
          </a:solidFill>
          <a:ln w="25560">
            <a:solidFill>
              <a:srgbClr val="d9f62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entury Schoolbook"/>
              </a:rPr>
              <a:t>認知</a:t>
            </a:r>
            <a:endParaRPr b="0" lang="en-US" sz="1600" spc="-1" strike="noStrike">
              <a:solidFill>
                <a:srgbClr val="663300"/>
              </a:solidFill>
              <a:latin typeface="Century Schoolbook"/>
            </a:endParaRPr>
          </a:p>
        </p:txBody>
      </p:sp>
      <p:sp>
        <p:nvSpPr>
          <p:cNvPr id="505" name="円/楕円 25"/>
          <p:cNvSpPr/>
          <p:nvPr/>
        </p:nvSpPr>
        <p:spPr>
          <a:xfrm>
            <a:off x="6858000" y="5072040"/>
            <a:ext cx="857160" cy="857160"/>
          </a:xfrm>
          <a:prstGeom prst="ellipse">
            <a:avLst/>
          </a:prstGeom>
          <a:solidFill>
            <a:srgbClr val="f2fcb6"/>
          </a:solidFill>
          <a:ln w="25560">
            <a:solidFill>
              <a:srgbClr val="d9f62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entury Schoolbook"/>
              </a:rPr>
              <a:t>行動</a:t>
            </a:r>
            <a:endParaRPr b="0" lang="en-US" sz="1600" spc="-1" strike="noStrike">
              <a:solidFill>
                <a:srgbClr val="663300"/>
              </a:solidFill>
              <a:latin typeface="Century Schoolbook"/>
            </a:endParaRPr>
          </a:p>
        </p:txBody>
      </p:sp>
      <p:sp>
        <p:nvSpPr>
          <p:cNvPr id="506" name="円/楕円 26"/>
          <p:cNvSpPr/>
          <p:nvPr/>
        </p:nvSpPr>
        <p:spPr>
          <a:xfrm>
            <a:off x="1071720" y="5000760"/>
            <a:ext cx="857160" cy="857160"/>
          </a:xfrm>
          <a:prstGeom prst="ellipse">
            <a:avLst/>
          </a:prstGeom>
          <a:solidFill>
            <a:srgbClr val="f2fcb6"/>
          </a:solidFill>
          <a:ln w="25560">
            <a:solidFill>
              <a:srgbClr val="d9f62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entury Schoolbook"/>
              </a:rPr>
              <a:t>行動</a:t>
            </a:r>
            <a:endParaRPr b="0" lang="en-US" sz="1600" spc="-1" strike="noStrike">
              <a:solidFill>
                <a:srgbClr val="663300"/>
              </a:solidFill>
              <a:latin typeface="Century Schoolbook"/>
            </a:endParaRPr>
          </a:p>
        </p:txBody>
      </p:sp>
      <p:sp>
        <p:nvSpPr>
          <p:cNvPr id="507" name="円/楕円 27"/>
          <p:cNvSpPr/>
          <p:nvPr/>
        </p:nvSpPr>
        <p:spPr>
          <a:xfrm>
            <a:off x="5143680" y="5072040"/>
            <a:ext cx="857160" cy="857160"/>
          </a:xfrm>
          <a:prstGeom prst="ellipse">
            <a:avLst/>
          </a:prstGeom>
          <a:solidFill>
            <a:srgbClr val="f2fcb6"/>
          </a:solidFill>
          <a:ln w="25560">
            <a:solidFill>
              <a:srgbClr val="d9f62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entury Schoolbook"/>
              </a:rPr>
              <a:t>認知</a:t>
            </a:r>
            <a:endParaRPr b="0" lang="en-US" sz="1600" spc="-1" strike="noStrike">
              <a:solidFill>
                <a:srgbClr val="663300"/>
              </a:solidFill>
              <a:latin typeface="Century Schoolbook"/>
            </a:endParaRPr>
          </a:p>
        </p:txBody>
      </p:sp>
      <p:sp>
        <p:nvSpPr>
          <p:cNvPr id="508" name="円/楕円 28"/>
          <p:cNvSpPr/>
          <p:nvPr/>
        </p:nvSpPr>
        <p:spPr>
          <a:xfrm>
            <a:off x="3643200" y="5000760"/>
            <a:ext cx="857520" cy="857160"/>
          </a:xfrm>
          <a:prstGeom prst="ellipse">
            <a:avLst/>
          </a:prstGeom>
          <a:solidFill>
            <a:srgbClr val="f2fcb6"/>
          </a:solidFill>
          <a:ln w="25560">
            <a:solidFill>
              <a:srgbClr val="d9f62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entury Schoolbook"/>
              </a:rPr>
              <a:t>評価</a:t>
            </a:r>
            <a:endParaRPr b="0" lang="en-US" sz="1600" spc="-1" strike="noStrike">
              <a:solidFill>
                <a:srgbClr val="663300"/>
              </a:solidFill>
              <a:latin typeface="Century Schoolbook"/>
            </a:endParaRPr>
          </a:p>
        </p:txBody>
      </p:sp>
      <p:sp>
        <p:nvSpPr>
          <p:cNvPr id="509" name="右矢印 29"/>
          <p:cNvSpPr/>
          <p:nvPr/>
        </p:nvSpPr>
        <p:spPr>
          <a:xfrm>
            <a:off x="6143760" y="5286240"/>
            <a:ext cx="571320" cy="428760"/>
          </a:xfrm>
          <a:prstGeom prst="rightArrow">
            <a:avLst>
              <a:gd name="adj1" fmla="val 50000"/>
              <a:gd name="adj2" fmla="val 49968"/>
            </a:avLst>
          </a:prstGeom>
          <a:solidFill>
            <a:srgbClr val="fde7ee"/>
          </a:solidFill>
          <a:ln w="25560">
            <a:solidFill>
              <a:srgbClr val="fba9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510" name="右矢印 30"/>
          <p:cNvSpPr/>
          <p:nvPr/>
        </p:nvSpPr>
        <p:spPr>
          <a:xfrm>
            <a:off x="3286080" y="5214960"/>
            <a:ext cx="285840" cy="428760"/>
          </a:xfrm>
          <a:prstGeom prst="rightArrow">
            <a:avLst>
              <a:gd name="adj1" fmla="val 50000"/>
              <a:gd name="adj2" fmla="val 50000"/>
            </a:avLst>
          </a:prstGeom>
          <a:solidFill>
            <a:srgbClr val="fde7ee"/>
          </a:solidFill>
          <a:ln w="25560">
            <a:solidFill>
              <a:srgbClr val="fba9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511" name="右矢印 31"/>
          <p:cNvSpPr/>
          <p:nvPr/>
        </p:nvSpPr>
        <p:spPr>
          <a:xfrm>
            <a:off x="2000160" y="5214960"/>
            <a:ext cx="285840" cy="428760"/>
          </a:xfrm>
          <a:prstGeom prst="rightArrow">
            <a:avLst>
              <a:gd name="adj1" fmla="val 50000"/>
              <a:gd name="adj2" fmla="val 50000"/>
            </a:avLst>
          </a:prstGeom>
          <a:solidFill>
            <a:srgbClr val="fde7ee"/>
          </a:solidFill>
          <a:ln w="25560">
            <a:solidFill>
              <a:srgbClr val="fba9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512" name="テキスト ボックス 32"/>
          <p:cNvSpPr/>
          <p:nvPr/>
        </p:nvSpPr>
        <p:spPr>
          <a:xfrm>
            <a:off x="1000080" y="6072120"/>
            <a:ext cx="3500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Schoolbook"/>
              </a:rPr>
              <a:t>（行動し）　　　　　　　（知り）　　　　　　（感じる）</a:t>
            </a:r>
            <a:endParaRPr b="0" lang="en-US" sz="1400" spc="-1" strike="noStrike">
              <a:solidFill>
                <a:srgbClr val="663300"/>
              </a:solidFill>
              <a:latin typeface="Century Schoolbook"/>
            </a:endParaRPr>
          </a:p>
        </p:txBody>
      </p:sp>
      <p:sp>
        <p:nvSpPr>
          <p:cNvPr id="513" name="テキスト ボックス 33"/>
          <p:cNvSpPr/>
          <p:nvPr/>
        </p:nvSpPr>
        <p:spPr>
          <a:xfrm>
            <a:off x="5214960" y="6072120"/>
            <a:ext cx="27147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Schoolbook"/>
              </a:rPr>
              <a:t>（知り）　　　　　　　　　（行動する）</a:t>
            </a:r>
            <a:endParaRPr b="0" lang="en-US" sz="1400" spc="-1" strike="noStrike">
              <a:solidFill>
                <a:srgbClr val="663300"/>
              </a:solidFill>
              <a:latin typeface="Century Schoolbook"/>
            </a:endParaRPr>
          </a:p>
        </p:txBody>
      </p:sp>
      <p:sp>
        <p:nvSpPr>
          <p:cNvPr id="514" name="円/楕円 34"/>
          <p:cNvSpPr/>
          <p:nvPr/>
        </p:nvSpPr>
        <p:spPr>
          <a:xfrm>
            <a:off x="1285920" y="2000160"/>
            <a:ext cx="3000240" cy="214308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0000"/>
                </a:solidFill>
                <a:latin typeface="HGP創英角ｺﾞｼｯｸUB"/>
                <a:ea typeface="HGP創英角ｺﾞｼｯｸUB"/>
              </a:rPr>
              <a:t>買回り品</a:t>
            </a:r>
            <a:endParaRPr b="0" lang="en-US" sz="4000" spc="-1" strike="noStrike">
              <a:solidFill>
                <a:srgbClr val="663300"/>
              </a:solidFill>
              <a:latin typeface="Century Schoolbook"/>
            </a:endParaRPr>
          </a:p>
        </p:txBody>
      </p:sp>
      <p:sp>
        <p:nvSpPr>
          <p:cNvPr id="515" name="テキスト ボックス 37"/>
          <p:cNvSpPr/>
          <p:nvPr/>
        </p:nvSpPr>
        <p:spPr>
          <a:xfrm>
            <a:off x="4714920" y="6488280"/>
            <a:ext cx="464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Schoolbook"/>
              </a:rPr>
              <a:t>[</a:t>
            </a:r>
            <a:r>
              <a:rPr b="1" lang="ja-JP" sz="1600" spc="-1" strike="noStrike">
                <a:solidFill>
                  <a:srgbClr val="000000"/>
                </a:solidFill>
                <a:latin typeface="Century Schoolbook"/>
              </a:rPr>
              <a:t>恩蔵　直人　 （２００４年）　 </a:t>
            </a:r>
            <a:r>
              <a:rPr b="1" lang="en-US" sz="1600" spc="-1" strike="noStrike">
                <a:solidFill>
                  <a:srgbClr val="000000"/>
                </a:solidFill>
                <a:latin typeface="Century Schoolbook"/>
              </a:rPr>
              <a:t>p.112]</a:t>
            </a:r>
            <a:r>
              <a:rPr b="0" lang="ja-JP" sz="1800" spc="-1" strike="noStrike">
                <a:solidFill>
                  <a:srgbClr val="000000"/>
                </a:solidFill>
                <a:latin typeface="Century Schoolbook"/>
              </a:rPr>
              <a:t>　</a:t>
            </a:r>
            <a:endParaRPr b="0" lang="en-US" sz="1800" spc="-1" strike="noStrike">
              <a:solidFill>
                <a:srgbClr val="663300"/>
              </a:solidFill>
              <a:latin typeface="Century Schoolbook"/>
            </a:endParaRPr>
          </a:p>
        </p:txBody>
      </p:sp>
      <p:sp>
        <p:nvSpPr>
          <p:cNvPr id="516" name="正方形/長方形 35"/>
          <p:cNvSpPr/>
          <p:nvPr/>
        </p:nvSpPr>
        <p:spPr>
          <a:xfrm>
            <a:off x="3649680" y="6581880"/>
            <a:ext cx="82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Schoolbook"/>
              </a:rPr>
              <a:t>＊筆者加筆修正</a:t>
            </a:r>
            <a:endParaRPr b="0" lang="en-US" sz="1200" spc="-1" strike="noStrike">
              <a:solidFill>
                <a:srgbClr val="663300"/>
              </a:solidFill>
              <a:latin typeface="Century Schoolbook"/>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58">
                                  <p:stCondLst>
                                    <p:cond delay="0"/>
                                  </p:stCondLst>
                                  <p:iterate type="lt">
                                    <p:tmAbs val="0"/>
                                  </p:iterate>
                                  <p:childTnLst>
                                    <p:set>
                                      <p:cBhvr>
                                        <p:cTn id="66" dur="1" fill="hold">
                                          <p:stCondLst>
                                            <p:cond delay="0"/>
                                          </p:stCondLst>
                                        </p:cTn>
                                        <p:tgtEl>
                                          <p:spTgt spid="514"/>
                                        </p:tgtEl>
                                        <p:attrNameLst>
                                          <p:attrName>style.visibility</p:attrName>
                                        </p:attrNameLst>
                                      </p:cBhvr>
                                      <p:to>
                                        <p:strVal val="visible"/>
                                      </p:to>
                                    </p:set>
                                    <p:anim calcmode="lin" valueType="num">
                                      <p:cBhvr additive="repl">
                                        <p:cTn id="67" dur="500" fill="hold"/>
                                        <p:tgtEl>
                                          <p:spTgt spid="514"/>
                                        </p:tgtEl>
                                        <p:attrNameLst>
                                          <p:attrName>ppt_w</p:attrName>
                                        </p:attrNameLst>
                                      </p:cBhvr>
                                      <p:tavLst>
                                        <p:tav tm="0">
                                          <p:val>
                                            <p:strVal val="#ppt_w*2.5"/>
                                          </p:val>
                                        </p:tav>
                                        <p:tav tm="100000">
                                          <p:val>
                                            <p:strVal val="#ppt_w"/>
                                          </p:val>
                                        </p:tav>
                                      </p:tavLst>
                                    </p:anim>
                                    <p:anim calcmode="lin" valueType="num">
                                      <p:cBhvr additive="repl">
                                        <p:cTn id="68" dur="500" fill="hold"/>
                                        <p:tgtEl>
                                          <p:spTgt spid="514"/>
                                        </p:tgtEl>
                                        <p:attrNameLst>
                                          <p:attrName>ppt_h</p:attrName>
                                        </p:attrNameLst>
                                      </p:cBhvr>
                                      <p:tavLst>
                                        <p:tav tm="0">
                                          <p:val>
                                            <p:strVal val="#ppt_h*0.01"/>
                                          </p:val>
                                        </p:tav>
                                        <p:tav tm="100000">
                                          <p:val>
                                            <p:strVal val="#ppt_h"/>
                                          </p:val>
                                        </p:tav>
                                      </p:tavLst>
                                    </p:anim>
                                    <p:anim calcmode="lin" valueType="num">
                                      <p:cBhvr additive="repl">
                                        <p:cTn id="69" dur="500" fill="hold"/>
                                        <p:tgtEl>
                                          <p:spTgt spid="514"/>
                                        </p:tgtEl>
                                        <p:attrNameLst>
                                          <p:attrName>ppt_x</p:attrName>
                                        </p:attrNameLst>
                                      </p:cBhvr>
                                      <p:tavLst>
                                        <p:tav tm="0">
                                          <p:val>
                                            <p:strVal val="#ppt_x"/>
                                          </p:val>
                                        </p:tav>
                                        <p:tav tm="100000">
                                          <p:val>
                                            <p:strVal val="#ppt_x"/>
                                          </p:val>
                                        </p:tav>
                                      </p:tavLst>
                                    </p:anim>
                                    <p:anim calcmode="lin" valueType="num">
                                      <p:cBhvr additive="repl">
                                        <p:cTn id="70" dur="500" fill="hold"/>
                                        <p:tgtEl>
                                          <p:spTgt spid="514"/>
                                        </p:tgtEl>
                                        <p:attrNameLst>
                                          <p:attrName>ppt_y</p:attrName>
                                        </p:attrNameLst>
                                      </p:cBhvr>
                                      <p:tavLst>
                                        <p:tav tm="0">
                                          <p:val>
                                            <p:strVal val="#ppt_h+1"/>
                                          </p:val>
                                        </p:tav>
                                        <p:tav tm="100000">
                                          <p:val>
                                            <p:strVal val="#ppt_y"/>
                                          </p:val>
                                        </p:tav>
                                      </p:tavLst>
                                    </p:anim>
                                    <p:animEffect filter="fade" transition="in">
                                      <p:cBhvr additive="repl">
                                        <p:cTn id="71" dur="500"/>
                                        <p:tgtEl>
                                          <p:spTgt spid="5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575f6d"/>
                </a:solidFill>
                <a:latin typeface="Century Schoolbook"/>
              </a:rPr>
              <a:t>目次</a:t>
            </a:r>
            <a:endParaRPr b="0" lang="en-US" sz="3000" spc="-1" strike="noStrike">
              <a:solidFill>
                <a:srgbClr val="575f6d"/>
              </a:solidFill>
              <a:latin typeface="Century Schoolbook"/>
            </a:endParaRPr>
          </a:p>
        </p:txBody>
      </p:sp>
      <p:sp>
        <p:nvSpPr>
          <p:cNvPr id="362" name="スライド番号プレースホル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66A61-A7BE-4D31-8297-DC63EE3CCBF3}" type="slidenum">
              <a:rPr b="1" lang="ja-JP" sz="1400" spc="-1" strike="noStrike">
                <a:solidFill>
                  <a:srgbClr val="ffffff"/>
                </a:solidFill>
                <a:latin typeface="Century Schoolbook"/>
              </a:rPr>
              <a:t>&lt;number&gt;</a:t>
            </a:fld>
            <a:endParaRPr b="0" lang="en-US" sz="1400" spc="-1" strike="noStrike">
              <a:solidFill>
                <a:srgbClr val="663300"/>
              </a:solidFill>
              <a:latin typeface="Century Schoolbook"/>
            </a:endParaRPr>
          </a:p>
        </p:txBody>
      </p:sp>
      <p:pic>
        <p:nvPicPr>
          <p:cNvPr id="363" name="Picture 25" descr="C:\Documents and Settings\bm0701469\Local Settings\Temporary Internet Files\Content.IE5\8VAL8LS7\MPj04394460000[1].jpg"/>
          <p:cNvPicPr/>
          <p:nvPr/>
        </p:nvPicPr>
        <p:blipFill>
          <a:blip r:embed="rId1"/>
          <a:stretch/>
        </p:blipFill>
        <p:spPr>
          <a:xfrm>
            <a:off x="6286680" y="0"/>
            <a:ext cx="1857240" cy="6858000"/>
          </a:xfrm>
          <a:prstGeom prst="rect">
            <a:avLst/>
          </a:prstGeom>
          <a:ln w="0">
            <a:noFill/>
          </a:ln>
        </p:spPr>
      </p:pic>
      <p:sp>
        <p:nvSpPr>
          <p:cNvPr id="36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rPr>
              <a:t>問題意識</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rPr>
              <a:t>研究目的</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rPr>
              <a:t>仮説の導出</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スライド番号プレースホル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27253-690E-4228-83BB-810DAF129A45}" type="slidenum">
              <a:rPr b="1" lang="ja-JP" sz="1400" spc="-1" strike="noStrike">
                <a:solidFill>
                  <a:srgbClr val="ffffff"/>
                </a:solidFill>
                <a:latin typeface="Century Schoolbook"/>
              </a:rPr>
              <a:t>&lt;number&gt;</a:t>
            </a:fld>
            <a:endParaRPr b="0" lang="en-US" sz="1400" spc="-1" strike="noStrike">
              <a:solidFill>
                <a:srgbClr val="663300"/>
              </a:solidFill>
              <a:latin typeface="Century Schoolbook"/>
            </a:endParaRPr>
          </a:p>
        </p:txBody>
      </p:sp>
      <p:sp>
        <p:nvSpPr>
          <p:cNvPr id="518" name="正方形/長方形 3"/>
          <p:cNvSpPr/>
          <p:nvPr/>
        </p:nvSpPr>
        <p:spPr>
          <a:xfrm>
            <a:off x="285840" y="857160"/>
            <a:ext cx="7858080" cy="5286600"/>
          </a:xfrm>
          <a:prstGeom prst="rect">
            <a:avLst/>
          </a:prstGeom>
          <a:solidFill>
            <a:srgbClr val="ffff66"/>
          </a:solidFill>
          <a:ln w="25560">
            <a:solidFill>
              <a:srgbClr val="66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663300"/>
                </a:solidFill>
                <a:latin typeface="Century Schoolbook"/>
              </a:rPr>
              <a:t>購買に対する関与水準が高く、</a:t>
            </a:r>
            <a:endParaRPr b="0" lang="en-US" sz="18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663300"/>
                </a:solidFill>
                <a:latin typeface="Century Schoolbook"/>
              </a:rPr>
              <a:t>ブランド間の知覚差異が大きい場合、消費者は複雑な購買行動をとる。</a:t>
            </a:r>
            <a:endParaRPr b="0" lang="en-US" sz="18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663300"/>
                </a:solidFill>
                <a:latin typeface="Century Schoolbook"/>
              </a:rPr>
              <a:t>消費者はまずいろいろなブランドに関する情報を収集することによって</a:t>
            </a:r>
            <a:endParaRPr b="0" lang="en-US" sz="18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663300"/>
                </a:solidFill>
                <a:latin typeface="Century Schoolbook"/>
              </a:rPr>
              <a:t>ブランドの特徴を把握する。</a:t>
            </a:r>
            <a:endParaRPr b="0" lang="en-US" sz="18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663300"/>
                </a:solidFill>
                <a:latin typeface="Century Schoolbook"/>
              </a:rPr>
              <a:t>その上で、それらの情報を元に各ブランドに対する評価を行い、</a:t>
            </a:r>
            <a:endParaRPr b="0" lang="en-US" sz="18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663300"/>
                </a:solidFill>
                <a:latin typeface="Century Schoolbook"/>
              </a:rPr>
              <a:t>購買するブランドを決定することになる。</a:t>
            </a:r>
            <a:endParaRPr b="0" lang="en-US" sz="1800" spc="-1" strike="noStrike">
              <a:solidFill>
                <a:srgbClr val="663300"/>
              </a:solidFill>
              <a:latin typeface="Century Schoolbook"/>
            </a:endParaRPr>
          </a:p>
        </p:txBody>
      </p:sp>
      <p:sp>
        <p:nvSpPr>
          <p:cNvPr id="519" name="上リボン 6"/>
          <p:cNvSpPr/>
          <p:nvPr/>
        </p:nvSpPr>
        <p:spPr>
          <a:xfrm>
            <a:off x="2500200" y="1000080"/>
            <a:ext cx="3500640" cy="928800"/>
          </a:xfrm>
          <a:custGeom>
            <a:avLst/>
            <a:gdLst>
              <a:gd name="textAreaLeft" fmla="*/ 437400 w 3500640"/>
              <a:gd name="textAreaRight" fmla="*/ 3063240 w 3500640"/>
              <a:gd name="textAreaTop" fmla="*/ 0 h 928800"/>
              <a:gd name="textAreaBottom" fmla="*/ 774000 h 928800"/>
            </a:gdLst>
            <a:ahLst/>
            <a:rect l="textAreaLeft" t="textAreaTop" r="textAreaRight" b="textAreaBottom"/>
            <a:pathLst>
              <a:path w="21600" h="21600">
                <a:moveTo>
                  <a:pt x="5400" y="18000"/>
                </a:moveTo>
                <a:lnTo>
                  <a:pt x="5400" y="20700"/>
                </a:lnTo>
                <a:cubicBezTo>
                  <a:pt x="5400" y="21150"/>
                  <a:pt x="4980" y="21600"/>
                  <a:pt x="4560" y="21600"/>
                </a:cubicBezTo>
                <a:lnTo>
                  <a:pt x="0" y="21600"/>
                </a:lnTo>
                <a:lnTo>
                  <a:pt x="2750" y="12600"/>
                </a:lnTo>
                <a:lnTo>
                  <a:pt x="0" y="3600"/>
                </a:lnTo>
                <a:lnTo>
                  <a:pt x="2700" y="3600"/>
                </a:lnTo>
                <a:lnTo>
                  <a:pt x="2700" y="900"/>
                </a:lnTo>
                <a:cubicBezTo>
                  <a:pt x="2700" y="450"/>
                  <a:pt x="3120" y="0"/>
                  <a:pt x="3540" y="0"/>
                </a:cubicBezTo>
                <a:lnTo>
                  <a:pt x="18060" y="0"/>
                </a:lnTo>
                <a:cubicBezTo>
                  <a:pt x="18480" y="0"/>
                  <a:pt x="18900" y="450"/>
                  <a:pt x="18900" y="900"/>
                </a:cubicBezTo>
                <a:lnTo>
                  <a:pt x="18900" y="3600"/>
                </a:lnTo>
                <a:lnTo>
                  <a:pt x="21600" y="3600"/>
                </a:lnTo>
                <a:lnTo>
                  <a:pt x="18850" y="12600"/>
                </a:lnTo>
                <a:lnTo>
                  <a:pt x="21600" y="21600"/>
                </a:lnTo>
                <a:lnTo>
                  <a:pt x="17040" y="21600"/>
                </a:lnTo>
                <a:cubicBezTo>
                  <a:pt x="16620" y="21600"/>
                  <a:pt x="16200" y="21150"/>
                  <a:pt x="16200" y="20700"/>
                </a:cubicBezTo>
                <a:lnTo>
                  <a:pt x="16200" y="18000"/>
                </a:lnTo>
                <a:close/>
              </a:path>
              <a:path fill="darkenLess" w="21600" h="21600">
                <a:moveTo>
                  <a:pt x="5400" y="18000"/>
                </a:moveTo>
                <a:lnTo>
                  <a:pt x="5400" y="20700"/>
                </a:lnTo>
                <a:cubicBezTo>
                  <a:pt x="5400" y="20250"/>
                  <a:pt x="4980" y="19800"/>
                  <a:pt x="4560" y="19800"/>
                </a:cubicBezTo>
                <a:lnTo>
                  <a:pt x="3540" y="19800"/>
                </a:lnTo>
                <a:cubicBezTo>
                  <a:pt x="3120" y="19800"/>
                  <a:pt x="2700" y="19350"/>
                  <a:pt x="2700" y="18900"/>
                </a:cubicBezTo>
                <a:cubicBezTo>
                  <a:pt x="2700" y="18450"/>
                  <a:pt x="3120" y="18000"/>
                  <a:pt x="3540" y="18000"/>
                </a:cubicBezTo>
                <a:close/>
              </a:path>
              <a:path fill="darkenLess" w="21600" h="21600">
                <a:moveTo>
                  <a:pt x="16200" y="18000"/>
                </a:moveTo>
                <a:lnTo>
                  <a:pt x="16200" y="20700"/>
                </a:lnTo>
                <a:cubicBezTo>
                  <a:pt x="16200" y="20250"/>
                  <a:pt x="16620" y="19800"/>
                  <a:pt x="17040" y="19800"/>
                </a:cubicBezTo>
                <a:lnTo>
                  <a:pt x="18060" y="19800"/>
                </a:lnTo>
                <a:cubicBezTo>
                  <a:pt x="18480" y="19800"/>
                  <a:pt x="18900" y="19350"/>
                  <a:pt x="18900" y="18900"/>
                </a:cubicBezTo>
                <a:cubicBezTo>
                  <a:pt x="18900" y="18450"/>
                  <a:pt x="18480" y="18000"/>
                  <a:pt x="18060" y="18000"/>
                </a:cubicBezTo>
                <a:close/>
              </a:path>
              <a:path fill="darkenLess" w="21600" h="21600">
                <a:moveTo>
                  <a:pt x="2700" y="18900"/>
                </a:moveTo>
                <a:lnTo>
                  <a:pt x="2700" y="3600"/>
                </a:lnTo>
              </a:path>
              <a:path fill="darkenLess" w="21600" h="21600">
                <a:moveTo>
                  <a:pt x="18900" y="18900"/>
                </a:moveTo>
                <a:lnTo>
                  <a:pt x="18900" y="3600"/>
                </a:lnTo>
              </a:path>
            </a:pathLst>
          </a:custGeom>
          <a:solidFill>
            <a:srgbClr val="d9f62a"/>
          </a:solidFill>
          <a:ln w="25560">
            <a:solidFill>
              <a:srgbClr val="bb612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663300"/>
                </a:solidFill>
                <a:latin typeface="Century Schoolbook"/>
              </a:rPr>
              <a:t>複雑な購買行動型</a:t>
            </a:r>
            <a:endParaRPr b="0" lang="en-US" sz="1800" spc="-1" strike="noStrike">
              <a:solidFill>
                <a:srgbClr val="663300"/>
              </a:solidFill>
              <a:latin typeface="Century Schoolbook"/>
            </a:endParaRPr>
          </a:p>
        </p:txBody>
      </p:sp>
      <p:sp>
        <p:nvSpPr>
          <p:cNvPr id="520" name="円/楕円 8"/>
          <p:cNvSpPr/>
          <p:nvPr/>
        </p:nvSpPr>
        <p:spPr>
          <a:xfrm>
            <a:off x="2071800" y="2214720"/>
            <a:ext cx="857160" cy="857160"/>
          </a:xfrm>
          <a:prstGeom prst="ellipse">
            <a:avLst/>
          </a:prstGeom>
          <a:solidFill>
            <a:srgbClr val="f2fcb6"/>
          </a:solidFill>
          <a:ln w="25560">
            <a:solidFill>
              <a:srgbClr val="c8e80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entury Schoolbook"/>
              </a:rPr>
              <a:t>認知</a:t>
            </a:r>
            <a:endParaRPr b="0" lang="en-US" sz="1600" spc="-1" strike="noStrike">
              <a:solidFill>
                <a:srgbClr val="663300"/>
              </a:solidFill>
              <a:latin typeface="Century Schoolbook"/>
            </a:endParaRPr>
          </a:p>
        </p:txBody>
      </p:sp>
      <p:sp>
        <p:nvSpPr>
          <p:cNvPr id="521" name="円/楕円 9"/>
          <p:cNvSpPr/>
          <p:nvPr/>
        </p:nvSpPr>
        <p:spPr>
          <a:xfrm>
            <a:off x="3786120" y="2214720"/>
            <a:ext cx="857160" cy="857160"/>
          </a:xfrm>
          <a:prstGeom prst="ellipse">
            <a:avLst/>
          </a:prstGeom>
          <a:solidFill>
            <a:srgbClr val="f2fcb6"/>
          </a:solidFill>
          <a:ln w="25560">
            <a:solidFill>
              <a:srgbClr val="c8e80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entury Schoolbook"/>
              </a:rPr>
              <a:t>評価</a:t>
            </a:r>
            <a:endParaRPr b="0" lang="en-US" sz="1600" spc="-1" strike="noStrike">
              <a:solidFill>
                <a:srgbClr val="663300"/>
              </a:solidFill>
              <a:latin typeface="Century Schoolbook"/>
            </a:endParaRPr>
          </a:p>
        </p:txBody>
      </p:sp>
      <p:sp>
        <p:nvSpPr>
          <p:cNvPr id="522" name="円/楕円 10"/>
          <p:cNvSpPr/>
          <p:nvPr/>
        </p:nvSpPr>
        <p:spPr>
          <a:xfrm>
            <a:off x="5500800" y="2214720"/>
            <a:ext cx="857160" cy="857160"/>
          </a:xfrm>
          <a:prstGeom prst="ellipse">
            <a:avLst/>
          </a:prstGeom>
          <a:solidFill>
            <a:srgbClr val="f2fcb6"/>
          </a:solidFill>
          <a:ln w="25560">
            <a:solidFill>
              <a:srgbClr val="c8e80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entury Schoolbook"/>
              </a:rPr>
              <a:t>行動</a:t>
            </a:r>
            <a:endParaRPr b="0" lang="en-US" sz="1600" spc="-1" strike="noStrike">
              <a:solidFill>
                <a:srgbClr val="663300"/>
              </a:solidFill>
              <a:latin typeface="Century Schoolbook"/>
            </a:endParaRPr>
          </a:p>
        </p:txBody>
      </p:sp>
      <p:sp>
        <p:nvSpPr>
          <p:cNvPr id="523" name="右矢印 11"/>
          <p:cNvSpPr/>
          <p:nvPr/>
        </p:nvSpPr>
        <p:spPr>
          <a:xfrm>
            <a:off x="3214800" y="2428920"/>
            <a:ext cx="285480" cy="428760"/>
          </a:xfrm>
          <a:prstGeom prst="rightArrow">
            <a:avLst>
              <a:gd name="adj1" fmla="val 50000"/>
              <a:gd name="adj2" fmla="val 50000"/>
            </a:avLst>
          </a:prstGeom>
          <a:solidFill>
            <a:srgbClr val="fde7ee"/>
          </a:solidFill>
          <a:ln w="25560">
            <a:solidFill>
              <a:srgbClr val="fba9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524" name="右矢印 12"/>
          <p:cNvSpPr/>
          <p:nvPr/>
        </p:nvSpPr>
        <p:spPr>
          <a:xfrm>
            <a:off x="5000760" y="2428920"/>
            <a:ext cx="285480" cy="428760"/>
          </a:xfrm>
          <a:prstGeom prst="rightArrow">
            <a:avLst>
              <a:gd name="adj1" fmla="val 50000"/>
              <a:gd name="adj2" fmla="val 50000"/>
            </a:avLst>
          </a:prstGeom>
          <a:solidFill>
            <a:srgbClr val="fde7ee"/>
          </a:solidFill>
          <a:ln w="25560">
            <a:solidFill>
              <a:srgbClr val="fba9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525" name="テキスト ボックス 13"/>
          <p:cNvSpPr/>
          <p:nvPr/>
        </p:nvSpPr>
        <p:spPr>
          <a:xfrm>
            <a:off x="2214720" y="3143160"/>
            <a:ext cx="4429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Schoolbook"/>
              </a:rPr>
              <a:t>（知り）　　　　　　　　　　 （感じ）　　　　　　　　（行動する）</a:t>
            </a:r>
            <a:endParaRPr b="0" lang="en-US" sz="1400" spc="-1" strike="noStrike">
              <a:solidFill>
                <a:srgbClr val="663300"/>
              </a:solidFill>
              <a:latin typeface="Century School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テキスト ボックス 13"/>
          <p:cNvSpPr/>
          <p:nvPr/>
        </p:nvSpPr>
        <p:spPr>
          <a:xfrm>
            <a:off x="428760" y="285840"/>
            <a:ext cx="6215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ｺﾞｼｯｸUB"/>
                <a:ea typeface="HGP創英角ｺﾞｼｯｸUB"/>
              </a:rPr>
              <a:t>買回り品の意思決定プロセス</a:t>
            </a:r>
            <a:endParaRPr b="0" lang="en-US" sz="3200" spc="-1" strike="noStrike">
              <a:solidFill>
                <a:srgbClr val="663300"/>
              </a:solidFill>
              <a:latin typeface="Century Schoolbook"/>
            </a:endParaRPr>
          </a:p>
        </p:txBody>
      </p:sp>
      <p:sp>
        <p:nvSpPr>
          <p:cNvPr id="527" name="テキスト ボックス 22"/>
          <p:cNvSpPr/>
          <p:nvPr/>
        </p:nvSpPr>
        <p:spPr>
          <a:xfrm>
            <a:off x="3643200" y="6488280"/>
            <a:ext cx="5072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Schoolbook"/>
              </a:rPr>
              <a:t>Engel,Blackwell &amp; Miniard,1995</a:t>
            </a:r>
            <a:endParaRPr b="0" lang="en-US" sz="1600" spc="-1" strike="noStrike">
              <a:solidFill>
                <a:srgbClr val="663300"/>
              </a:solidFill>
              <a:latin typeface="Century Schoolbook"/>
            </a:endParaRPr>
          </a:p>
        </p:txBody>
      </p:sp>
      <p:pic>
        <p:nvPicPr>
          <p:cNvPr id="528" name="Picture 5" descr="C:\Documents and Settings\bc0700055\Local Settings\Temporary Internet Files\Content.IE5\TTLLTYOH\MCj02409470000[1].wmf"/>
          <p:cNvPicPr/>
          <p:nvPr/>
        </p:nvPicPr>
        <p:blipFill>
          <a:blip r:embed="rId1"/>
          <a:stretch/>
        </p:blipFill>
        <p:spPr>
          <a:xfrm>
            <a:off x="6000840" y="142920"/>
            <a:ext cx="903240" cy="826920"/>
          </a:xfrm>
          <a:prstGeom prst="rect">
            <a:avLst/>
          </a:prstGeom>
          <a:ln w="0">
            <a:noFill/>
          </a:ln>
        </p:spPr>
      </p:pic>
      <p:sp>
        <p:nvSpPr>
          <p:cNvPr id="529" name="スライド番号プレースホルダ 19"/>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0D83A-D683-412F-9E5C-566420866FB3}" type="slidenum">
              <a:rPr b="1" lang="ja-JP" sz="1400" spc="-1" strike="noStrike">
                <a:solidFill>
                  <a:srgbClr val="ffffff"/>
                </a:solidFill>
                <a:latin typeface="Century Schoolbook"/>
              </a:rPr>
              <a:t>&lt;number&gt;</a:t>
            </a:fld>
            <a:endParaRPr b="0" lang="en-US" sz="1400" spc="-1" strike="noStrike">
              <a:solidFill>
                <a:srgbClr val="663300"/>
              </a:solidFill>
              <a:latin typeface="Century Schoolbook"/>
            </a:endParaRPr>
          </a:p>
        </p:txBody>
      </p:sp>
      <p:grpSp>
        <p:nvGrpSpPr>
          <p:cNvPr id="530" name="角丸四角形 16"/>
          <p:cNvGrpSpPr/>
          <p:nvPr/>
        </p:nvGrpSpPr>
        <p:grpSpPr>
          <a:xfrm>
            <a:off x="182520" y="1109520"/>
            <a:ext cx="2054160" cy="1560600"/>
            <a:chOff x="182520" y="1109520"/>
            <a:chExt cx="2054160" cy="1560600"/>
          </a:xfrm>
        </p:grpSpPr>
        <p:pic>
          <p:nvPicPr>
            <p:cNvPr id="531" name="角丸四角形 16" descr=""/>
            <p:cNvPicPr/>
            <p:nvPr/>
          </p:nvPicPr>
          <p:blipFill>
            <a:blip r:embed="rId2"/>
            <a:stretch/>
          </p:blipFill>
          <p:spPr>
            <a:xfrm>
              <a:off x="182520" y="1109520"/>
              <a:ext cx="2054160" cy="1560600"/>
            </a:xfrm>
            <a:prstGeom prst="rect">
              <a:avLst/>
            </a:prstGeom>
            <a:ln w="0">
              <a:noFill/>
            </a:ln>
          </p:spPr>
        </p:pic>
        <p:sp>
          <p:nvSpPr>
            <p:cNvPr id="532" name=""/>
            <p:cNvSpPr/>
            <p:nvPr/>
          </p:nvSpPr>
          <p:spPr>
            <a:xfrm>
              <a:off x="287280" y="1216080"/>
              <a:ext cx="1854360" cy="135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663300"/>
                  </a:solidFill>
                  <a:latin typeface="Century Schoolbook"/>
                </a:rPr>
                <a:t>欲求認識</a:t>
              </a:r>
              <a:endParaRPr b="0" lang="en-US" sz="2800" spc="-1" strike="noStrike">
                <a:solidFill>
                  <a:srgbClr val="663300"/>
                </a:solidFill>
                <a:latin typeface="Century Schoolbook"/>
              </a:endParaRPr>
            </a:p>
          </p:txBody>
        </p:sp>
      </p:grpSp>
      <p:grpSp>
        <p:nvGrpSpPr>
          <p:cNvPr id="533" name="角丸四角形 20"/>
          <p:cNvGrpSpPr/>
          <p:nvPr/>
        </p:nvGrpSpPr>
        <p:grpSpPr>
          <a:xfrm>
            <a:off x="2328840" y="1109520"/>
            <a:ext cx="2054160" cy="1560600"/>
            <a:chOff x="2328840" y="1109520"/>
            <a:chExt cx="2054160" cy="1560600"/>
          </a:xfrm>
        </p:grpSpPr>
        <p:pic>
          <p:nvPicPr>
            <p:cNvPr id="534" name="角丸四角形 20" descr=""/>
            <p:cNvPicPr/>
            <p:nvPr/>
          </p:nvPicPr>
          <p:blipFill>
            <a:blip r:embed="rId3"/>
            <a:stretch/>
          </p:blipFill>
          <p:spPr>
            <a:xfrm>
              <a:off x="2328840" y="1109520"/>
              <a:ext cx="2054160" cy="1560600"/>
            </a:xfrm>
            <a:prstGeom prst="rect">
              <a:avLst/>
            </a:prstGeom>
            <a:ln w="0">
              <a:noFill/>
            </a:ln>
          </p:spPr>
        </p:pic>
        <p:sp>
          <p:nvSpPr>
            <p:cNvPr id="535" name=""/>
            <p:cNvSpPr/>
            <p:nvPr/>
          </p:nvSpPr>
          <p:spPr>
            <a:xfrm>
              <a:off x="2430360" y="1216080"/>
              <a:ext cx="1854360" cy="135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663300"/>
                  </a:solidFill>
                  <a:latin typeface="Century Schoolbook"/>
                </a:rPr>
                <a:t>情報探索</a:t>
              </a:r>
              <a:endParaRPr b="0" lang="en-US" sz="2800" spc="-1" strike="noStrike">
                <a:solidFill>
                  <a:srgbClr val="663300"/>
                </a:solidFill>
                <a:latin typeface="Century Schoolbook"/>
              </a:endParaRPr>
            </a:p>
          </p:txBody>
        </p:sp>
      </p:grpSp>
      <p:grpSp>
        <p:nvGrpSpPr>
          <p:cNvPr id="536" name="角丸四角形 21"/>
          <p:cNvGrpSpPr/>
          <p:nvPr/>
        </p:nvGrpSpPr>
        <p:grpSpPr>
          <a:xfrm>
            <a:off x="4468680" y="1109520"/>
            <a:ext cx="2054520" cy="1560600"/>
            <a:chOff x="4468680" y="1109520"/>
            <a:chExt cx="2054520" cy="1560600"/>
          </a:xfrm>
        </p:grpSpPr>
        <p:pic>
          <p:nvPicPr>
            <p:cNvPr id="537" name="角丸四角形 21" descr=""/>
            <p:cNvPicPr/>
            <p:nvPr/>
          </p:nvPicPr>
          <p:blipFill>
            <a:blip r:embed="rId4"/>
            <a:stretch/>
          </p:blipFill>
          <p:spPr>
            <a:xfrm>
              <a:off x="4468680" y="1109520"/>
              <a:ext cx="2054520" cy="1560600"/>
            </a:xfrm>
            <a:prstGeom prst="rect">
              <a:avLst/>
            </a:prstGeom>
            <a:ln w="0">
              <a:noFill/>
            </a:ln>
          </p:spPr>
        </p:pic>
        <p:sp>
          <p:nvSpPr>
            <p:cNvPr id="538" name=""/>
            <p:cNvSpPr/>
            <p:nvPr/>
          </p:nvSpPr>
          <p:spPr>
            <a:xfrm>
              <a:off x="4573440" y="1216080"/>
              <a:ext cx="1854360" cy="135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663300"/>
                  </a:solidFill>
                  <a:latin typeface="Century Schoolbook"/>
                </a:rPr>
                <a:t>購買前</a:t>
              </a:r>
              <a:endParaRPr b="0" lang="en-US" sz="28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663300"/>
                  </a:solidFill>
                  <a:latin typeface="Century Schoolbook"/>
                </a:rPr>
                <a:t>代案評価</a:t>
              </a:r>
              <a:endParaRPr b="0" lang="en-US" sz="2800" spc="-1" strike="noStrike">
                <a:solidFill>
                  <a:srgbClr val="663300"/>
                </a:solidFill>
                <a:latin typeface="Century Schoolbook"/>
              </a:endParaRPr>
            </a:p>
          </p:txBody>
        </p:sp>
      </p:grpSp>
      <p:grpSp>
        <p:nvGrpSpPr>
          <p:cNvPr id="539" name="角丸四角形 23"/>
          <p:cNvGrpSpPr/>
          <p:nvPr/>
        </p:nvGrpSpPr>
        <p:grpSpPr>
          <a:xfrm>
            <a:off x="6613560" y="1109520"/>
            <a:ext cx="2054160" cy="1560600"/>
            <a:chOff x="6613560" y="1109520"/>
            <a:chExt cx="2054160" cy="1560600"/>
          </a:xfrm>
        </p:grpSpPr>
        <p:pic>
          <p:nvPicPr>
            <p:cNvPr id="540" name="角丸四角形 23" descr=""/>
            <p:cNvPicPr/>
            <p:nvPr/>
          </p:nvPicPr>
          <p:blipFill>
            <a:blip r:embed="rId5"/>
            <a:stretch/>
          </p:blipFill>
          <p:spPr>
            <a:xfrm>
              <a:off x="6613560" y="1109520"/>
              <a:ext cx="2054160" cy="1560600"/>
            </a:xfrm>
            <a:prstGeom prst="rect">
              <a:avLst/>
            </a:prstGeom>
            <a:ln w="0">
              <a:noFill/>
            </a:ln>
          </p:spPr>
        </p:pic>
        <p:sp>
          <p:nvSpPr>
            <p:cNvPr id="541" name=""/>
            <p:cNvSpPr/>
            <p:nvPr/>
          </p:nvSpPr>
          <p:spPr>
            <a:xfrm>
              <a:off x="6716880" y="1216080"/>
              <a:ext cx="1854000" cy="135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663300"/>
                  </a:solidFill>
                  <a:latin typeface="Century Schoolbook"/>
                </a:rPr>
                <a:t>購買決定</a:t>
              </a:r>
              <a:endParaRPr b="0" lang="en-US" sz="2800" spc="-1" strike="noStrike">
                <a:solidFill>
                  <a:srgbClr val="663300"/>
                </a:solidFill>
                <a:latin typeface="Century Schoolbook"/>
              </a:endParaRPr>
            </a:p>
          </p:txBody>
        </p:sp>
      </p:grpSp>
      <p:sp>
        <p:nvSpPr>
          <p:cNvPr id="542" name="右矢印 12"/>
          <p:cNvSpPr/>
          <p:nvPr/>
        </p:nvSpPr>
        <p:spPr>
          <a:xfrm>
            <a:off x="4214880" y="1643040"/>
            <a:ext cx="500040" cy="500040"/>
          </a:xfrm>
          <a:prstGeom prst="rightArrow">
            <a:avLst>
              <a:gd name="adj1" fmla="val 50000"/>
              <a:gd name="adj2" fmla="val 50000"/>
            </a:avLst>
          </a:prstGeom>
          <a:solidFill>
            <a:srgbClr val="ffc000"/>
          </a:solidFill>
          <a:ln w="19080">
            <a:solidFill>
              <a:srgbClr val="bb612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543" name="右矢印 10"/>
          <p:cNvSpPr/>
          <p:nvPr/>
        </p:nvSpPr>
        <p:spPr>
          <a:xfrm>
            <a:off x="2071800" y="1714680"/>
            <a:ext cx="500040" cy="500040"/>
          </a:xfrm>
          <a:prstGeom prst="rightArrow">
            <a:avLst>
              <a:gd name="adj1" fmla="val 50000"/>
              <a:gd name="adj2" fmla="val 50000"/>
            </a:avLst>
          </a:prstGeom>
          <a:solidFill>
            <a:srgbClr val="ffc000"/>
          </a:solidFill>
          <a:ln w="19080">
            <a:solidFill>
              <a:srgbClr val="bb612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544" name="右矢印 11"/>
          <p:cNvSpPr/>
          <p:nvPr/>
        </p:nvSpPr>
        <p:spPr>
          <a:xfrm>
            <a:off x="6357960" y="1643040"/>
            <a:ext cx="500040" cy="500040"/>
          </a:xfrm>
          <a:prstGeom prst="rightArrow">
            <a:avLst>
              <a:gd name="adj1" fmla="val 50000"/>
              <a:gd name="adj2" fmla="val 50000"/>
            </a:avLst>
          </a:prstGeom>
          <a:solidFill>
            <a:srgbClr val="ffc000"/>
          </a:solidFill>
          <a:ln w="19080">
            <a:solidFill>
              <a:srgbClr val="bb612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545" name="円/楕円 27"/>
          <p:cNvSpPr/>
          <p:nvPr/>
        </p:nvSpPr>
        <p:spPr>
          <a:xfrm>
            <a:off x="2428920" y="2786040"/>
            <a:ext cx="1928880" cy="1143000"/>
          </a:xfrm>
          <a:prstGeom prst="ellipse">
            <a:avLst/>
          </a:prstGeom>
          <a:solidFill>
            <a:srgbClr val="fcccf5"/>
          </a:solidFill>
          <a:ln w="2844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663300"/>
                </a:solidFill>
                <a:latin typeface="Century Schoolbook"/>
              </a:rPr>
              <a:t>内的探索</a:t>
            </a:r>
            <a:endParaRPr b="0" lang="en-US" sz="2000" spc="-1" strike="noStrike">
              <a:solidFill>
                <a:srgbClr val="663300"/>
              </a:solidFill>
              <a:latin typeface="Century Schoolbook"/>
            </a:endParaRPr>
          </a:p>
        </p:txBody>
      </p:sp>
      <p:cxnSp>
        <p:nvCxnSpPr>
          <p:cNvPr id="546" name="直線矢印コネクタ 25"/>
          <p:cNvCxnSpPr/>
          <p:nvPr/>
        </p:nvCxnSpPr>
        <p:spPr>
          <a:xfrm flipH="1">
            <a:off x="2928240" y="2357280"/>
            <a:ext cx="1080" cy="642240"/>
          </a:xfrm>
          <a:prstGeom prst="straightConnector1">
            <a:avLst/>
          </a:prstGeom>
          <a:ln w="76320">
            <a:solidFill>
              <a:srgbClr val="ffc000"/>
            </a:solidFill>
            <a:miter/>
            <a:tailEnd len="med" type="triangle" w="med"/>
          </a:ln>
        </p:spPr>
      </p:cxnSp>
      <p:cxnSp>
        <p:nvCxnSpPr>
          <p:cNvPr id="547" name="直線矢印コネクタ 28"/>
          <p:cNvCxnSpPr/>
          <p:nvPr/>
        </p:nvCxnSpPr>
        <p:spPr>
          <a:xfrm flipV="1">
            <a:off x="3713760" y="2357280"/>
            <a:ext cx="1080" cy="643320"/>
          </a:xfrm>
          <a:prstGeom prst="straightConnector1">
            <a:avLst/>
          </a:prstGeom>
          <a:ln w="76320">
            <a:solidFill>
              <a:srgbClr val="ffc000"/>
            </a:solidFill>
            <a:miter/>
            <a:tailEnd len="med" type="triangle" w="med"/>
          </a:ln>
        </p:spPr>
      </p:cxnSp>
      <p:sp>
        <p:nvSpPr>
          <p:cNvPr id="548" name="円/楕円 17"/>
          <p:cNvSpPr/>
          <p:nvPr/>
        </p:nvSpPr>
        <p:spPr>
          <a:xfrm>
            <a:off x="2428920" y="4071960"/>
            <a:ext cx="1928880" cy="1143000"/>
          </a:xfrm>
          <a:prstGeom prst="ellipse">
            <a:avLst/>
          </a:prstGeom>
          <a:solidFill>
            <a:srgbClr val="fcccf5"/>
          </a:solidFill>
          <a:ln w="2844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663300"/>
                </a:solidFill>
                <a:latin typeface="Century Schoolbook"/>
              </a:rPr>
              <a:t>外的探索</a:t>
            </a:r>
            <a:endParaRPr b="0" lang="en-US" sz="2000" spc="-1" strike="noStrike">
              <a:solidFill>
                <a:srgbClr val="663300"/>
              </a:solidFill>
              <a:latin typeface="Century Schoolbook"/>
            </a:endParaRPr>
          </a:p>
        </p:txBody>
      </p:sp>
      <p:cxnSp>
        <p:nvCxnSpPr>
          <p:cNvPr id="549" name="直線矢印コネクタ 18"/>
          <p:cNvCxnSpPr/>
          <p:nvPr/>
        </p:nvCxnSpPr>
        <p:spPr>
          <a:xfrm flipH="1">
            <a:off x="2999520" y="3714840"/>
            <a:ext cx="1080" cy="643320"/>
          </a:xfrm>
          <a:prstGeom prst="straightConnector1">
            <a:avLst/>
          </a:prstGeom>
          <a:ln w="76320">
            <a:solidFill>
              <a:srgbClr val="ffc000"/>
            </a:solidFill>
            <a:miter/>
            <a:tailEnd len="med" type="triangle" w="med"/>
          </a:ln>
        </p:spPr>
      </p:cxnSp>
      <p:cxnSp>
        <p:nvCxnSpPr>
          <p:cNvPr id="550" name="直線矢印コネクタ 24"/>
          <p:cNvCxnSpPr/>
          <p:nvPr/>
        </p:nvCxnSpPr>
        <p:spPr>
          <a:xfrm flipV="1">
            <a:off x="3713760" y="3643200"/>
            <a:ext cx="1080" cy="643320"/>
          </a:xfrm>
          <a:prstGeom prst="straightConnector1">
            <a:avLst/>
          </a:prstGeom>
          <a:ln w="76320">
            <a:solidFill>
              <a:srgbClr val="ffc000"/>
            </a:solidFill>
            <a:miter/>
            <a:tailEnd len="med" type="triangle" w="med"/>
          </a:ln>
        </p:spPr>
      </p:cxnSp>
      <p:sp>
        <p:nvSpPr>
          <p:cNvPr id="551" name="テキスト ボックス 29"/>
          <p:cNvSpPr/>
          <p:nvPr/>
        </p:nvSpPr>
        <p:spPr>
          <a:xfrm>
            <a:off x="4357800" y="4357800"/>
            <a:ext cx="421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a:t>
            </a:r>
            <a:r>
              <a:rPr b="0" lang="ja-JP" sz="1800" spc="-1" strike="noStrike">
                <a:solidFill>
                  <a:srgbClr val="000000"/>
                </a:solidFill>
                <a:latin typeface="Century Schoolbook"/>
              </a:rPr>
              <a:t>消費者が選択代案についての情報を　　　　外部のさまざまな源泉から獲得すること。</a:t>
            </a:r>
            <a:endParaRPr b="0" lang="en-US" sz="1800" spc="-1" strike="noStrike">
              <a:solidFill>
                <a:srgbClr val="663300"/>
              </a:solidFill>
              <a:latin typeface="Century Schoolbook"/>
            </a:endParaRPr>
          </a:p>
        </p:txBody>
      </p:sp>
      <p:sp>
        <p:nvSpPr>
          <p:cNvPr id="552" name="正方形/長方形 26"/>
          <p:cNvSpPr/>
          <p:nvPr/>
        </p:nvSpPr>
        <p:spPr>
          <a:xfrm>
            <a:off x="214200" y="5357880"/>
            <a:ext cx="7858080" cy="1143000"/>
          </a:xfrm>
          <a:prstGeom prst="rect">
            <a:avLst/>
          </a:prstGeom>
          <a:solidFill>
            <a:srgbClr val="d9f62a"/>
          </a:solidFill>
          <a:ln w="25560">
            <a:solidFill>
              <a:srgbClr val="fb9bb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663300"/>
                </a:solidFill>
                <a:latin typeface="Century Schoolbook"/>
              </a:rPr>
              <a:t>買回り品の場合、</a:t>
            </a:r>
            <a:endParaRPr b="0" lang="en-US" sz="2400" spc="-1" strike="noStrike">
              <a:solidFill>
                <a:srgbClr val="6633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663300"/>
                </a:solidFill>
                <a:latin typeface="Century Schoolbook"/>
              </a:rPr>
              <a:t>欲求認識から購買に至るまでのプロセスに時間をかける。</a:t>
            </a:r>
            <a:endParaRPr b="0" lang="en-US" sz="2400" spc="-1" strike="noStrike">
              <a:solidFill>
                <a:srgbClr val="663300"/>
              </a:solidFill>
              <a:latin typeface="Century School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6840" y="274320"/>
            <a:ext cx="7467480" cy="654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575f6d"/>
                </a:solidFill>
                <a:latin typeface="Century Schoolbook"/>
              </a:rPr>
              <a:t>アサエルの４つの製品タイプ</a:t>
            </a:r>
            <a:endParaRPr b="0" lang="en-US" sz="3000" spc="-1" strike="noStrike">
              <a:solidFill>
                <a:srgbClr val="575f6d"/>
              </a:solidFill>
              <a:latin typeface="Century Schoolbook"/>
            </a:endParaRPr>
          </a:p>
        </p:txBody>
      </p:sp>
      <p:sp>
        <p:nvSpPr>
          <p:cNvPr id="554" name="スライド番号プレースホル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8E547-936D-49F3-8F63-7D9066BFD734}" type="slidenum">
              <a:rPr b="1" lang="ja-JP" sz="1400" spc="-1" strike="noStrike">
                <a:solidFill>
                  <a:srgbClr val="ffffff"/>
                </a:solidFill>
                <a:latin typeface="Century Schoolbook"/>
              </a:rPr>
              <a:t>&lt;number&gt;</a:t>
            </a:fld>
            <a:endParaRPr b="0" lang="en-US" sz="1400" spc="-1" strike="noStrike">
              <a:solidFill>
                <a:srgbClr val="663300"/>
              </a:solidFill>
              <a:latin typeface="Century Schoolbook"/>
            </a:endParaRPr>
          </a:p>
        </p:txBody>
      </p:sp>
      <p:graphicFrame>
        <p:nvGraphicFramePr>
          <p:cNvPr id="555" name=""/>
          <p:cNvGraphicFramePr/>
          <p:nvPr/>
        </p:nvGraphicFramePr>
        <p:xfrm>
          <a:off x="571680" y="1500120"/>
          <a:ext cx="7572240" cy="4965840"/>
        </p:xfrm>
        <a:graphic>
          <a:graphicData uri="http://schemas.openxmlformats.org/drawingml/2006/table">
            <a:tbl>
              <a:tblPr/>
              <a:tblGrid>
                <a:gridCol w="428400"/>
                <a:gridCol w="3571920"/>
                <a:gridCol w="3571920"/>
              </a:tblGrid>
              <a:tr h="428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a:txBody>
                  <a:tcPr anchor="t" marL="90000" marR="90000">
                    <a:lnL w="5760">
                      <a:solidFill>
                        <a:srgbClr val="f5cd2d"/>
                      </a:solidFill>
                    </a:lnL>
                    <a:lnR w="5760">
                      <a:solidFill>
                        <a:srgbClr val="f5cd2d"/>
                      </a:solidFill>
                    </a:lnR>
                    <a:lnT w="5760">
                      <a:solidFill>
                        <a:srgbClr val="f5cd2d"/>
                      </a:solidFill>
                    </a:lnT>
                    <a:lnB w="5760">
                      <a:solidFill>
                        <a:srgbClr val="f5cd2d"/>
                      </a:solidFill>
                    </a:lnB>
                    <a:solidFill>
                      <a:srgbClr val="fdf6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entury Schoolbook"/>
                        </a:rPr>
                        <a:t>高</a:t>
                      </a:r>
                      <a:endParaRPr b="0" lang="en-US" sz="1800" spc="-1" strike="noStrike">
                        <a:solidFill>
                          <a:srgbClr val="663300"/>
                        </a:solidFill>
                        <a:latin typeface="Century Schoolbook"/>
                      </a:endParaRPr>
                    </a:p>
                  </a:txBody>
                  <a:tcPr anchor="t" marL="90000" marR="90000">
                    <a:lnL w="5760">
                      <a:solidFill>
                        <a:srgbClr val="f5cd2d"/>
                      </a:solidFill>
                    </a:lnL>
                    <a:lnR w="5760">
                      <a:solidFill>
                        <a:srgbClr val="f5cd2d"/>
                      </a:solidFill>
                    </a:lnR>
                    <a:lnT w="5760">
                      <a:solidFill>
                        <a:srgbClr val="f5cd2d"/>
                      </a:solidFill>
                    </a:lnT>
                    <a:lnB w="5760">
                      <a:solidFill>
                        <a:srgbClr val="f5cd2d"/>
                      </a:solidFill>
                    </a:lnB>
                    <a:solidFill>
                      <a:srgbClr val="ffc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entury Schoolbook"/>
                        </a:rPr>
                        <a:t>低</a:t>
                      </a:r>
                      <a:endParaRPr b="0" lang="en-US" sz="1800" spc="-1" strike="noStrike">
                        <a:solidFill>
                          <a:srgbClr val="663300"/>
                        </a:solidFill>
                        <a:latin typeface="Century Schoolbook"/>
                      </a:endParaRPr>
                    </a:p>
                  </a:txBody>
                  <a:tcPr anchor="t" marL="90000" marR="90000">
                    <a:lnL w="5760">
                      <a:solidFill>
                        <a:srgbClr val="f5cd2d"/>
                      </a:solidFill>
                    </a:lnL>
                    <a:lnR w="5760">
                      <a:solidFill>
                        <a:srgbClr val="f5cd2d"/>
                      </a:solidFill>
                    </a:lnR>
                    <a:lnT w="5760">
                      <a:solidFill>
                        <a:srgbClr val="f5cd2d"/>
                      </a:solidFill>
                    </a:lnT>
                    <a:lnB w="5760">
                      <a:solidFill>
                        <a:srgbClr val="f5cd2d"/>
                      </a:solidFill>
                    </a:lnB>
                    <a:solidFill>
                      <a:srgbClr val="ffc000"/>
                    </a:solidFill>
                  </a:tcPr>
                </a:tc>
              </a:tr>
              <a:tr h="2268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entury Schoolbook"/>
                        </a:rPr>
                        <a:t>高</a:t>
                      </a:r>
                      <a:endParaRPr b="0" lang="en-US" sz="1800" spc="-1" strike="noStrike">
                        <a:solidFill>
                          <a:srgbClr val="663300"/>
                        </a:solidFill>
                        <a:latin typeface="Century Schoolbook"/>
                      </a:endParaRPr>
                    </a:p>
                  </a:txBody>
                  <a:tcPr anchor="t" marL="90000" marR="90000">
                    <a:lnL w="5760">
                      <a:solidFill>
                        <a:srgbClr val="f5cd2d"/>
                      </a:solidFill>
                    </a:lnL>
                    <a:lnR w="5760">
                      <a:solidFill>
                        <a:srgbClr val="f5cd2d"/>
                      </a:solidFill>
                    </a:lnR>
                    <a:lnT w="5760">
                      <a:solidFill>
                        <a:srgbClr val="f5cd2d"/>
                      </a:solidFill>
                    </a:lnT>
                    <a:lnB w="5760">
                      <a:solidFill>
                        <a:srgbClr val="f5cd2d"/>
                      </a:solidFill>
                    </a:lnB>
                    <a:solidFill>
                      <a:srgbClr val="ffc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u="sng">
                          <a:solidFill>
                            <a:srgbClr val="000000"/>
                          </a:solidFill>
                          <a:uFillTx/>
                          <a:latin typeface="Century Schoolbook"/>
                        </a:rPr>
                        <a:t>複雑な購買行動型の製品</a:t>
                      </a:r>
                      <a:endParaRPr b="0" lang="en-US" sz="1800" spc="-1" strike="noStrike">
                        <a:solidFill>
                          <a:srgbClr val="6633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Century Schoolbook"/>
                      </a:endParaRPr>
                    </a:p>
                  </a:txBody>
                  <a:tcPr anchor="t" marL="90000" marR="90000">
                    <a:lnL w="5760">
                      <a:solidFill>
                        <a:srgbClr val="f5cd2d"/>
                      </a:solidFill>
                    </a:lnL>
                    <a:lnR w="5760">
                      <a:solidFill>
                        <a:srgbClr val="f5cd2d"/>
                      </a:solidFill>
                    </a:lnR>
                    <a:lnT w="5760">
                      <a:solidFill>
                        <a:srgbClr val="f5cd2d"/>
                      </a:solidFill>
                    </a:lnT>
                    <a:lnB w="5760">
                      <a:solidFill>
                        <a:srgbClr val="f5cd2d"/>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u="sng">
                          <a:solidFill>
                            <a:srgbClr val="000000"/>
                          </a:solidFill>
                          <a:uFillTx/>
                          <a:latin typeface="Century Schoolbook"/>
                        </a:rPr>
                        <a:t>バラエティ・シーキング型の製品</a:t>
                      </a:r>
                      <a:endParaRPr b="0" lang="en-US" sz="1800" spc="-1" strike="noStrike">
                        <a:solidFill>
                          <a:srgbClr val="663300"/>
                        </a:solidFill>
                        <a:latin typeface="Century Schoolbook"/>
                      </a:endParaRPr>
                    </a:p>
                  </a:txBody>
                  <a:tcPr anchor="t" marL="90000" marR="90000">
                    <a:lnL w="5760">
                      <a:solidFill>
                        <a:srgbClr val="f5cd2d"/>
                      </a:solidFill>
                    </a:lnL>
                    <a:lnR w="5760">
                      <a:solidFill>
                        <a:srgbClr val="f5cd2d"/>
                      </a:solidFill>
                    </a:lnR>
                    <a:lnT w="5760">
                      <a:solidFill>
                        <a:srgbClr val="f5cd2d"/>
                      </a:solidFill>
                    </a:lnT>
                    <a:lnB w="5760">
                      <a:solidFill>
                        <a:srgbClr val="f5cd2d"/>
                      </a:solidFill>
                    </a:lnB>
                    <a:solidFill>
                      <a:srgbClr val="ffffff"/>
                    </a:solidFill>
                  </a:tcPr>
                </a:tc>
              </a:tr>
              <a:tr h="2268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entury Schoolbook"/>
                        </a:rPr>
                        <a:t>低</a:t>
                      </a:r>
                      <a:endParaRPr b="0" lang="en-US" sz="1800" spc="-1" strike="noStrike">
                        <a:solidFill>
                          <a:srgbClr val="663300"/>
                        </a:solidFill>
                        <a:latin typeface="Century Schoolbook"/>
                      </a:endParaRPr>
                    </a:p>
                  </a:txBody>
                  <a:tcPr anchor="t" marL="90000" marR="90000">
                    <a:lnL w="5760">
                      <a:solidFill>
                        <a:srgbClr val="f5cd2d"/>
                      </a:solidFill>
                    </a:lnL>
                    <a:lnR w="5760">
                      <a:solidFill>
                        <a:srgbClr val="f5cd2d"/>
                      </a:solidFill>
                    </a:lnR>
                    <a:lnT w="5760">
                      <a:solidFill>
                        <a:srgbClr val="f5cd2d"/>
                      </a:solidFill>
                    </a:lnT>
                    <a:lnB w="5760">
                      <a:solidFill>
                        <a:srgbClr val="f5cd2d"/>
                      </a:solidFill>
                    </a:lnB>
                    <a:solidFill>
                      <a:srgbClr val="ffc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u="sng">
                          <a:solidFill>
                            <a:srgbClr val="000000"/>
                          </a:solidFill>
                          <a:uFillTx/>
                          <a:latin typeface="Century Schoolbook"/>
                        </a:rPr>
                        <a:t>不協和低減型の製品</a:t>
                      </a:r>
                      <a:endParaRPr b="0" lang="en-US" sz="1800" spc="-1" strike="noStrike">
                        <a:solidFill>
                          <a:srgbClr val="663300"/>
                        </a:solidFill>
                        <a:latin typeface="Century Schoolbook"/>
                      </a:endParaRPr>
                    </a:p>
                  </a:txBody>
                  <a:tcPr anchor="t" marL="90000" marR="90000">
                    <a:lnL w="5760">
                      <a:solidFill>
                        <a:srgbClr val="f5cd2d"/>
                      </a:solidFill>
                    </a:lnL>
                    <a:lnR w="5760">
                      <a:solidFill>
                        <a:srgbClr val="f5cd2d"/>
                      </a:solidFill>
                    </a:lnR>
                    <a:lnT w="5760">
                      <a:solidFill>
                        <a:srgbClr val="f5cd2d"/>
                      </a:solidFill>
                    </a:lnT>
                    <a:lnB w="5760">
                      <a:solidFill>
                        <a:srgbClr val="f5cd2d"/>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u="sng">
                          <a:solidFill>
                            <a:srgbClr val="000000"/>
                          </a:solidFill>
                          <a:uFillTx/>
                          <a:latin typeface="Century Schoolbook"/>
                        </a:rPr>
                        <a:t>習慣購買型の製品</a:t>
                      </a:r>
                      <a:endParaRPr b="0" lang="en-US" sz="1800" spc="-1" strike="noStrike">
                        <a:solidFill>
                          <a:srgbClr val="663300"/>
                        </a:solidFill>
                        <a:latin typeface="Century Schoolbook"/>
                      </a:endParaRPr>
                    </a:p>
                  </a:txBody>
                  <a:tcPr anchor="t" marL="90000" marR="90000">
                    <a:lnL w="5760">
                      <a:solidFill>
                        <a:srgbClr val="f5cd2d"/>
                      </a:solidFill>
                    </a:lnL>
                    <a:lnR w="5760">
                      <a:solidFill>
                        <a:srgbClr val="f5cd2d"/>
                      </a:solidFill>
                    </a:lnR>
                    <a:lnT w="5760">
                      <a:solidFill>
                        <a:srgbClr val="f5cd2d"/>
                      </a:solidFill>
                    </a:lnT>
                    <a:lnB w="5760">
                      <a:solidFill>
                        <a:srgbClr val="f5cd2d"/>
                      </a:solidFill>
                    </a:lnB>
                    <a:solidFill>
                      <a:srgbClr val="ffffff"/>
                    </a:solidFill>
                  </a:tcPr>
                </a:tc>
              </a:tr>
            </a:tbl>
          </a:graphicData>
        </a:graphic>
      </p:graphicFrame>
      <p:sp>
        <p:nvSpPr>
          <p:cNvPr id="556" name="テキスト ボックス 9"/>
          <p:cNvSpPr/>
          <p:nvPr/>
        </p:nvSpPr>
        <p:spPr>
          <a:xfrm>
            <a:off x="3857760" y="107172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entury Schoolbook"/>
              </a:rPr>
              <a:t>関与水準</a:t>
            </a:r>
            <a:endParaRPr b="0" lang="en-US" sz="1800" spc="-1" strike="noStrike">
              <a:solidFill>
                <a:srgbClr val="663300"/>
              </a:solidFill>
              <a:latin typeface="Century Schoolbook"/>
            </a:endParaRPr>
          </a:p>
        </p:txBody>
      </p:sp>
      <p:sp>
        <p:nvSpPr>
          <p:cNvPr id="557" name="テキスト ボックス 11"/>
          <p:cNvSpPr/>
          <p:nvPr/>
        </p:nvSpPr>
        <p:spPr>
          <a:xfrm>
            <a:off x="-124200" y="2643120"/>
            <a:ext cx="729000" cy="2071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entury Schoolbook"/>
              </a:rPr>
              <a:t>ブランド間知覚差異</a:t>
            </a:r>
            <a:endParaRPr b="0" lang="en-US" sz="1800" spc="-1" strike="noStrike">
              <a:solidFill>
                <a:srgbClr val="663300"/>
              </a:solidFill>
              <a:latin typeface="Century Schoolbook"/>
            </a:endParaRPr>
          </a:p>
        </p:txBody>
      </p:sp>
      <p:sp>
        <p:nvSpPr>
          <p:cNvPr id="558" name="円/楕円 12"/>
          <p:cNvSpPr/>
          <p:nvPr/>
        </p:nvSpPr>
        <p:spPr>
          <a:xfrm>
            <a:off x="1071720" y="2786040"/>
            <a:ext cx="857160" cy="857160"/>
          </a:xfrm>
          <a:prstGeom prst="ellipse">
            <a:avLst/>
          </a:prstGeom>
          <a:solidFill>
            <a:srgbClr val="f2fcb6"/>
          </a:solidFill>
          <a:ln w="25560">
            <a:solidFill>
              <a:srgbClr val="d9f62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entury Schoolbook"/>
              </a:rPr>
              <a:t>認知</a:t>
            </a:r>
            <a:endParaRPr b="0" lang="en-US" sz="1600" spc="-1" strike="noStrike">
              <a:solidFill>
                <a:srgbClr val="663300"/>
              </a:solidFill>
              <a:latin typeface="Century Schoolbook"/>
            </a:endParaRPr>
          </a:p>
        </p:txBody>
      </p:sp>
      <p:sp>
        <p:nvSpPr>
          <p:cNvPr id="559" name="円/楕円 13"/>
          <p:cNvSpPr/>
          <p:nvPr/>
        </p:nvSpPr>
        <p:spPr>
          <a:xfrm>
            <a:off x="2357280" y="2786040"/>
            <a:ext cx="857520" cy="857160"/>
          </a:xfrm>
          <a:prstGeom prst="ellipse">
            <a:avLst/>
          </a:prstGeom>
          <a:solidFill>
            <a:srgbClr val="f2fcb6"/>
          </a:solidFill>
          <a:ln w="25560">
            <a:solidFill>
              <a:srgbClr val="d9f62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entury Schoolbook"/>
              </a:rPr>
              <a:t>評価</a:t>
            </a:r>
            <a:endParaRPr b="0" lang="en-US" sz="1600" spc="-1" strike="noStrike">
              <a:solidFill>
                <a:srgbClr val="663300"/>
              </a:solidFill>
              <a:latin typeface="Century Schoolbook"/>
            </a:endParaRPr>
          </a:p>
        </p:txBody>
      </p:sp>
      <p:sp>
        <p:nvSpPr>
          <p:cNvPr id="560" name="円/楕円 14"/>
          <p:cNvSpPr/>
          <p:nvPr/>
        </p:nvSpPr>
        <p:spPr>
          <a:xfrm>
            <a:off x="3643200" y="2786040"/>
            <a:ext cx="857520" cy="857160"/>
          </a:xfrm>
          <a:prstGeom prst="ellipse">
            <a:avLst/>
          </a:prstGeom>
          <a:solidFill>
            <a:srgbClr val="f2fcb6"/>
          </a:solidFill>
          <a:ln w="25560">
            <a:solidFill>
              <a:srgbClr val="d9f62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entury Schoolbook"/>
              </a:rPr>
              <a:t>行動</a:t>
            </a:r>
            <a:endParaRPr b="0" lang="en-US" sz="1600" spc="-1" strike="noStrike">
              <a:solidFill>
                <a:srgbClr val="663300"/>
              </a:solidFill>
              <a:latin typeface="Century Schoolbook"/>
            </a:endParaRPr>
          </a:p>
        </p:txBody>
      </p:sp>
      <p:sp>
        <p:nvSpPr>
          <p:cNvPr id="561" name="円/楕円 15"/>
          <p:cNvSpPr/>
          <p:nvPr/>
        </p:nvSpPr>
        <p:spPr>
          <a:xfrm>
            <a:off x="7215120" y="2786040"/>
            <a:ext cx="857160" cy="857160"/>
          </a:xfrm>
          <a:prstGeom prst="ellipse">
            <a:avLst/>
          </a:prstGeom>
          <a:solidFill>
            <a:srgbClr val="f2fcb6"/>
          </a:solidFill>
          <a:ln w="25560">
            <a:solidFill>
              <a:srgbClr val="d9f62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entury Schoolbook"/>
              </a:rPr>
              <a:t>評価</a:t>
            </a:r>
            <a:endParaRPr b="0" lang="en-US" sz="1600" spc="-1" strike="noStrike">
              <a:solidFill>
                <a:srgbClr val="663300"/>
              </a:solidFill>
              <a:latin typeface="Century Schoolbook"/>
            </a:endParaRPr>
          </a:p>
        </p:txBody>
      </p:sp>
      <p:sp>
        <p:nvSpPr>
          <p:cNvPr id="562" name="円/楕円 16"/>
          <p:cNvSpPr/>
          <p:nvPr/>
        </p:nvSpPr>
        <p:spPr>
          <a:xfrm>
            <a:off x="5929200" y="2786040"/>
            <a:ext cx="857520" cy="857160"/>
          </a:xfrm>
          <a:prstGeom prst="ellipse">
            <a:avLst/>
          </a:prstGeom>
          <a:solidFill>
            <a:srgbClr val="f2fcb6"/>
          </a:solidFill>
          <a:ln w="25560">
            <a:solidFill>
              <a:srgbClr val="d9f62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entury Schoolbook"/>
              </a:rPr>
              <a:t>行動</a:t>
            </a:r>
            <a:endParaRPr b="0" lang="en-US" sz="1600" spc="-1" strike="noStrike">
              <a:solidFill>
                <a:srgbClr val="663300"/>
              </a:solidFill>
              <a:latin typeface="Century Schoolbook"/>
            </a:endParaRPr>
          </a:p>
        </p:txBody>
      </p:sp>
      <p:sp>
        <p:nvSpPr>
          <p:cNvPr id="563" name="円/楕円 17"/>
          <p:cNvSpPr/>
          <p:nvPr/>
        </p:nvSpPr>
        <p:spPr>
          <a:xfrm>
            <a:off x="4643280" y="2786040"/>
            <a:ext cx="857520" cy="857160"/>
          </a:xfrm>
          <a:prstGeom prst="ellipse">
            <a:avLst/>
          </a:prstGeom>
          <a:solidFill>
            <a:srgbClr val="f2fcb6"/>
          </a:solidFill>
          <a:ln w="25560">
            <a:solidFill>
              <a:srgbClr val="d9f62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entury Schoolbook"/>
              </a:rPr>
              <a:t>認知</a:t>
            </a:r>
            <a:endParaRPr b="0" lang="en-US" sz="1600" spc="-1" strike="noStrike">
              <a:solidFill>
                <a:srgbClr val="663300"/>
              </a:solidFill>
              <a:latin typeface="Century Schoolbook"/>
            </a:endParaRPr>
          </a:p>
        </p:txBody>
      </p:sp>
      <p:sp>
        <p:nvSpPr>
          <p:cNvPr id="564" name="右矢印 18"/>
          <p:cNvSpPr/>
          <p:nvPr/>
        </p:nvSpPr>
        <p:spPr>
          <a:xfrm>
            <a:off x="2000160" y="3000240"/>
            <a:ext cx="285840" cy="428760"/>
          </a:xfrm>
          <a:prstGeom prst="rightArrow">
            <a:avLst>
              <a:gd name="adj1" fmla="val 50000"/>
              <a:gd name="adj2" fmla="val 50000"/>
            </a:avLst>
          </a:prstGeom>
          <a:solidFill>
            <a:srgbClr val="fde7ee"/>
          </a:solidFill>
          <a:ln w="25560">
            <a:solidFill>
              <a:srgbClr val="fba9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565" name="右矢印 19"/>
          <p:cNvSpPr/>
          <p:nvPr/>
        </p:nvSpPr>
        <p:spPr>
          <a:xfrm>
            <a:off x="6858000" y="3000240"/>
            <a:ext cx="285840" cy="428760"/>
          </a:xfrm>
          <a:prstGeom prst="rightArrow">
            <a:avLst>
              <a:gd name="adj1" fmla="val 50000"/>
              <a:gd name="adj2" fmla="val 50000"/>
            </a:avLst>
          </a:prstGeom>
          <a:solidFill>
            <a:srgbClr val="fde7ee"/>
          </a:solidFill>
          <a:ln w="25560">
            <a:solidFill>
              <a:srgbClr val="fba9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566" name="右矢印 20"/>
          <p:cNvSpPr/>
          <p:nvPr/>
        </p:nvSpPr>
        <p:spPr>
          <a:xfrm>
            <a:off x="5572080" y="3000240"/>
            <a:ext cx="285840" cy="428760"/>
          </a:xfrm>
          <a:prstGeom prst="rightArrow">
            <a:avLst>
              <a:gd name="adj1" fmla="val 50000"/>
              <a:gd name="adj2" fmla="val 50000"/>
            </a:avLst>
          </a:prstGeom>
          <a:solidFill>
            <a:srgbClr val="fde7ee"/>
          </a:solidFill>
          <a:ln w="25560">
            <a:solidFill>
              <a:srgbClr val="fba9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567" name="右矢印 21"/>
          <p:cNvSpPr/>
          <p:nvPr/>
        </p:nvSpPr>
        <p:spPr>
          <a:xfrm>
            <a:off x="3286080" y="3000240"/>
            <a:ext cx="285840" cy="428760"/>
          </a:xfrm>
          <a:prstGeom prst="rightArrow">
            <a:avLst>
              <a:gd name="adj1" fmla="val 50000"/>
              <a:gd name="adj2" fmla="val 50000"/>
            </a:avLst>
          </a:prstGeom>
          <a:solidFill>
            <a:srgbClr val="fde7ee"/>
          </a:solidFill>
          <a:ln w="25560">
            <a:solidFill>
              <a:srgbClr val="fba9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568" name="テキスト ボックス 22"/>
          <p:cNvSpPr/>
          <p:nvPr/>
        </p:nvSpPr>
        <p:spPr>
          <a:xfrm>
            <a:off x="1071720" y="3786120"/>
            <a:ext cx="35002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Schoolbook"/>
              </a:rPr>
              <a:t>（知り）　　　　　　　 （感じ）　　　　　（行動する）</a:t>
            </a:r>
            <a:endParaRPr b="0" lang="en-US" sz="1400" spc="-1" strike="noStrike">
              <a:solidFill>
                <a:srgbClr val="663300"/>
              </a:solidFill>
              <a:latin typeface="Century Schoolbook"/>
            </a:endParaRPr>
          </a:p>
        </p:txBody>
      </p:sp>
      <p:sp>
        <p:nvSpPr>
          <p:cNvPr id="569" name="テキスト ボックス 23"/>
          <p:cNvSpPr/>
          <p:nvPr/>
        </p:nvSpPr>
        <p:spPr>
          <a:xfrm>
            <a:off x="4643280" y="3786120"/>
            <a:ext cx="3500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Schoolbook"/>
              </a:rPr>
              <a:t>（知り）　　　　　　　（行動し） 　　　　　（感じる）</a:t>
            </a:r>
            <a:endParaRPr b="0" lang="en-US" sz="1400" spc="-1" strike="noStrike">
              <a:solidFill>
                <a:srgbClr val="663300"/>
              </a:solidFill>
              <a:latin typeface="Century Schoolbook"/>
            </a:endParaRPr>
          </a:p>
        </p:txBody>
      </p:sp>
      <p:sp>
        <p:nvSpPr>
          <p:cNvPr id="570" name="円/楕円 24"/>
          <p:cNvSpPr/>
          <p:nvPr/>
        </p:nvSpPr>
        <p:spPr>
          <a:xfrm>
            <a:off x="2357280" y="5000760"/>
            <a:ext cx="857520" cy="857160"/>
          </a:xfrm>
          <a:prstGeom prst="ellipse">
            <a:avLst/>
          </a:prstGeom>
          <a:solidFill>
            <a:srgbClr val="f2fcb6"/>
          </a:solidFill>
          <a:ln w="25560">
            <a:solidFill>
              <a:srgbClr val="d9f62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entury Schoolbook"/>
              </a:rPr>
              <a:t>認知</a:t>
            </a:r>
            <a:endParaRPr b="0" lang="en-US" sz="1600" spc="-1" strike="noStrike">
              <a:solidFill>
                <a:srgbClr val="663300"/>
              </a:solidFill>
              <a:latin typeface="Century Schoolbook"/>
            </a:endParaRPr>
          </a:p>
        </p:txBody>
      </p:sp>
      <p:sp>
        <p:nvSpPr>
          <p:cNvPr id="571" name="円/楕円 25"/>
          <p:cNvSpPr/>
          <p:nvPr/>
        </p:nvSpPr>
        <p:spPr>
          <a:xfrm>
            <a:off x="6858000" y="5072040"/>
            <a:ext cx="857160" cy="857160"/>
          </a:xfrm>
          <a:prstGeom prst="ellipse">
            <a:avLst/>
          </a:prstGeom>
          <a:solidFill>
            <a:srgbClr val="f2fcb6"/>
          </a:solidFill>
          <a:ln w="25560">
            <a:solidFill>
              <a:srgbClr val="d9f62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entury Schoolbook"/>
              </a:rPr>
              <a:t>行動</a:t>
            </a:r>
            <a:endParaRPr b="0" lang="en-US" sz="1600" spc="-1" strike="noStrike">
              <a:solidFill>
                <a:srgbClr val="663300"/>
              </a:solidFill>
              <a:latin typeface="Century Schoolbook"/>
            </a:endParaRPr>
          </a:p>
        </p:txBody>
      </p:sp>
      <p:sp>
        <p:nvSpPr>
          <p:cNvPr id="572" name="円/楕円 26"/>
          <p:cNvSpPr/>
          <p:nvPr/>
        </p:nvSpPr>
        <p:spPr>
          <a:xfrm>
            <a:off x="1071720" y="5000760"/>
            <a:ext cx="857160" cy="857160"/>
          </a:xfrm>
          <a:prstGeom prst="ellipse">
            <a:avLst/>
          </a:prstGeom>
          <a:solidFill>
            <a:srgbClr val="f2fcb6"/>
          </a:solidFill>
          <a:ln w="25560">
            <a:solidFill>
              <a:srgbClr val="d9f62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entury Schoolbook"/>
              </a:rPr>
              <a:t>行動</a:t>
            </a:r>
            <a:endParaRPr b="0" lang="en-US" sz="1600" spc="-1" strike="noStrike">
              <a:solidFill>
                <a:srgbClr val="663300"/>
              </a:solidFill>
              <a:latin typeface="Century Schoolbook"/>
            </a:endParaRPr>
          </a:p>
        </p:txBody>
      </p:sp>
      <p:sp>
        <p:nvSpPr>
          <p:cNvPr id="573" name="円/楕円 27"/>
          <p:cNvSpPr/>
          <p:nvPr/>
        </p:nvSpPr>
        <p:spPr>
          <a:xfrm>
            <a:off x="5143680" y="5072040"/>
            <a:ext cx="857160" cy="857160"/>
          </a:xfrm>
          <a:prstGeom prst="ellipse">
            <a:avLst/>
          </a:prstGeom>
          <a:solidFill>
            <a:srgbClr val="f2fcb6"/>
          </a:solidFill>
          <a:ln w="25560">
            <a:solidFill>
              <a:srgbClr val="d9f62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entury Schoolbook"/>
              </a:rPr>
              <a:t>認知</a:t>
            </a:r>
            <a:endParaRPr b="0" lang="en-US" sz="1600" spc="-1" strike="noStrike">
              <a:solidFill>
                <a:srgbClr val="663300"/>
              </a:solidFill>
              <a:latin typeface="Century Schoolbook"/>
            </a:endParaRPr>
          </a:p>
        </p:txBody>
      </p:sp>
      <p:sp>
        <p:nvSpPr>
          <p:cNvPr id="574" name="円/楕円 28"/>
          <p:cNvSpPr/>
          <p:nvPr/>
        </p:nvSpPr>
        <p:spPr>
          <a:xfrm>
            <a:off x="3643200" y="5000760"/>
            <a:ext cx="857520" cy="857160"/>
          </a:xfrm>
          <a:prstGeom prst="ellipse">
            <a:avLst/>
          </a:prstGeom>
          <a:solidFill>
            <a:srgbClr val="f2fcb6"/>
          </a:solidFill>
          <a:ln w="25560">
            <a:solidFill>
              <a:srgbClr val="d9f62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entury Schoolbook"/>
              </a:rPr>
              <a:t>評価</a:t>
            </a:r>
            <a:endParaRPr b="0" lang="en-US" sz="1600" spc="-1" strike="noStrike">
              <a:solidFill>
                <a:srgbClr val="663300"/>
              </a:solidFill>
              <a:latin typeface="Century Schoolbook"/>
            </a:endParaRPr>
          </a:p>
        </p:txBody>
      </p:sp>
      <p:sp>
        <p:nvSpPr>
          <p:cNvPr id="575" name="右矢印 29"/>
          <p:cNvSpPr/>
          <p:nvPr/>
        </p:nvSpPr>
        <p:spPr>
          <a:xfrm>
            <a:off x="6143760" y="5286240"/>
            <a:ext cx="571320" cy="428760"/>
          </a:xfrm>
          <a:prstGeom prst="rightArrow">
            <a:avLst>
              <a:gd name="adj1" fmla="val 50000"/>
              <a:gd name="adj2" fmla="val 49968"/>
            </a:avLst>
          </a:prstGeom>
          <a:solidFill>
            <a:srgbClr val="fde7ee"/>
          </a:solidFill>
          <a:ln w="25560">
            <a:solidFill>
              <a:srgbClr val="fba9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576" name="右矢印 30"/>
          <p:cNvSpPr/>
          <p:nvPr/>
        </p:nvSpPr>
        <p:spPr>
          <a:xfrm>
            <a:off x="3286080" y="5214960"/>
            <a:ext cx="285840" cy="428760"/>
          </a:xfrm>
          <a:prstGeom prst="rightArrow">
            <a:avLst>
              <a:gd name="adj1" fmla="val 50000"/>
              <a:gd name="adj2" fmla="val 50000"/>
            </a:avLst>
          </a:prstGeom>
          <a:solidFill>
            <a:srgbClr val="fde7ee"/>
          </a:solidFill>
          <a:ln w="25560">
            <a:solidFill>
              <a:srgbClr val="fba9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577" name="右矢印 31"/>
          <p:cNvSpPr/>
          <p:nvPr/>
        </p:nvSpPr>
        <p:spPr>
          <a:xfrm>
            <a:off x="2000160" y="5214960"/>
            <a:ext cx="285840" cy="428760"/>
          </a:xfrm>
          <a:prstGeom prst="rightArrow">
            <a:avLst>
              <a:gd name="adj1" fmla="val 50000"/>
              <a:gd name="adj2" fmla="val 50000"/>
            </a:avLst>
          </a:prstGeom>
          <a:solidFill>
            <a:srgbClr val="fde7ee"/>
          </a:solidFill>
          <a:ln w="25560">
            <a:solidFill>
              <a:srgbClr val="fba9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578" name="テキスト ボックス 32"/>
          <p:cNvSpPr/>
          <p:nvPr/>
        </p:nvSpPr>
        <p:spPr>
          <a:xfrm>
            <a:off x="1000080" y="6072120"/>
            <a:ext cx="3500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Schoolbook"/>
              </a:rPr>
              <a:t>（行動し）　　　　　　　（知り）　　　　　　（感じる）</a:t>
            </a:r>
            <a:endParaRPr b="0" lang="en-US" sz="1400" spc="-1" strike="noStrike">
              <a:solidFill>
                <a:srgbClr val="663300"/>
              </a:solidFill>
              <a:latin typeface="Century Schoolbook"/>
            </a:endParaRPr>
          </a:p>
        </p:txBody>
      </p:sp>
      <p:sp>
        <p:nvSpPr>
          <p:cNvPr id="579" name="テキスト ボックス 33"/>
          <p:cNvSpPr/>
          <p:nvPr/>
        </p:nvSpPr>
        <p:spPr>
          <a:xfrm>
            <a:off x="5214960" y="6072120"/>
            <a:ext cx="27147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Schoolbook"/>
              </a:rPr>
              <a:t>（知り）　　　　　　　　　（行動する）</a:t>
            </a:r>
            <a:endParaRPr b="0" lang="en-US" sz="1400" spc="-1" strike="noStrike">
              <a:solidFill>
                <a:srgbClr val="663300"/>
              </a:solidFill>
              <a:latin typeface="Century Schoolbook"/>
            </a:endParaRPr>
          </a:p>
        </p:txBody>
      </p:sp>
      <p:sp>
        <p:nvSpPr>
          <p:cNvPr id="580" name="円/楕円 35"/>
          <p:cNvSpPr/>
          <p:nvPr/>
        </p:nvSpPr>
        <p:spPr>
          <a:xfrm>
            <a:off x="4786200" y="4286160"/>
            <a:ext cx="3143520" cy="207180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ff0000"/>
                </a:solidFill>
                <a:latin typeface="HGP創英角ｺﾞｼｯｸUB"/>
                <a:ea typeface="HGP創英角ｺﾞｼｯｸUB"/>
              </a:rPr>
              <a:t>最寄品</a:t>
            </a:r>
            <a:endParaRPr b="0" lang="en-US" sz="4800" spc="-1" strike="noStrike">
              <a:solidFill>
                <a:srgbClr val="663300"/>
              </a:solidFill>
              <a:latin typeface="Century Schoolbook"/>
            </a:endParaRPr>
          </a:p>
        </p:txBody>
      </p:sp>
      <p:sp>
        <p:nvSpPr>
          <p:cNvPr id="581" name="正方形/長方形 34"/>
          <p:cNvSpPr/>
          <p:nvPr/>
        </p:nvSpPr>
        <p:spPr>
          <a:xfrm>
            <a:off x="4943160" y="6488280"/>
            <a:ext cx="335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rPr>
              <a:t>[</a:t>
            </a:r>
            <a:r>
              <a:rPr b="1" lang="ja-JP" sz="1800" spc="-1" strike="noStrike">
                <a:solidFill>
                  <a:srgbClr val="000000"/>
                </a:solidFill>
                <a:latin typeface="Century Schoolbook"/>
              </a:rPr>
              <a:t>恩蔵　直人　 （２００４年）　 </a:t>
            </a:r>
            <a:r>
              <a:rPr b="1" lang="en-US" sz="1800" spc="-1" strike="noStrike">
                <a:solidFill>
                  <a:srgbClr val="000000"/>
                </a:solidFill>
                <a:latin typeface="Century Schoolbook"/>
              </a:rPr>
              <a:t>p.112]</a:t>
            </a:r>
            <a:endParaRPr b="0" lang="en-US" sz="1800" spc="-1" strike="noStrike">
              <a:solidFill>
                <a:srgbClr val="663300"/>
              </a:solidFill>
              <a:latin typeface="Century Schoolbook"/>
            </a:endParaRPr>
          </a:p>
        </p:txBody>
      </p:sp>
      <p:sp>
        <p:nvSpPr>
          <p:cNvPr id="582" name="テキスト ボックス 36"/>
          <p:cNvSpPr/>
          <p:nvPr/>
        </p:nvSpPr>
        <p:spPr>
          <a:xfrm>
            <a:off x="3696480" y="6581880"/>
            <a:ext cx="97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Schoolbook"/>
              </a:rPr>
              <a:t>＊筆者加筆修正　</a:t>
            </a:r>
            <a:endParaRPr b="0" lang="en-US" sz="1200" spc="-1" strike="noStrike">
              <a:solidFill>
                <a:srgbClr val="663300"/>
              </a:solidFill>
              <a:latin typeface="Century Schoolbook"/>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58">
                                  <p:stCondLst>
                                    <p:cond delay="0"/>
                                  </p:stCondLst>
                                  <p:childTnLst>
                                    <p:set>
                                      <p:cBhvr>
                                        <p:cTn id="77" dur="1" fill="hold">
                                          <p:stCondLst>
                                            <p:cond delay="0"/>
                                          </p:stCondLst>
                                        </p:cTn>
                                        <p:tgtEl>
                                          <p:spTgt spid="580"/>
                                        </p:tgtEl>
                                        <p:attrNameLst>
                                          <p:attrName>style.visibility</p:attrName>
                                        </p:attrNameLst>
                                      </p:cBhvr>
                                      <p:to>
                                        <p:strVal val="visible"/>
                                      </p:to>
                                    </p:set>
                                    <p:anim calcmode="lin" valueType="num">
                                      <p:cBhvr additive="repl">
                                        <p:cTn id="78" dur="500" fill="hold"/>
                                        <p:tgtEl>
                                          <p:spTgt spid="580"/>
                                        </p:tgtEl>
                                        <p:attrNameLst>
                                          <p:attrName>ppt_w</p:attrName>
                                        </p:attrNameLst>
                                      </p:cBhvr>
                                      <p:tavLst>
                                        <p:tav tm="0">
                                          <p:val>
                                            <p:strVal val="#ppt_w*2.5"/>
                                          </p:val>
                                        </p:tav>
                                        <p:tav tm="100000">
                                          <p:val>
                                            <p:strVal val="#ppt_w"/>
                                          </p:val>
                                        </p:tav>
                                      </p:tavLst>
                                    </p:anim>
                                    <p:anim calcmode="lin" valueType="num">
                                      <p:cBhvr additive="repl">
                                        <p:cTn id="79" dur="500" fill="hold"/>
                                        <p:tgtEl>
                                          <p:spTgt spid="580"/>
                                        </p:tgtEl>
                                        <p:attrNameLst>
                                          <p:attrName>ppt_h</p:attrName>
                                        </p:attrNameLst>
                                      </p:cBhvr>
                                      <p:tavLst>
                                        <p:tav tm="0">
                                          <p:val>
                                            <p:strVal val="#ppt_h*0.01"/>
                                          </p:val>
                                        </p:tav>
                                        <p:tav tm="100000">
                                          <p:val>
                                            <p:strVal val="#ppt_h"/>
                                          </p:val>
                                        </p:tav>
                                      </p:tavLst>
                                    </p:anim>
                                    <p:anim calcmode="lin" valueType="num">
                                      <p:cBhvr additive="repl">
                                        <p:cTn id="80" dur="500" fill="hold"/>
                                        <p:tgtEl>
                                          <p:spTgt spid="580"/>
                                        </p:tgtEl>
                                        <p:attrNameLst>
                                          <p:attrName>ppt_x</p:attrName>
                                        </p:attrNameLst>
                                      </p:cBhvr>
                                      <p:tavLst>
                                        <p:tav tm="0">
                                          <p:val>
                                            <p:strVal val="#ppt_x"/>
                                          </p:val>
                                        </p:tav>
                                        <p:tav tm="100000">
                                          <p:val>
                                            <p:strVal val="#ppt_x"/>
                                          </p:val>
                                        </p:tav>
                                      </p:tavLst>
                                    </p:anim>
                                    <p:anim calcmode="lin" valueType="num">
                                      <p:cBhvr additive="repl">
                                        <p:cTn id="81" dur="500" fill="hold"/>
                                        <p:tgtEl>
                                          <p:spTgt spid="580"/>
                                        </p:tgtEl>
                                        <p:attrNameLst>
                                          <p:attrName>ppt_y</p:attrName>
                                        </p:attrNameLst>
                                      </p:cBhvr>
                                      <p:tavLst>
                                        <p:tav tm="0">
                                          <p:val>
                                            <p:strVal val="#ppt_h+1"/>
                                          </p:val>
                                        </p:tav>
                                        <p:tav tm="100000">
                                          <p:val>
                                            <p:strVal val="#ppt_y"/>
                                          </p:val>
                                        </p:tav>
                                      </p:tavLst>
                                    </p:anim>
                                    <p:animEffect filter="fade" transition="in">
                                      <p:cBhvr additive="repl">
                                        <p:cTn id="82" dur="500"/>
                                        <p:tgtEl>
                                          <p:spTgt spid="5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スライド番号プレースホルダ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D76F1-B831-49CE-B8F7-6B8535233374}" type="slidenum">
              <a:rPr b="1" lang="ja-JP" sz="1400" spc="-1" strike="noStrike">
                <a:solidFill>
                  <a:srgbClr val="ffffff"/>
                </a:solidFill>
                <a:latin typeface="Century Schoolbook"/>
              </a:rPr>
              <a:t>&lt;number&gt;</a:t>
            </a:fld>
            <a:endParaRPr b="0" lang="en-US" sz="1400" spc="-1" strike="noStrike">
              <a:solidFill>
                <a:srgbClr val="663300"/>
              </a:solidFill>
              <a:latin typeface="Century Schoolbook"/>
            </a:endParaRPr>
          </a:p>
        </p:txBody>
      </p:sp>
      <p:sp>
        <p:nvSpPr>
          <p:cNvPr id="584" name="正方形/長方形 4"/>
          <p:cNvSpPr/>
          <p:nvPr/>
        </p:nvSpPr>
        <p:spPr>
          <a:xfrm>
            <a:off x="285840" y="857160"/>
            <a:ext cx="7858080" cy="5143680"/>
          </a:xfrm>
          <a:prstGeom prst="rect">
            <a:avLst/>
          </a:prstGeom>
          <a:solidFill>
            <a:srgbClr val="ffff66"/>
          </a:solidFill>
          <a:ln w="25560">
            <a:solidFill>
              <a:srgbClr val="66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663300"/>
                </a:solidFill>
                <a:latin typeface="Century Schoolbook"/>
              </a:rPr>
              <a:t>購買に対する関与水準が低く、ブランド間の差異が小さい場合、</a:t>
            </a:r>
            <a:endParaRPr b="0" lang="en-US" sz="18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663300"/>
                </a:solidFill>
                <a:latin typeface="Century Schoolbook"/>
              </a:rPr>
              <a:t>消費者は習慣的な購買行動をとる。</a:t>
            </a:r>
            <a:endParaRPr b="0" lang="en-US" sz="18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663300"/>
                </a:solidFill>
                <a:latin typeface="Century Schoolbook"/>
              </a:rPr>
              <a:t>消費者は購買に際してあまり深い情報処理を行うことがない。</a:t>
            </a:r>
            <a:endParaRPr b="0" lang="en-US" sz="18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663300"/>
                </a:solidFill>
                <a:latin typeface="Century Schoolbook"/>
              </a:rPr>
              <a:t>いつものブランドを習慣的に購買するというような買い方が</a:t>
            </a:r>
            <a:endParaRPr b="0" lang="en-US" sz="18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663300"/>
                </a:solidFill>
                <a:latin typeface="Century Schoolbook"/>
              </a:rPr>
              <a:t>多くみられることとなる。</a:t>
            </a:r>
            <a:endParaRPr b="0" lang="en-US" sz="1800" spc="-1" strike="noStrike">
              <a:solidFill>
                <a:srgbClr val="663300"/>
              </a:solidFill>
              <a:latin typeface="Century Schoolbook"/>
            </a:endParaRPr>
          </a:p>
        </p:txBody>
      </p:sp>
      <p:sp>
        <p:nvSpPr>
          <p:cNvPr id="585" name="上リボン 7"/>
          <p:cNvSpPr/>
          <p:nvPr/>
        </p:nvSpPr>
        <p:spPr>
          <a:xfrm>
            <a:off x="2357280" y="1000080"/>
            <a:ext cx="3500640" cy="928800"/>
          </a:xfrm>
          <a:custGeom>
            <a:avLst/>
            <a:gdLst>
              <a:gd name="textAreaLeft" fmla="*/ 437400 w 3500640"/>
              <a:gd name="textAreaRight" fmla="*/ 3063240 w 3500640"/>
              <a:gd name="textAreaTop" fmla="*/ 0 h 928800"/>
              <a:gd name="textAreaBottom" fmla="*/ 774000 h 928800"/>
            </a:gdLst>
            <a:ahLst/>
            <a:rect l="textAreaLeft" t="textAreaTop" r="textAreaRight" b="textAreaBottom"/>
            <a:pathLst>
              <a:path w="21600" h="21600">
                <a:moveTo>
                  <a:pt x="5400" y="18000"/>
                </a:moveTo>
                <a:lnTo>
                  <a:pt x="5400" y="20700"/>
                </a:lnTo>
                <a:cubicBezTo>
                  <a:pt x="5400" y="21150"/>
                  <a:pt x="4980" y="21600"/>
                  <a:pt x="4560" y="21600"/>
                </a:cubicBezTo>
                <a:lnTo>
                  <a:pt x="0" y="21600"/>
                </a:lnTo>
                <a:lnTo>
                  <a:pt x="2750" y="12600"/>
                </a:lnTo>
                <a:lnTo>
                  <a:pt x="0" y="3600"/>
                </a:lnTo>
                <a:lnTo>
                  <a:pt x="2700" y="3600"/>
                </a:lnTo>
                <a:lnTo>
                  <a:pt x="2700" y="900"/>
                </a:lnTo>
                <a:cubicBezTo>
                  <a:pt x="2700" y="450"/>
                  <a:pt x="3120" y="0"/>
                  <a:pt x="3540" y="0"/>
                </a:cubicBezTo>
                <a:lnTo>
                  <a:pt x="18060" y="0"/>
                </a:lnTo>
                <a:cubicBezTo>
                  <a:pt x="18480" y="0"/>
                  <a:pt x="18900" y="450"/>
                  <a:pt x="18900" y="900"/>
                </a:cubicBezTo>
                <a:lnTo>
                  <a:pt x="18900" y="3600"/>
                </a:lnTo>
                <a:lnTo>
                  <a:pt x="21600" y="3600"/>
                </a:lnTo>
                <a:lnTo>
                  <a:pt x="18850" y="12600"/>
                </a:lnTo>
                <a:lnTo>
                  <a:pt x="21600" y="21600"/>
                </a:lnTo>
                <a:lnTo>
                  <a:pt x="17040" y="21600"/>
                </a:lnTo>
                <a:cubicBezTo>
                  <a:pt x="16620" y="21600"/>
                  <a:pt x="16200" y="21150"/>
                  <a:pt x="16200" y="20700"/>
                </a:cubicBezTo>
                <a:lnTo>
                  <a:pt x="16200" y="18000"/>
                </a:lnTo>
                <a:close/>
              </a:path>
              <a:path fill="darkenLess" w="21600" h="21600">
                <a:moveTo>
                  <a:pt x="5400" y="18000"/>
                </a:moveTo>
                <a:lnTo>
                  <a:pt x="5400" y="20700"/>
                </a:lnTo>
                <a:cubicBezTo>
                  <a:pt x="5400" y="20250"/>
                  <a:pt x="4980" y="19800"/>
                  <a:pt x="4560" y="19800"/>
                </a:cubicBezTo>
                <a:lnTo>
                  <a:pt x="3540" y="19800"/>
                </a:lnTo>
                <a:cubicBezTo>
                  <a:pt x="3120" y="19800"/>
                  <a:pt x="2700" y="19350"/>
                  <a:pt x="2700" y="18900"/>
                </a:cubicBezTo>
                <a:cubicBezTo>
                  <a:pt x="2700" y="18450"/>
                  <a:pt x="3120" y="18000"/>
                  <a:pt x="3540" y="18000"/>
                </a:cubicBezTo>
                <a:close/>
              </a:path>
              <a:path fill="darkenLess" w="21600" h="21600">
                <a:moveTo>
                  <a:pt x="16200" y="18000"/>
                </a:moveTo>
                <a:lnTo>
                  <a:pt x="16200" y="20700"/>
                </a:lnTo>
                <a:cubicBezTo>
                  <a:pt x="16200" y="20250"/>
                  <a:pt x="16620" y="19800"/>
                  <a:pt x="17040" y="19800"/>
                </a:cubicBezTo>
                <a:lnTo>
                  <a:pt x="18060" y="19800"/>
                </a:lnTo>
                <a:cubicBezTo>
                  <a:pt x="18480" y="19800"/>
                  <a:pt x="18900" y="19350"/>
                  <a:pt x="18900" y="18900"/>
                </a:cubicBezTo>
                <a:cubicBezTo>
                  <a:pt x="18900" y="18450"/>
                  <a:pt x="18480" y="18000"/>
                  <a:pt x="18060" y="18000"/>
                </a:cubicBezTo>
                <a:close/>
              </a:path>
              <a:path fill="darkenLess" w="21600" h="21600">
                <a:moveTo>
                  <a:pt x="2700" y="18900"/>
                </a:moveTo>
                <a:lnTo>
                  <a:pt x="2700" y="3600"/>
                </a:lnTo>
              </a:path>
              <a:path fill="darkenLess" w="21600" h="21600">
                <a:moveTo>
                  <a:pt x="18900" y="18900"/>
                </a:moveTo>
                <a:lnTo>
                  <a:pt x="18900" y="3600"/>
                </a:lnTo>
              </a:path>
            </a:pathLst>
          </a:custGeom>
          <a:solidFill>
            <a:srgbClr val="d9f62a"/>
          </a:solidFill>
          <a:ln w="25560">
            <a:solidFill>
              <a:srgbClr val="bb612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663300"/>
                </a:solidFill>
                <a:latin typeface="Century Schoolbook"/>
              </a:rPr>
              <a:t>習慣購買型</a:t>
            </a:r>
            <a:endParaRPr b="0" lang="en-US" sz="1800" spc="-1" strike="noStrike">
              <a:solidFill>
                <a:srgbClr val="663300"/>
              </a:solidFill>
              <a:latin typeface="Century Schoolbook"/>
            </a:endParaRPr>
          </a:p>
        </p:txBody>
      </p:sp>
      <p:sp>
        <p:nvSpPr>
          <p:cNvPr id="586" name="円/楕円 8"/>
          <p:cNvSpPr/>
          <p:nvPr/>
        </p:nvSpPr>
        <p:spPr>
          <a:xfrm>
            <a:off x="2643120" y="2286000"/>
            <a:ext cx="857160" cy="857160"/>
          </a:xfrm>
          <a:prstGeom prst="ellipse">
            <a:avLst/>
          </a:prstGeom>
          <a:solidFill>
            <a:srgbClr val="f2fcb6"/>
          </a:solidFill>
          <a:ln w="25560">
            <a:solidFill>
              <a:srgbClr val="c8e80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entury Schoolbook"/>
              </a:rPr>
              <a:t>認知</a:t>
            </a:r>
            <a:endParaRPr b="0" lang="en-US" sz="1600" spc="-1" strike="noStrike">
              <a:solidFill>
                <a:srgbClr val="663300"/>
              </a:solidFill>
              <a:latin typeface="Century Schoolbook"/>
            </a:endParaRPr>
          </a:p>
        </p:txBody>
      </p:sp>
      <p:sp>
        <p:nvSpPr>
          <p:cNvPr id="587" name="円/楕円 9"/>
          <p:cNvSpPr/>
          <p:nvPr/>
        </p:nvSpPr>
        <p:spPr>
          <a:xfrm>
            <a:off x="4643280" y="2286000"/>
            <a:ext cx="857520" cy="857160"/>
          </a:xfrm>
          <a:prstGeom prst="ellipse">
            <a:avLst/>
          </a:prstGeom>
          <a:solidFill>
            <a:srgbClr val="f2fcb6"/>
          </a:solidFill>
          <a:ln w="25560">
            <a:solidFill>
              <a:srgbClr val="c8e80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entury Schoolbook"/>
              </a:rPr>
              <a:t>行動</a:t>
            </a:r>
            <a:endParaRPr b="0" lang="en-US" sz="1600" spc="-1" strike="noStrike">
              <a:solidFill>
                <a:srgbClr val="663300"/>
              </a:solidFill>
              <a:latin typeface="Century Schoolbook"/>
            </a:endParaRPr>
          </a:p>
        </p:txBody>
      </p:sp>
      <p:sp>
        <p:nvSpPr>
          <p:cNvPr id="588" name="右矢印 10"/>
          <p:cNvSpPr/>
          <p:nvPr/>
        </p:nvSpPr>
        <p:spPr>
          <a:xfrm>
            <a:off x="3857760" y="2500200"/>
            <a:ext cx="571320" cy="428760"/>
          </a:xfrm>
          <a:prstGeom prst="rightArrow">
            <a:avLst>
              <a:gd name="adj1" fmla="val 50000"/>
              <a:gd name="adj2" fmla="val 49968"/>
            </a:avLst>
          </a:prstGeom>
          <a:solidFill>
            <a:srgbClr val="fde7ee"/>
          </a:solidFill>
          <a:ln w="25560">
            <a:solidFill>
              <a:srgbClr val="fba9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589" name="テキスト ボックス 11"/>
          <p:cNvSpPr/>
          <p:nvPr/>
        </p:nvSpPr>
        <p:spPr>
          <a:xfrm>
            <a:off x="2714760" y="3214800"/>
            <a:ext cx="3286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Schoolbook"/>
              </a:rPr>
              <a:t>（知り）　　　　　　　　　　　　（行動する）</a:t>
            </a:r>
            <a:endParaRPr b="0" lang="en-US" sz="1400" spc="-1" strike="noStrike">
              <a:solidFill>
                <a:srgbClr val="663300"/>
              </a:solidFill>
              <a:latin typeface="Century Schoolboo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テキスト ボックス 13"/>
          <p:cNvSpPr/>
          <p:nvPr/>
        </p:nvSpPr>
        <p:spPr>
          <a:xfrm>
            <a:off x="428760" y="285840"/>
            <a:ext cx="6215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ｺﾞｼｯｸUB"/>
                <a:ea typeface="HGP創英角ｺﾞｼｯｸUB"/>
              </a:rPr>
              <a:t>最寄品の意思決定プロセス</a:t>
            </a:r>
            <a:endParaRPr b="0" lang="en-US" sz="3200" spc="-1" strike="noStrike">
              <a:solidFill>
                <a:srgbClr val="663300"/>
              </a:solidFill>
              <a:latin typeface="Century Schoolbook"/>
            </a:endParaRPr>
          </a:p>
        </p:txBody>
      </p:sp>
      <p:sp>
        <p:nvSpPr>
          <p:cNvPr id="591" name="テキスト ボックス 22"/>
          <p:cNvSpPr/>
          <p:nvPr/>
        </p:nvSpPr>
        <p:spPr>
          <a:xfrm>
            <a:off x="3643200" y="6488280"/>
            <a:ext cx="5072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Schoolbook"/>
              </a:rPr>
              <a:t>Engel,Blackwell &amp; Miniard,1995</a:t>
            </a:r>
            <a:endParaRPr b="0" lang="en-US" sz="1600" spc="-1" strike="noStrike">
              <a:solidFill>
                <a:srgbClr val="663300"/>
              </a:solidFill>
              <a:latin typeface="Century Schoolbook"/>
            </a:endParaRPr>
          </a:p>
        </p:txBody>
      </p:sp>
      <p:pic>
        <p:nvPicPr>
          <p:cNvPr id="592" name="Picture 5" descr="C:\Documents and Settings\bc0700055\Local Settings\Temporary Internet Files\Content.IE5\TTLLTYOH\MCj02409470000[1].wmf"/>
          <p:cNvPicPr/>
          <p:nvPr/>
        </p:nvPicPr>
        <p:blipFill>
          <a:blip r:embed="rId1"/>
          <a:stretch/>
        </p:blipFill>
        <p:spPr>
          <a:xfrm>
            <a:off x="5143680" y="142920"/>
            <a:ext cx="903240" cy="826920"/>
          </a:xfrm>
          <a:prstGeom prst="rect">
            <a:avLst/>
          </a:prstGeom>
          <a:ln w="0">
            <a:noFill/>
          </a:ln>
        </p:spPr>
      </p:pic>
      <p:sp>
        <p:nvSpPr>
          <p:cNvPr id="593" name="スライド番号プレースホルダ 19"/>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A280D-58E0-4ACC-A812-38D6A3BA45B2}" type="slidenum">
              <a:rPr b="1" lang="ja-JP" sz="1400" spc="-1" strike="noStrike">
                <a:solidFill>
                  <a:srgbClr val="ffffff"/>
                </a:solidFill>
                <a:latin typeface="Century Schoolbook"/>
              </a:rPr>
              <a:t>&lt;number&gt;</a:t>
            </a:fld>
            <a:endParaRPr b="0" lang="en-US" sz="1400" spc="-1" strike="noStrike">
              <a:solidFill>
                <a:srgbClr val="663300"/>
              </a:solidFill>
              <a:latin typeface="Century Schoolbook"/>
            </a:endParaRPr>
          </a:p>
        </p:txBody>
      </p:sp>
      <p:grpSp>
        <p:nvGrpSpPr>
          <p:cNvPr id="594" name="角丸四角形 16"/>
          <p:cNvGrpSpPr/>
          <p:nvPr/>
        </p:nvGrpSpPr>
        <p:grpSpPr>
          <a:xfrm>
            <a:off x="182520" y="1328760"/>
            <a:ext cx="2054160" cy="1554120"/>
            <a:chOff x="182520" y="1328760"/>
            <a:chExt cx="2054160" cy="1554120"/>
          </a:xfrm>
        </p:grpSpPr>
        <p:pic>
          <p:nvPicPr>
            <p:cNvPr id="595" name="角丸四角形 16" descr=""/>
            <p:cNvPicPr/>
            <p:nvPr/>
          </p:nvPicPr>
          <p:blipFill>
            <a:blip r:embed="rId2"/>
            <a:stretch/>
          </p:blipFill>
          <p:spPr>
            <a:xfrm>
              <a:off x="182520" y="1328760"/>
              <a:ext cx="2054160" cy="1554120"/>
            </a:xfrm>
            <a:prstGeom prst="rect">
              <a:avLst/>
            </a:prstGeom>
            <a:ln w="0">
              <a:noFill/>
            </a:ln>
          </p:spPr>
        </p:pic>
        <p:sp>
          <p:nvSpPr>
            <p:cNvPr id="596" name=""/>
            <p:cNvSpPr/>
            <p:nvPr/>
          </p:nvSpPr>
          <p:spPr>
            <a:xfrm>
              <a:off x="287280" y="1430280"/>
              <a:ext cx="1854360" cy="1354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663300"/>
                  </a:solidFill>
                  <a:latin typeface="Century Schoolbook"/>
                </a:rPr>
                <a:t>欲求認識</a:t>
              </a:r>
              <a:endParaRPr b="0" lang="en-US" sz="2800" spc="-1" strike="noStrike">
                <a:solidFill>
                  <a:srgbClr val="663300"/>
                </a:solidFill>
                <a:latin typeface="Century Schoolbook"/>
              </a:endParaRPr>
            </a:p>
          </p:txBody>
        </p:sp>
      </p:grpSp>
      <p:grpSp>
        <p:nvGrpSpPr>
          <p:cNvPr id="597" name="角丸四角形 20"/>
          <p:cNvGrpSpPr/>
          <p:nvPr/>
        </p:nvGrpSpPr>
        <p:grpSpPr>
          <a:xfrm>
            <a:off x="2328840" y="1328760"/>
            <a:ext cx="2054160" cy="1554120"/>
            <a:chOff x="2328840" y="1328760"/>
            <a:chExt cx="2054160" cy="1554120"/>
          </a:xfrm>
        </p:grpSpPr>
        <p:pic>
          <p:nvPicPr>
            <p:cNvPr id="598" name="角丸四角形 20" descr=""/>
            <p:cNvPicPr/>
            <p:nvPr/>
          </p:nvPicPr>
          <p:blipFill>
            <a:blip r:embed="rId3"/>
            <a:stretch/>
          </p:blipFill>
          <p:spPr>
            <a:xfrm>
              <a:off x="2328840" y="1328760"/>
              <a:ext cx="2054160" cy="1554120"/>
            </a:xfrm>
            <a:prstGeom prst="rect">
              <a:avLst/>
            </a:prstGeom>
            <a:ln w="0">
              <a:noFill/>
            </a:ln>
          </p:spPr>
        </p:pic>
        <p:sp>
          <p:nvSpPr>
            <p:cNvPr id="599" name=""/>
            <p:cNvSpPr/>
            <p:nvPr/>
          </p:nvSpPr>
          <p:spPr>
            <a:xfrm>
              <a:off x="2430360" y="1430280"/>
              <a:ext cx="1854360" cy="1354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663300"/>
                  </a:solidFill>
                  <a:latin typeface="Century Schoolbook"/>
                </a:rPr>
                <a:t>情報探索</a:t>
              </a:r>
              <a:endParaRPr b="0" lang="en-US" sz="2800" spc="-1" strike="noStrike">
                <a:solidFill>
                  <a:srgbClr val="663300"/>
                </a:solidFill>
                <a:latin typeface="Century Schoolbook"/>
              </a:endParaRPr>
            </a:p>
          </p:txBody>
        </p:sp>
      </p:grpSp>
      <p:grpSp>
        <p:nvGrpSpPr>
          <p:cNvPr id="600" name="角丸四角形 21"/>
          <p:cNvGrpSpPr/>
          <p:nvPr/>
        </p:nvGrpSpPr>
        <p:grpSpPr>
          <a:xfrm>
            <a:off x="4468680" y="1328760"/>
            <a:ext cx="2054520" cy="1554120"/>
            <a:chOff x="4468680" y="1328760"/>
            <a:chExt cx="2054520" cy="1554120"/>
          </a:xfrm>
        </p:grpSpPr>
        <p:pic>
          <p:nvPicPr>
            <p:cNvPr id="601" name="角丸四角形 21" descr=""/>
            <p:cNvPicPr/>
            <p:nvPr/>
          </p:nvPicPr>
          <p:blipFill>
            <a:blip r:embed="rId4"/>
            <a:stretch/>
          </p:blipFill>
          <p:spPr>
            <a:xfrm>
              <a:off x="4468680" y="1328760"/>
              <a:ext cx="2054520" cy="1554120"/>
            </a:xfrm>
            <a:prstGeom prst="rect">
              <a:avLst/>
            </a:prstGeom>
            <a:ln w="0">
              <a:noFill/>
            </a:ln>
          </p:spPr>
        </p:pic>
        <p:sp>
          <p:nvSpPr>
            <p:cNvPr id="602" name=""/>
            <p:cNvSpPr/>
            <p:nvPr/>
          </p:nvSpPr>
          <p:spPr>
            <a:xfrm>
              <a:off x="4573440" y="1430280"/>
              <a:ext cx="1854360" cy="1354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663300"/>
                  </a:solidFill>
                  <a:latin typeface="Century Schoolbook"/>
                </a:rPr>
                <a:t>購買前</a:t>
              </a:r>
              <a:endParaRPr b="0" lang="en-US" sz="28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663300"/>
                  </a:solidFill>
                  <a:latin typeface="Century Schoolbook"/>
                </a:rPr>
                <a:t>代案評価</a:t>
              </a:r>
              <a:endParaRPr b="0" lang="en-US" sz="2800" spc="-1" strike="noStrike">
                <a:solidFill>
                  <a:srgbClr val="663300"/>
                </a:solidFill>
                <a:latin typeface="Century Schoolbook"/>
              </a:endParaRPr>
            </a:p>
          </p:txBody>
        </p:sp>
      </p:grpSp>
      <p:grpSp>
        <p:nvGrpSpPr>
          <p:cNvPr id="603" name="角丸四角形 23"/>
          <p:cNvGrpSpPr/>
          <p:nvPr/>
        </p:nvGrpSpPr>
        <p:grpSpPr>
          <a:xfrm>
            <a:off x="6613560" y="1328760"/>
            <a:ext cx="2054160" cy="1554120"/>
            <a:chOff x="6613560" y="1328760"/>
            <a:chExt cx="2054160" cy="1554120"/>
          </a:xfrm>
        </p:grpSpPr>
        <p:pic>
          <p:nvPicPr>
            <p:cNvPr id="604" name="角丸四角形 23" descr=""/>
            <p:cNvPicPr/>
            <p:nvPr/>
          </p:nvPicPr>
          <p:blipFill>
            <a:blip r:embed="rId5"/>
            <a:stretch/>
          </p:blipFill>
          <p:spPr>
            <a:xfrm>
              <a:off x="6613560" y="1328760"/>
              <a:ext cx="2054160" cy="1554120"/>
            </a:xfrm>
            <a:prstGeom prst="rect">
              <a:avLst/>
            </a:prstGeom>
            <a:ln w="0">
              <a:noFill/>
            </a:ln>
          </p:spPr>
        </p:pic>
        <p:sp>
          <p:nvSpPr>
            <p:cNvPr id="605" name=""/>
            <p:cNvSpPr/>
            <p:nvPr/>
          </p:nvSpPr>
          <p:spPr>
            <a:xfrm>
              <a:off x="6716880" y="1430280"/>
              <a:ext cx="1854000" cy="1354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663300"/>
                  </a:solidFill>
                  <a:latin typeface="Century Schoolbook"/>
                </a:rPr>
                <a:t>購買決定</a:t>
              </a:r>
              <a:endParaRPr b="0" lang="en-US" sz="2800" spc="-1" strike="noStrike">
                <a:solidFill>
                  <a:srgbClr val="663300"/>
                </a:solidFill>
                <a:latin typeface="Century Schoolbook"/>
              </a:endParaRPr>
            </a:p>
          </p:txBody>
        </p:sp>
      </p:grpSp>
      <p:sp>
        <p:nvSpPr>
          <p:cNvPr id="606" name="右矢印 12"/>
          <p:cNvSpPr/>
          <p:nvPr/>
        </p:nvSpPr>
        <p:spPr>
          <a:xfrm>
            <a:off x="4214880" y="1857240"/>
            <a:ext cx="500040" cy="500040"/>
          </a:xfrm>
          <a:prstGeom prst="rightArrow">
            <a:avLst>
              <a:gd name="adj1" fmla="val 50000"/>
              <a:gd name="adj2" fmla="val 50000"/>
            </a:avLst>
          </a:prstGeom>
          <a:solidFill>
            <a:srgbClr val="ffc000"/>
          </a:solidFill>
          <a:ln w="19080">
            <a:solidFill>
              <a:srgbClr val="bb612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607" name="右矢印 10"/>
          <p:cNvSpPr/>
          <p:nvPr/>
        </p:nvSpPr>
        <p:spPr>
          <a:xfrm>
            <a:off x="2071800" y="1928880"/>
            <a:ext cx="500040" cy="500040"/>
          </a:xfrm>
          <a:prstGeom prst="rightArrow">
            <a:avLst>
              <a:gd name="adj1" fmla="val 50000"/>
              <a:gd name="adj2" fmla="val 50000"/>
            </a:avLst>
          </a:prstGeom>
          <a:solidFill>
            <a:srgbClr val="ffc000"/>
          </a:solidFill>
          <a:ln w="19080">
            <a:solidFill>
              <a:srgbClr val="bb612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608" name="右矢印 11"/>
          <p:cNvSpPr/>
          <p:nvPr/>
        </p:nvSpPr>
        <p:spPr>
          <a:xfrm>
            <a:off x="6357960" y="1857240"/>
            <a:ext cx="500040" cy="500040"/>
          </a:xfrm>
          <a:prstGeom prst="rightArrow">
            <a:avLst>
              <a:gd name="adj1" fmla="val 50000"/>
              <a:gd name="adj2" fmla="val 50000"/>
            </a:avLst>
          </a:prstGeom>
          <a:solidFill>
            <a:srgbClr val="ffc000"/>
          </a:solidFill>
          <a:ln w="19080">
            <a:solidFill>
              <a:srgbClr val="bb612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609" name="円/楕円 27"/>
          <p:cNvSpPr/>
          <p:nvPr/>
        </p:nvSpPr>
        <p:spPr>
          <a:xfrm>
            <a:off x="2357280" y="3143160"/>
            <a:ext cx="1928880" cy="1143000"/>
          </a:xfrm>
          <a:prstGeom prst="ellipse">
            <a:avLst/>
          </a:prstGeom>
          <a:solidFill>
            <a:srgbClr val="fcccf5"/>
          </a:solidFill>
          <a:ln w="2844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663300"/>
                </a:solidFill>
                <a:latin typeface="Century Schoolbook"/>
              </a:rPr>
              <a:t>内的探索</a:t>
            </a:r>
            <a:endParaRPr b="0" lang="en-US" sz="2000" spc="-1" strike="noStrike">
              <a:solidFill>
                <a:srgbClr val="663300"/>
              </a:solidFill>
              <a:latin typeface="Century Schoolbook"/>
            </a:endParaRPr>
          </a:p>
        </p:txBody>
      </p:sp>
      <p:cxnSp>
        <p:nvCxnSpPr>
          <p:cNvPr id="610" name="直線矢印コネクタ 25"/>
          <p:cNvCxnSpPr/>
          <p:nvPr/>
        </p:nvCxnSpPr>
        <p:spPr>
          <a:xfrm flipH="1">
            <a:off x="2928240" y="2643120"/>
            <a:ext cx="1080" cy="642240"/>
          </a:xfrm>
          <a:prstGeom prst="straightConnector1">
            <a:avLst/>
          </a:prstGeom>
          <a:ln w="76320">
            <a:solidFill>
              <a:srgbClr val="ffc000"/>
            </a:solidFill>
            <a:miter/>
            <a:tailEnd len="med" type="triangle" w="med"/>
          </a:ln>
        </p:spPr>
      </p:cxnSp>
      <p:cxnSp>
        <p:nvCxnSpPr>
          <p:cNvPr id="611" name="直線矢印コネクタ 28"/>
          <p:cNvCxnSpPr/>
          <p:nvPr/>
        </p:nvCxnSpPr>
        <p:spPr>
          <a:xfrm flipV="1">
            <a:off x="3713760" y="2643120"/>
            <a:ext cx="1080" cy="643320"/>
          </a:xfrm>
          <a:prstGeom prst="straightConnector1">
            <a:avLst/>
          </a:prstGeom>
          <a:ln w="76320">
            <a:solidFill>
              <a:srgbClr val="ffc000"/>
            </a:solidFill>
            <a:miter/>
            <a:tailEnd len="med" type="triangle" w="med"/>
          </a:ln>
        </p:spPr>
      </p:cxnSp>
      <p:sp>
        <p:nvSpPr>
          <p:cNvPr id="612" name="テキスト ボックス 17"/>
          <p:cNvSpPr/>
          <p:nvPr/>
        </p:nvSpPr>
        <p:spPr>
          <a:xfrm>
            <a:off x="4286160" y="3286080"/>
            <a:ext cx="4357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a:t>
            </a:r>
            <a:r>
              <a:rPr b="0" lang="ja-JP" sz="1800" spc="-1" strike="noStrike">
                <a:solidFill>
                  <a:srgbClr val="000000"/>
                </a:solidFill>
                <a:latin typeface="Century Schoolbook"/>
              </a:rPr>
              <a:t>消費者が過去の購買・使用経験から自分の記憶の中に蓄積させている知識に基づいて、選択代案を見つけだそうとすること。</a:t>
            </a:r>
            <a:endParaRPr b="0" lang="en-US" sz="1800" spc="-1" strike="noStrike">
              <a:solidFill>
                <a:srgbClr val="663300"/>
              </a:solidFill>
              <a:latin typeface="Century Schoolbook"/>
            </a:endParaRPr>
          </a:p>
        </p:txBody>
      </p:sp>
      <p:sp>
        <p:nvSpPr>
          <p:cNvPr id="613" name="正方形/長方形 24"/>
          <p:cNvSpPr/>
          <p:nvPr/>
        </p:nvSpPr>
        <p:spPr>
          <a:xfrm>
            <a:off x="285840" y="4786200"/>
            <a:ext cx="7858080" cy="1143000"/>
          </a:xfrm>
          <a:prstGeom prst="rect">
            <a:avLst/>
          </a:prstGeom>
          <a:solidFill>
            <a:srgbClr val="d9f62a"/>
          </a:solidFill>
          <a:ln w="25560">
            <a:solidFill>
              <a:srgbClr val="fb9bb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663300"/>
                </a:solidFill>
                <a:latin typeface="Century Schoolbook"/>
              </a:rPr>
              <a:t>最寄品の場合、</a:t>
            </a:r>
            <a:endParaRPr b="0" lang="en-US" sz="2400" spc="-1" strike="noStrike">
              <a:solidFill>
                <a:srgbClr val="6633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663300"/>
                </a:solidFill>
                <a:latin typeface="Century Schoolbook"/>
              </a:rPr>
              <a:t>欲求認識から購買に至るまでのプロセスに時間をかけない。</a:t>
            </a:r>
            <a:endParaRPr b="0" lang="en-US" sz="2400" spc="-1" strike="noStrike">
              <a:solidFill>
                <a:srgbClr val="663300"/>
              </a:solidFill>
              <a:latin typeface="Century Schoolboo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スライド番号プレースホル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78FCE-9634-478E-A987-F364E02867B1}" type="slidenum">
              <a:rPr b="1" lang="ja-JP" sz="1400" spc="-1" strike="noStrike">
                <a:solidFill>
                  <a:srgbClr val="ffffff"/>
                </a:solidFill>
                <a:latin typeface="Century Schoolbook"/>
              </a:rPr>
              <a:t>&lt;number&gt;</a:t>
            </a:fld>
            <a:endParaRPr b="0" lang="en-US" sz="1400" spc="-1" strike="noStrike">
              <a:solidFill>
                <a:srgbClr val="663300"/>
              </a:solidFill>
              <a:latin typeface="Century Schoolbook"/>
            </a:endParaRPr>
          </a:p>
        </p:txBody>
      </p:sp>
      <p:sp>
        <p:nvSpPr>
          <p:cNvPr id="615" name="テキスト ボックス 5"/>
          <p:cNvSpPr/>
          <p:nvPr/>
        </p:nvSpPr>
        <p:spPr>
          <a:xfrm>
            <a:off x="500040" y="500040"/>
            <a:ext cx="742968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Schoolbook"/>
              </a:rPr>
              <a:t>前述したように</a:t>
            </a:r>
            <a:r>
              <a:rPr b="0" lang="en-US" sz="1800" spc="-1" strike="noStrike">
                <a:solidFill>
                  <a:srgbClr val="000000"/>
                </a:solidFill>
                <a:latin typeface="Century Schoolbook"/>
              </a:rPr>
              <a:t>…</a:t>
            </a:r>
            <a:endParaRPr b="0" lang="en-US" sz="1800" spc="-1" strike="noStrike">
              <a:solidFill>
                <a:srgbClr val="6633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rPr>
              <a:t>選択の自由度を高めることは満足度の向上に繋がる。</a:t>
            </a:r>
            <a:endParaRPr b="0" lang="en-US" sz="2400" spc="-1" strike="noStrike">
              <a:solidFill>
                <a:srgbClr val="663300"/>
              </a:solidFill>
              <a:latin typeface="Century Schoolbook"/>
            </a:endParaRPr>
          </a:p>
        </p:txBody>
      </p:sp>
      <p:sp>
        <p:nvSpPr>
          <p:cNvPr id="616" name="爆発 2 8"/>
          <p:cNvSpPr/>
          <p:nvPr/>
        </p:nvSpPr>
        <p:spPr>
          <a:xfrm rot="660600">
            <a:off x="2355480" y="1392120"/>
            <a:ext cx="4357800" cy="2643480"/>
          </a:xfrm>
          <a:prstGeom prst="irregularSeal2">
            <a:avLst/>
          </a:prstGeom>
          <a:solidFill>
            <a:srgbClr val="fff081"/>
          </a:solidFill>
          <a:ln w="25560">
            <a:solidFill>
              <a:srgbClr val="f48c9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617" name="テキスト ボックス 9"/>
          <p:cNvSpPr/>
          <p:nvPr/>
        </p:nvSpPr>
        <p:spPr>
          <a:xfrm>
            <a:off x="3429000" y="2357280"/>
            <a:ext cx="2071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Century Schoolbook"/>
              </a:rPr>
              <a:t>しかし！！</a:t>
            </a:r>
            <a:endParaRPr b="0" lang="en-US" sz="3200" spc="-1" strike="noStrike">
              <a:solidFill>
                <a:srgbClr val="663300"/>
              </a:solidFill>
              <a:latin typeface="Century Schoolbook"/>
            </a:endParaRPr>
          </a:p>
        </p:txBody>
      </p:sp>
      <p:sp>
        <p:nvSpPr>
          <p:cNvPr id="618" name="テキスト ボックス 10"/>
          <p:cNvSpPr/>
          <p:nvPr/>
        </p:nvSpPr>
        <p:spPr>
          <a:xfrm>
            <a:off x="1214280" y="4000680"/>
            <a:ext cx="6715440" cy="231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Schoolbook"/>
              </a:rPr>
              <a:t>最寄品と買回り品では</a:t>
            </a:r>
            <a:endParaRPr b="0" lang="en-US" sz="18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entury Schoolbook"/>
              </a:rPr>
              <a:t>情報探索時間が違う＝選択にかける時間に差がある</a:t>
            </a:r>
            <a:endParaRPr b="0" lang="en-US" sz="20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Schoolbook"/>
              </a:rPr>
              <a:t>ということは</a:t>
            </a:r>
            <a:r>
              <a:rPr b="0" lang="en-US" sz="1800" spc="-1" strike="noStrike">
                <a:solidFill>
                  <a:srgbClr val="000000"/>
                </a:solidFill>
                <a:latin typeface="Century Schoolbook"/>
              </a:rPr>
              <a:t>…</a:t>
            </a:r>
            <a:endParaRPr b="0" lang="en-US" sz="18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rPr>
              <a:t>選択の自由度によって得られる満足度の大きさにも</a:t>
            </a:r>
            <a:endParaRPr b="0" lang="en-US" sz="24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rPr>
              <a:t>差があるのではないか？</a:t>
            </a:r>
            <a:endParaRPr b="0" lang="en-US" sz="2400" spc="-1" strike="noStrike">
              <a:solidFill>
                <a:srgbClr val="6633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Century Schoolbook"/>
            </a:endParaRPr>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3" presetSubtype="16">
                                  <p:stCondLst>
                                    <p:cond delay="0"/>
                                  </p:stCondLst>
                                  <p:childTnLst>
                                    <p:set>
                                      <p:cBhvr>
                                        <p:cTn id="88" dur="1" fill="hold">
                                          <p:stCondLst>
                                            <p:cond delay="0"/>
                                          </p:stCondLst>
                                        </p:cTn>
                                        <p:tgtEl>
                                          <p:spTgt spid="616"/>
                                        </p:tgtEl>
                                        <p:attrNameLst>
                                          <p:attrName>style.visibility</p:attrName>
                                        </p:attrNameLst>
                                      </p:cBhvr>
                                      <p:to>
                                        <p:strVal val="visible"/>
                                      </p:to>
                                    </p:set>
                                    <p:anim calcmode="lin" valueType="num">
                                      <p:cBhvr additive="repl">
                                        <p:cTn id="89" dur="500" fill="hold"/>
                                        <p:tgtEl>
                                          <p:spTgt spid="616"/>
                                        </p:tgtEl>
                                        <p:attrNameLst>
                                          <p:attrName>ppt_w</p:attrName>
                                        </p:attrNameLst>
                                      </p:cBhvr>
                                      <p:tavLst>
                                        <p:tav tm="0">
                                          <p:val>
                                            <p:fltVal val="0"/>
                                          </p:val>
                                        </p:tav>
                                        <p:tav tm="100000">
                                          <p:val>
                                            <p:strVal val="#ppt_w"/>
                                          </p:val>
                                        </p:tav>
                                      </p:tavLst>
                                    </p:anim>
                                    <p:anim calcmode="lin" valueType="num">
                                      <p:cBhvr additive="repl">
                                        <p:cTn id="90" dur="500" fill="hold"/>
                                        <p:tgtEl>
                                          <p:spTgt spid="616"/>
                                        </p:tgtEl>
                                        <p:attrNameLst>
                                          <p:attrName>ppt_h</p:attrName>
                                        </p:attrNameLst>
                                      </p:cBhvr>
                                      <p:tavLst>
                                        <p:tav tm="0">
                                          <p:val>
                                            <p:fltVal val="0"/>
                                          </p:val>
                                        </p:tav>
                                        <p:tav tm="100000">
                                          <p:val>
                                            <p:strVal val="#ppt_h"/>
                                          </p:val>
                                        </p:tav>
                                      </p:tavLst>
                                    </p:anim>
                                  </p:childTnLst>
                                </p:cTn>
                              </p:par>
                              <p:par>
                                <p:cTn id="91" nodeType="withEffect" fill="hold" presetClass="entr" presetID="23" presetSubtype="16">
                                  <p:stCondLst>
                                    <p:cond delay="0"/>
                                  </p:stCondLst>
                                  <p:childTnLst>
                                    <p:set>
                                      <p:cBhvr>
                                        <p:cTn id="92" dur="1" fill="hold">
                                          <p:stCondLst>
                                            <p:cond delay="0"/>
                                          </p:stCondLst>
                                        </p:cTn>
                                        <p:tgtEl>
                                          <p:spTgt spid="617"/>
                                        </p:tgtEl>
                                        <p:attrNameLst>
                                          <p:attrName>style.visibility</p:attrName>
                                        </p:attrNameLst>
                                      </p:cBhvr>
                                      <p:to>
                                        <p:strVal val="visible"/>
                                      </p:to>
                                    </p:set>
                                    <p:anim calcmode="lin" valueType="num">
                                      <p:cBhvr additive="repl">
                                        <p:cTn id="93" dur="500" fill="hold"/>
                                        <p:tgtEl>
                                          <p:spTgt spid="617"/>
                                        </p:tgtEl>
                                        <p:attrNameLst>
                                          <p:attrName>ppt_w</p:attrName>
                                        </p:attrNameLst>
                                      </p:cBhvr>
                                      <p:tavLst>
                                        <p:tav tm="0">
                                          <p:val>
                                            <p:fltVal val="0"/>
                                          </p:val>
                                        </p:tav>
                                        <p:tav tm="100000">
                                          <p:val>
                                            <p:strVal val="#ppt_w"/>
                                          </p:val>
                                        </p:tav>
                                      </p:tavLst>
                                    </p:anim>
                                    <p:anim calcmode="lin" valueType="num">
                                      <p:cBhvr additive="repl">
                                        <p:cTn id="94" dur="500" fill="hold"/>
                                        <p:tgtEl>
                                          <p:spTgt spid="617"/>
                                        </p:tgtEl>
                                        <p:attrNameLst>
                                          <p:attrName>ppt_h</p:attrName>
                                        </p:attrNameLst>
                                      </p:cBhvr>
                                      <p:tavLst>
                                        <p:tav tm="0">
                                          <p:val>
                                            <p:fltVal val="0"/>
                                          </p:val>
                                        </p:tav>
                                        <p:tav tm="100000">
                                          <p:val>
                                            <p:strVal val="#ppt_h"/>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618"/>
                                        </p:tgtEl>
                                        <p:attrNameLst>
                                          <p:attrName>style.visibility</p:attrName>
                                        </p:attrNameLst>
                                      </p:cBhvr>
                                      <p:to>
                                        <p:strVal val="visible"/>
                                      </p:to>
                                    </p:set>
                                    <p:animEffect filter="dissolve" transition="in">
                                      <p:cBhvr additive="repl">
                                        <p:cTn id="99" dur="500"/>
                                        <p:tgtEl>
                                          <p:spTgt spid="6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スライド番号プレースホル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4E990-90D0-4A6B-88C3-A9698B7164E0}" type="slidenum">
              <a:rPr b="1" lang="ja-JP" sz="1400" spc="-1" strike="noStrike">
                <a:solidFill>
                  <a:srgbClr val="ffffff"/>
                </a:solidFill>
                <a:latin typeface="Century Schoolbook"/>
              </a:rPr>
              <a:t>&lt;number&gt;</a:t>
            </a:fld>
            <a:endParaRPr b="0" lang="en-US" sz="1400" spc="-1" strike="noStrike">
              <a:solidFill>
                <a:srgbClr val="663300"/>
              </a:solidFill>
              <a:latin typeface="Century Schoolbook"/>
            </a:endParaRPr>
          </a:p>
        </p:txBody>
      </p:sp>
      <p:sp>
        <p:nvSpPr>
          <p:cNvPr id="620" name="テキスト ボックス 4"/>
          <p:cNvSpPr/>
          <p:nvPr/>
        </p:nvSpPr>
        <p:spPr>
          <a:xfrm>
            <a:off x="357120" y="500040"/>
            <a:ext cx="2000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Century Schoolbook"/>
              </a:rPr>
              <a:t>仮説①</a:t>
            </a:r>
            <a:endParaRPr b="0" lang="en-US" sz="3200" spc="-1" strike="noStrike">
              <a:solidFill>
                <a:srgbClr val="663300"/>
              </a:solidFill>
              <a:latin typeface="Century Schoolbook"/>
            </a:endParaRPr>
          </a:p>
        </p:txBody>
      </p:sp>
      <p:sp>
        <p:nvSpPr>
          <p:cNvPr id="621" name="正方形/長方形 5"/>
          <p:cNvSpPr/>
          <p:nvPr/>
        </p:nvSpPr>
        <p:spPr>
          <a:xfrm>
            <a:off x="357120" y="2643120"/>
            <a:ext cx="1357560" cy="500040"/>
          </a:xfrm>
          <a:prstGeom prst="rect">
            <a:avLst/>
          </a:prstGeom>
          <a:solidFill>
            <a:srgbClr val="fb9b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663300"/>
                </a:solidFill>
                <a:latin typeface="Century Schoolbook"/>
              </a:rPr>
              <a:t>最寄品</a:t>
            </a:r>
            <a:endParaRPr b="0" lang="en-US" sz="2400" spc="-1" strike="noStrike">
              <a:solidFill>
                <a:srgbClr val="663300"/>
              </a:solidFill>
              <a:latin typeface="Century Schoolbook"/>
            </a:endParaRPr>
          </a:p>
        </p:txBody>
      </p:sp>
      <p:sp>
        <p:nvSpPr>
          <p:cNvPr id="622" name="正方形/長方形 6"/>
          <p:cNvSpPr/>
          <p:nvPr/>
        </p:nvSpPr>
        <p:spPr>
          <a:xfrm>
            <a:off x="357120" y="4500720"/>
            <a:ext cx="1357560" cy="500040"/>
          </a:xfrm>
          <a:prstGeom prst="rect">
            <a:avLst/>
          </a:prstGeom>
          <a:solidFill>
            <a:srgbClr val="fb9b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663300"/>
                </a:solidFill>
                <a:latin typeface="Century Schoolbook"/>
              </a:rPr>
              <a:t>買回り品</a:t>
            </a:r>
            <a:endParaRPr b="0" lang="en-US" sz="2400" spc="-1" strike="noStrike">
              <a:solidFill>
                <a:srgbClr val="663300"/>
              </a:solidFill>
              <a:latin typeface="Century Schoolbook"/>
            </a:endParaRPr>
          </a:p>
        </p:txBody>
      </p:sp>
      <p:sp>
        <p:nvSpPr>
          <p:cNvPr id="623" name="テキスト ボックス 8"/>
          <p:cNvSpPr/>
          <p:nvPr/>
        </p:nvSpPr>
        <p:spPr>
          <a:xfrm>
            <a:off x="500040" y="3357720"/>
            <a:ext cx="8001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Schoolbook"/>
              </a:rPr>
              <a:t>情報探索時間が短い＝選択の自由度によって得られる満足度は小さい。</a:t>
            </a:r>
            <a:endParaRPr b="0" lang="en-US" sz="2000" spc="-1" strike="noStrike">
              <a:solidFill>
                <a:srgbClr val="663300"/>
              </a:solidFill>
              <a:latin typeface="Century Schoolbook"/>
            </a:endParaRPr>
          </a:p>
        </p:txBody>
      </p:sp>
      <p:sp>
        <p:nvSpPr>
          <p:cNvPr id="624" name="テキスト ボックス 7"/>
          <p:cNvSpPr/>
          <p:nvPr/>
        </p:nvSpPr>
        <p:spPr>
          <a:xfrm>
            <a:off x="357120" y="1357200"/>
            <a:ext cx="83581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rPr>
              <a:t>「情報探索にかける時間」と</a:t>
            </a:r>
            <a:endParaRPr b="0" lang="en-US" sz="2400" spc="-1" strike="noStrike">
              <a:solidFill>
                <a:srgbClr val="6633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rPr>
              <a:t>「選択の自由度によって得られる満足度の大きさ」には</a:t>
            </a:r>
            <a:endParaRPr b="0" lang="en-US" sz="2400" spc="-1" strike="noStrike">
              <a:solidFill>
                <a:srgbClr val="6633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rPr>
              <a:t>　　　　　　　　　　　　　　　　　　　　　　　　　　　　　　　関係性がある。</a:t>
            </a:r>
            <a:endParaRPr b="0" lang="en-US" sz="2400" spc="-1" strike="noStrike">
              <a:solidFill>
                <a:srgbClr val="663300"/>
              </a:solidFill>
              <a:latin typeface="Century Schoolbook"/>
            </a:endParaRPr>
          </a:p>
        </p:txBody>
      </p:sp>
      <p:sp>
        <p:nvSpPr>
          <p:cNvPr id="625" name="テキスト ボックス 10"/>
          <p:cNvSpPr/>
          <p:nvPr/>
        </p:nvSpPr>
        <p:spPr>
          <a:xfrm>
            <a:off x="500040" y="5286240"/>
            <a:ext cx="8143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Schoolbook"/>
              </a:rPr>
              <a:t>情報探索時間が長い＝選択の自由度によって得られる満足度は大きい。</a:t>
            </a:r>
            <a:endParaRPr b="0" lang="en-US" sz="2000" spc="-1" strike="noStrike">
              <a:solidFill>
                <a:srgbClr val="663300"/>
              </a:solidFill>
              <a:latin typeface="Century Schoolboo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6" name="Picture 5" descr="C:\Documents and Settings\bm0701469\Local Settings\Temporary Internet Files\Content.IE5\WJW90ZWR\MPj04395640000[1].jpg"/>
          <p:cNvPicPr/>
          <p:nvPr/>
        </p:nvPicPr>
        <p:blipFill>
          <a:blip r:embed="rId1"/>
          <a:stretch/>
        </p:blipFill>
        <p:spPr>
          <a:xfrm>
            <a:off x="4500720" y="4214880"/>
            <a:ext cx="3625560" cy="2428920"/>
          </a:xfrm>
          <a:prstGeom prst="rect">
            <a:avLst/>
          </a:prstGeom>
          <a:ln w="0">
            <a:noFill/>
          </a:ln>
        </p:spPr>
      </p:pic>
      <p:sp>
        <p:nvSpPr>
          <p:cNvPr id="627" name="スライド番号プレースホル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4F57B-F0EB-44B3-A2A5-AB573201BD54}" type="slidenum">
              <a:rPr b="1" lang="ja-JP" sz="1400" spc="-1" strike="noStrike">
                <a:solidFill>
                  <a:srgbClr val="ffffff"/>
                </a:solidFill>
                <a:latin typeface="Century Schoolbook"/>
              </a:rPr>
              <a:t>&lt;number&gt;</a:t>
            </a:fld>
            <a:endParaRPr b="0" lang="en-US" sz="1400" spc="-1" strike="noStrike">
              <a:solidFill>
                <a:srgbClr val="663300"/>
              </a:solidFill>
              <a:latin typeface="Century Schoolbook"/>
            </a:endParaRPr>
          </a:p>
        </p:txBody>
      </p:sp>
      <p:sp>
        <p:nvSpPr>
          <p:cNvPr id="628" name="フリーフォーム 7"/>
          <p:cNvSpPr/>
          <p:nvPr/>
        </p:nvSpPr>
        <p:spPr>
          <a:xfrm>
            <a:off x="344520" y="638280"/>
            <a:ext cx="6738840" cy="3914640"/>
          </a:xfrm>
          <a:custGeom>
            <a:avLst/>
            <a:gdLst/>
            <a:ahLst/>
            <a:rect l="l" t="t" r="r" b="b"/>
            <a:pathLst>
              <a:path w="6740003" h="3914508">
                <a:moveTo>
                  <a:pt x="3574928" y="3662581"/>
                </a:moveTo>
                <a:cubicBezTo>
                  <a:pt x="2933325" y="3693135"/>
                  <a:pt x="2862927" y="3700384"/>
                  <a:pt x="1820773" y="3653251"/>
                </a:cubicBezTo>
                <a:cubicBezTo>
                  <a:pt x="1666762" y="3646286"/>
                  <a:pt x="1542379" y="3589915"/>
                  <a:pt x="1400895" y="3550614"/>
                </a:cubicBezTo>
                <a:cubicBezTo>
                  <a:pt x="1385615" y="3546369"/>
                  <a:pt x="1369793" y="3544393"/>
                  <a:pt x="1354242" y="3541283"/>
                </a:cubicBezTo>
                <a:cubicBezTo>
                  <a:pt x="1316920" y="3525732"/>
                  <a:pt x="1279958" y="3509285"/>
                  <a:pt x="1242275" y="3494630"/>
                </a:cubicBezTo>
                <a:cubicBezTo>
                  <a:pt x="1110415" y="3443351"/>
                  <a:pt x="1281045" y="3523720"/>
                  <a:pt x="1083655" y="3429316"/>
                </a:cubicBezTo>
                <a:cubicBezTo>
                  <a:pt x="1046011" y="3411312"/>
                  <a:pt x="1003743" y="3400046"/>
                  <a:pt x="971687" y="3373332"/>
                </a:cubicBezTo>
                <a:cubicBezTo>
                  <a:pt x="893163" y="3307895"/>
                  <a:pt x="936303" y="3339553"/>
                  <a:pt x="841059" y="3280026"/>
                </a:cubicBezTo>
                <a:cubicBezTo>
                  <a:pt x="831728" y="3267585"/>
                  <a:pt x="821309" y="3255891"/>
                  <a:pt x="813067" y="3242704"/>
                </a:cubicBezTo>
                <a:cubicBezTo>
                  <a:pt x="795277" y="3214240"/>
                  <a:pt x="797376" y="3201725"/>
                  <a:pt x="775744" y="3177389"/>
                </a:cubicBezTo>
                <a:cubicBezTo>
                  <a:pt x="758211" y="3157664"/>
                  <a:pt x="737719" y="3140745"/>
                  <a:pt x="719761" y="3121406"/>
                </a:cubicBezTo>
                <a:cubicBezTo>
                  <a:pt x="697264" y="3097178"/>
                  <a:pt x="677825" y="3070139"/>
                  <a:pt x="654447" y="3046761"/>
                </a:cubicBezTo>
                <a:cubicBezTo>
                  <a:pt x="643451" y="3035765"/>
                  <a:pt x="627169" y="3030641"/>
                  <a:pt x="617124" y="3018769"/>
                </a:cubicBezTo>
                <a:cubicBezTo>
                  <a:pt x="552324" y="2942187"/>
                  <a:pt x="566872" y="2931194"/>
                  <a:pt x="505157" y="2869479"/>
                </a:cubicBezTo>
                <a:cubicBezTo>
                  <a:pt x="494161" y="2858483"/>
                  <a:pt x="480275" y="2850818"/>
                  <a:pt x="467834" y="2841487"/>
                </a:cubicBezTo>
                <a:cubicBezTo>
                  <a:pt x="439842" y="2794834"/>
                  <a:pt x="408190" y="2750190"/>
                  <a:pt x="383859" y="2701528"/>
                </a:cubicBezTo>
                <a:cubicBezTo>
                  <a:pt x="377639" y="2689087"/>
                  <a:pt x="369597" y="2677401"/>
                  <a:pt x="365198" y="2664206"/>
                </a:cubicBezTo>
                <a:cubicBezTo>
                  <a:pt x="321007" y="2531636"/>
                  <a:pt x="381193" y="2645013"/>
                  <a:pt x="299883" y="2514916"/>
                </a:cubicBezTo>
                <a:cubicBezTo>
                  <a:pt x="296773" y="2493145"/>
                  <a:pt x="294487" y="2471240"/>
                  <a:pt x="290553" y="2449602"/>
                </a:cubicBezTo>
                <a:cubicBezTo>
                  <a:pt x="288259" y="2436985"/>
                  <a:pt x="283330" y="2424928"/>
                  <a:pt x="281222" y="2412279"/>
                </a:cubicBezTo>
                <a:cubicBezTo>
                  <a:pt x="277100" y="2387545"/>
                  <a:pt x="275001" y="2362516"/>
                  <a:pt x="271891" y="2337634"/>
                </a:cubicBezTo>
                <a:cubicBezTo>
                  <a:pt x="284332" y="2188344"/>
                  <a:pt x="291264" y="2038493"/>
                  <a:pt x="309214" y="1889765"/>
                </a:cubicBezTo>
                <a:cubicBezTo>
                  <a:pt x="318271" y="1814718"/>
                  <a:pt x="337395" y="1808915"/>
                  <a:pt x="355867" y="1749806"/>
                </a:cubicBezTo>
                <a:cubicBezTo>
                  <a:pt x="366444" y="1715958"/>
                  <a:pt x="373669" y="1681135"/>
                  <a:pt x="383859" y="1647169"/>
                </a:cubicBezTo>
                <a:cubicBezTo>
                  <a:pt x="392338" y="1618907"/>
                  <a:pt x="403260" y="1591421"/>
                  <a:pt x="411851" y="1563193"/>
                </a:cubicBezTo>
                <a:cubicBezTo>
                  <a:pt x="425036" y="1519870"/>
                  <a:pt x="428921" y="1473069"/>
                  <a:pt x="449173" y="1432565"/>
                </a:cubicBezTo>
                <a:cubicBezTo>
                  <a:pt x="461614" y="1407683"/>
                  <a:pt x="472478" y="1381949"/>
                  <a:pt x="486495" y="1357920"/>
                </a:cubicBezTo>
                <a:cubicBezTo>
                  <a:pt x="494331" y="1344487"/>
                  <a:pt x="505635" y="1333384"/>
                  <a:pt x="514487" y="1320598"/>
                </a:cubicBezTo>
                <a:cubicBezTo>
                  <a:pt x="533637" y="1292938"/>
                  <a:pt x="551070" y="1264107"/>
                  <a:pt x="570471" y="1236622"/>
                </a:cubicBezTo>
                <a:cubicBezTo>
                  <a:pt x="588407" y="1211213"/>
                  <a:pt x="608751" y="1187549"/>
                  <a:pt x="626455" y="1161977"/>
                </a:cubicBezTo>
                <a:cubicBezTo>
                  <a:pt x="683718" y="1079264"/>
                  <a:pt x="619689" y="1147233"/>
                  <a:pt x="710430" y="1050010"/>
                </a:cubicBezTo>
                <a:cubicBezTo>
                  <a:pt x="755104" y="1002145"/>
                  <a:pt x="818861" y="942053"/>
                  <a:pt x="869051" y="900720"/>
                </a:cubicBezTo>
                <a:cubicBezTo>
                  <a:pt x="893059" y="880948"/>
                  <a:pt x="919802" y="864647"/>
                  <a:pt x="943695" y="844736"/>
                </a:cubicBezTo>
                <a:cubicBezTo>
                  <a:pt x="957211" y="833473"/>
                  <a:pt x="967279" y="818405"/>
                  <a:pt x="981018" y="807414"/>
                </a:cubicBezTo>
                <a:cubicBezTo>
                  <a:pt x="998532" y="793403"/>
                  <a:pt x="1018628" y="782953"/>
                  <a:pt x="1037002" y="770091"/>
                </a:cubicBezTo>
                <a:cubicBezTo>
                  <a:pt x="1049742" y="761173"/>
                  <a:pt x="1060730" y="749652"/>
                  <a:pt x="1074324" y="742100"/>
                </a:cubicBezTo>
                <a:cubicBezTo>
                  <a:pt x="1088965" y="733966"/>
                  <a:pt x="1106336" y="731572"/>
                  <a:pt x="1120977" y="723438"/>
                </a:cubicBezTo>
                <a:cubicBezTo>
                  <a:pt x="1134571" y="715886"/>
                  <a:pt x="1145646" y="704486"/>
                  <a:pt x="1158300" y="695447"/>
                </a:cubicBezTo>
                <a:cubicBezTo>
                  <a:pt x="1202932" y="663567"/>
                  <a:pt x="1220462" y="660229"/>
                  <a:pt x="1279598" y="620802"/>
                </a:cubicBezTo>
                <a:cubicBezTo>
                  <a:pt x="1288928" y="614581"/>
                  <a:pt x="1297407" y="606839"/>
                  <a:pt x="1307589" y="602140"/>
                </a:cubicBezTo>
                <a:cubicBezTo>
                  <a:pt x="1338004" y="588102"/>
                  <a:pt x="1370206" y="578244"/>
                  <a:pt x="1400895" y="564818"/>
                </a:cubicBezTo>
                <a:cubicBezTo>
                  <a:pt x="1504538" y="519474"/>
                  <a:pt x="1418766" y="549529"/>
                  <a:pt x="1484871" y="527496"/>
                </a:cubicBezTo>
                <a:cubicBezTo>
                  <a:pt x="1629118" y="431330"/>
                  <a:pt x="1436619" y="549933"/>
                  <a:pt x="1624830" y="471512"/>
                </a:cubicBezTo>
                <a:cubicBezTo>
                  <a:pt x="1637011" y="466437"/>
                  <a:pt x="1641973" y="451031"/>
                  <a:pt x="1652822" y="443520"/>
                </a:cubicBezTo>
                <a:cubicBezTo>
                  <a:pt x="1682644" y="422874"/>
                  <a:pt x="1711870" y="399452"/>
                  <a:pt x="1746128" y="387536"/>
                </a:cubicBezTo>
                <a:cubicBezTo>
                  <a:pt x="1784766" y="374097"/>
                  <a:pt x="1827123" y="375884"/>
                  <a:pt x="1867426" y="368875"/>
                </a:cubicBezTo>
                <a:cubicBezTo>
                  <a:pt x="1898675" y="363440"/>
                  <a:pt x="1930171" y="358703"/>
                  <a:pt x="1960732" y="350214"/>
                </a:cubicBezTo>
                <a:cubicBezTo>
                  <a:pt x="1986336" y="343102"/>
                  <a:pt x="2009678" y="328985"/>
                  <a:pt x="2035377" y="322222"/>
                </a:cubicBezTo>
                <a:cubicBezTo>
                  <a:pt x="2069005" y="313372"/>
                  <a:pt x="2104069" y="311104"/>
                  <a:pt x="2138014" y="303561"/>
                </a:cubicBezTo>
                <a:cubicBezTo>
                  <a:pt x="2160117" y="298649"/>
                  <a:pt x="2181051" y="288950"/>
                  <a:pt x="2203328" y="284900"/>
                </a:cubicBezTo>
                <a:cubicBezTo>
                  <a:pt x="2249635" y="276480"/>
                  <a:pt x="2296768" y="273395"/>
                  <a:pt x="2343287" y="266238"/>
                </a:cubicBezTo>
                <a:cubicBezTo>
                  <a:pt x="2377656" y="260950"/>
                  <a:pt x="2411284" y="250616"/>
                  <a:pt x="2445924" y="247577"/>
                </a:cubicBezTo>
                <a:cubicBezTo>
                  <a:pt x="2588749" y="235049"/>
                  <a:pt x="2732145" y="230099"/>
                  <a:pt x="2875132" y="219585"/>
                </a:cubicBezTo>
                <a:cubicBezTo>
                  <a:pt x="3388745" y="181819"/>
                  <a:pt x="2805746" y="216183"/>
                  <a:pt x="3248357" y="191593"/>
                </a:cubicBezTo>
                <a:cubicBezTo>
                  <a:pt x="3874793" y="108069"/>
                  <a:pt x="4549050" y="0"/>
                  <a:pt x="5151802" y="200924"/>
                </a:cubicBezTo>
                <a:cubicBezTo>
                  <a:pt x="5214006" y="197814"/>
                  <a:pt x="5276463" y="185184"/>
                  <a:pt x="5338414" y="191593"/>
                </a:cubicBezTo>
                <a:cubicBezTo>
                  <a:pt x="5368883" y="194745"/>
                  <a:pt x="5393179" y="219692"/>
                  <a:pt x="5422389" y="228916"/>
                </a:cubicBezTo>
                <a:cubicBezTo>
                  <a:pt x="5509118" y="256304"/>
                  <a:pt x="5545343" y="234361"/>
                  <a:pt x="5627663" y="294230"/>
                </a:cubicBezTo>
                <a:cubicBezTo>
                  <a:pt x="5661875" y="319112"/>
                  <a:pt x="5696457" y="343493"/>
                  <a:pt x="5730300" y="368875"/>
                </a:cubicBezTo>
                <a:cubicBezTo>
                  <a:pt x="5778104" y="404728"/>
                  <a:pt x="5869055" y="483400"/>
                  <a:pt x="5888920" y="518165"/>
                </a:cubicBezTo>
                <a:cubicBezTo>
                  <a:pt x="5888971" y="518255"/>
                  <a:pt x="5931489" y="596140"/>
                  <a:pt x="5944904" y="611471"/>
                </a:cubicBezTo>
                <a:cubicBezTo>
                  <a:pt x="5959386" y="628022"/>
                  <a:pt x="5978362" y="640530"/>
                  <a:pt x="5991557" y="658124"/>
                </a:cubicBezTo>
                <a:cubicBezTo>
                  <a:pt x="6006602" y="678184"/>
                  <a:pt x="6017147" y="701277"/>
                  <a:pt x="6028879" y="723438"/>
                </a:cubicBezTo>
                <a:cubicBezTo>
                  <a:pt x="6045149" y="754170"/>
                  <a:pt x="6054183" y="789297"/>
                  <a:pt x="6075532" y="816745"/>
                </a:cubicBezTo>
                <a:cubicBezTo>
                  <a:pt x="6176629" y="946725"/>
                  <a:pt x="6115633" y="852310"/>
                  <a:pt x="6159508" y="947373"/>
                </a:cubicBezTo>
                <a:cubicBezTo>
                  <a:pt x="6171165" y="972631"/>
                  <a:pt x="6184985" y="996847"/>
                  <a:pt x="6196830" y="1022018"/>
                </a:cubicBezTo>
                <a:cubicBezTo>
                  <a:pt x="6209873" y="1049734"/>
                  <a:pt x="6220454" y="1078595"/>
                  <a:pt x="6234153" y="1105993"/>
                </a:cubicBezTo>
                <a:cubicBezTo>
                  <a:pt x="6239168" y="1116023"/>
                  <a:pt x="6248501" y="1123634"/>
                  <a:pt x="6252814" y="1133985"/>
                </a:cubicBezTo>
                <a:cubicBezTo>
                  <a:pt x="6264162" y="1161221"/>
                  <a:pt x="6268979" y="1190929"/>
                  <a:pt x="6280806" y="1217961"/>
                </a:cubicBezTo>
                <a:cubicBezTo>
                  <a:pt x="6290857" y="1240934"/>
                  <a:pt x="6305227" y="1261773"/>
                  <a:pt x="6318128" y="1283275"/>
                </a:cubicBezTo>
                <a:cubicBezTo>
                  <a:pt x="6323898" y="1292891"/>
                  <a:pt x="6332294" y="1300993"/>
                  <a:pt x="6336789" y="1311267"/>
                </a:cubicBezTo>
                <a:cubicBezTo>
                  <a:pt x="6354152" y="1350955"/>
                  <a:pt x="6374365" y="1390206"/>
                  <a:pt x="6383442" y="1432565"/>
                </a:cubicBezTo>
                <a:lnTo>
                  <a:pt x="6411434" y="1563193"/>
                </a:lnTo>
                <a:cubicBezTo>
                  <a:pt x="6414544" y="1625397"/>
                  <a:pt x="6422010" y="1687536"/>
                  <a:pt x="6420765" y="1749806"/>
                </a:cubicBezTo>
                <a:cubicBezTo>
                  <a:pt x="6418895" y="1843300"/>
                  <a:pt x="6410090" y="1936553"/>
                  <a:pt x="6402104" y="2029724"/>
                </a:cubicBezTo>
                <a:cubicBezTo>
                  <a:pt x="6400750" y="2045525"/>
                  <a:pt x="6395016" y="2060677"/>
                  <a:pt x="6392773" y="2076377"/>
                </a:cubicBezTo>
                <a:cubicBezTo>
                  <a:pt x="6388790" y="2104258"/>
                  <a:pt x="6393650" y="2134104"/>
                  <a:pt x="6383442" y="2160353"/>
                </a:cubicBezTo>
                <a:cubicBezTo>
                  <a:pt x="6371249" y="2191707"/>
                  <a:pt x="6343896" y="2214975"/>
                  <a:pt x="6327459" y="2244328"/>
                </a:cubicBezTo>
                <a:cubicBezTo>
                  <a:pt x="6300275" y="2292872"/>
                  <a:pt x="6281439" y="2345910"/>
                  <a:pt x="6252814" y="2393618"/>
                </a:cubicBezTo>
                <a:cubicBezTo>
                  <a:pt x="6234153" y="2424720"/>
                  <a:pt x="6213899" y="2454920"/>
                  <a:pt x="6196830" y="2486924"/>
                </a:cubicBezTo>
                <a:cubicBezTo>
                  <a:pt x="6188948" y="2501702"/>
                  <a:pt x="6187460" y="2519641"/>
                  <a:pt x="6178169" y="2533577"/>
                </a:cubicBezTo>
                <a:cubicBezTo>
                  <a:pt x="6156075" y="2566718"/>
                  <a:pt x="6124793" y="2593207"/>
                  <a:pt x="6103524" y="2626883"/>
                </a:cubicBezTo>
                <a:cubicBezTo>
                  <a:pt x="6087167" y="2652782"/>
                  <a:pt x="6083427" y="2685529"/>
                  <a:pt x="6066202" y="2710859"/>
                </a:cubicBezTo>
                <a:cubicBezTo>
                  <a:pt x="6030148" y="2763880"/>
                  <a:pt x="5985740" y="2810716"/>
                  <a:pt x="5944904" y="2860149"/>
                </a:cubicBezTo>
                <a:cubicBezTo>
                  <a:pt x="5926642" y="2882256"/>
                  <a:pt x="5901744" y="2899816"/>
                  <a:pt x="5888920" y="2925463"/>
                </a:cubicBezTo>
                <a:cubicBezTo>
                  <a:pt x="5849700" y="3003903"/>
                  <a:pt x="5895124" y="2922890"/>
                  <a:pt x="5804944" y="3028100"/>
                </a:cubicBezTo>
                <a:cubicBezTo>
                  <a:pt x="5787532" y="3048414"/>
                  <a:pt x="5776496" y="3073808"/>
                  <a:pt x="5758291" y="3093414"/>
                </a:cubicBezTo>
                <a:cubicBezTo>
                  <a:pt x="5735794" y="3117641"/>
                  <a:pt x="5705988" y="3134356"/>
                  <a:pt x="5683647" y="3158728"/>
                </a:cubicBezTo>
                <a:cubicBezTo>
                  <a:pt x="5613001" y="3235796"/>
                  <a:pt x="5713539" y="3184366"/>
                  <a:pt x="5590340" y="3261365"/>
                </a:cubicBezTo>
                <a:cubicBezTo>
                  <a:pt x="5564364" y="3277600"/>
                  <a:pt x="5534357" y="3286246"/>
                  <a:pt x="5506365" y="3298687"/>
                </a:cubicBezTo>
                <a:cubicBezTo>
                  <a:pt x="5449100" y="3355952"/>
                  <a:pt x="5511763" y="3298199"/>
                  <a:pt x="5413059" y="3364002"/>
                </a:cubicBezTo>
                <a:cubicBezTo>
                  <a:pt x="5317807" y="3427504"/>
                  <a:pt x="5405862" y="3375357"/>
                  <a:pt x="5338414" y="3429316"/>
                </a:cubicBezTo>
                <a:cubicBezTo>
                  <a:pt x="5303315" y="3457395"/>
                  <a:pt x="5173720" y="3543870"/>
                  <a:pt x="5151802" y="3550614"/>
                </a:cubicBezTo>
                <a:lnTo>
                  <a:pt x="5030504" y="3587936"/>
                </a:lnTo>
                <a:cubicBezTo>
                  <a:pt x="4880748" y="3687773"/>
                  <a:pt x="5013045" y="3613174"/>
                  <a:pt x="4871883" y="3662581"/>
                </a:cubicBezTo>
                <a:cubicBezTo>
                  <a:pt x="4833720" y="3675938"/>
                  <a:pt x="4798561" y="3697343"/>
                  <a:pt x="4759916" y="3709234"/>
                </a:cubicBezTo>
                <a:cubicBezTo>
                  <a:pt x="4717354" y="3722330"/>
                  <a:pt x="4672608" y="3726912"/>
                  <a:pt x="4629287" y="3737226"/>
                </a:cubicBezTo>
                <a:cubicBezTo>
                  <a:pt x="4607260" y="3742470"/>
                  <a:pt x="4586176" y="3751446"/>
                  <a:pt x="4563973" y="3755887"/>
                </a:cubicBezTo>
                <a:cubicBezTo>
                  <a:pt x="4512321" y="3766218"/>
                  <a:pt x="4349575" y="3786962"/>
                  <a:pt x="4302716" y="3793210"/>
                </a:cubicBezTo>
                <a:cubicBezTo>
                  <a:pt x="4268504" y="3805651"/>
                  <a:pt x="4233741" y="3816671"/>
                  <a:pt x="4200079" y="3830532"/>
                </a:cubicBezTo>
                <a:cubicBezTo>
                  <a:pt x="4180786" y="3838476"/>
                  <a:pt x="4163991" y="3852241"/>
                  <a:pt x="4144095" y="3858524"/>
                </a:cubicBezTo>
                <a:cubicBezTo>
                  <a:pt x="4104526" y="3871020"/>
                  <a:pt x="4063054" y="3876452"/>
                  <a:pt x="4022798" y="3886516"/>
                </a:cubicBezTo>
                <a:cubicBezTo>
                  <a:pt x="4000831" y="3892008"/>
                  <a:pt x="3980120" y="3904651"/>
                  <a:pt x="3957483" y="3905177"/>
                </a:cubicBezTo>
                <a:cubicBezTo>
                  <a:pt x="3578128" y="3913999"/>
                  <a:pt x="3198594" y="3911398"/>
                  <a:pt x="2819149" y="3914508"/>
                </a:cubicBezTo>
                <a:cubicBezTo>
                  <a:pt x="2504879" y="3891229"/>
                  <a:pt x="2651010" y="3904226"/>
                  <a:pt x="2380610" y="3877185"/>
                </a:cubicBezTo>
                <a:cubicBezTo>
                  <a:pt x="2281083" y="3849193"/>
                  <a:pt x="2184274" y="3808547"/>
                  <a:pt x="2082030" y="3793210"/>
                </a:cubicBezTo>
                <a:cubicBezTo>
                  <a:pt x="1980739" y="3778016"/>
                  <a:pt x="1888227" y="3771587"/>
                  <a:pt x="1792781" y="3737226"/>
                </a:cubicBezTo>
                <a:cubicBezTo>
                  <a:pt x="1748208" y="3721180"/>
                  <a:pt x="1704525" y="3702428"/>
                  <a:pt x="1662153" y="3681242"/>
                </a:cubicBezTo>
                <a:cubicBezTo>
                  <a:pt x="1642093" y="3671212"/>
                  <a:pt x="1625478" y="3655330"/>
                  <a:pt x="1606169" y="3643920"/>
                </a:cubicBezTo>
                <a:cubicBezTo>
                  <a:pt x="1557014" y="3614874"/>
                  <a:pt x="1508274" y="3584814"/>
                  <a:pt x="1456879" y="3559945"/>
                </a:cubicBezTo>
                <a:cubicBezTo>
                  <a:pt x="1411649" y="3538059"/>
                  <a:pt x="1362771" y="3524515"/>
                  <a:pt x="1316920" y="3503961"/>
                </a:cubicBezTo>
                <a:cubicBezTo>
                  <a:pt x="1272497" y="3484047"/>
                  <a:pt x="1229834" y="3460418"/>
                  <a:pt x="1186291" y="3438647"/>
                </a:cubicBezTo>
                <a:cubicBezTo>
                  <a:pt x="1093400" y="3345754"/>
                  <a:pt x="1221560" y="3467370"/>
                  <a:pt x="1018340" y="3326679"/>
                </a:cubicBezTo>
                <a:cubicBezTo>
                  <a:pt x="978396" y="3299025"/>
                  <a:pt x="946469" y="3260807"/>
                  <a:pt x="906373" y="3233373"/>
                </a:cubicBezTo>
                <a:cubicBezTo>
                  <a:pt x="886824" y="3219998"/>
                  <a:pt x="859665" y="3220040"/>
                  <a:pt x="841059" y="3205381"/>
                </a:cubicBezTo>
                <a:cubicBezTo>
                  <a:pt x="756254" y="3138565"/>
                  <a:pt x="679715" y="3061872"/>
                  <a:pt x="598463" y="2990777"/>
                </a:cubicBezTo>
                <a:cubicBezTo>
                  <a:pt x="584390" y="2978463"/>
                  <a:pt x="485446" y="2897729"/>
                  <a:pt x="477165" y="2888140"/>
                </a:cubicBezTo>
                <a:lnTo>
                  <a:pt x="299883" y="2682867"/>
                </a:lnTo>
                <a:cubicBezTo>
                  <a:pt x="213714" y="2481809"/>
                  <a:pt x="348836" y="2786140"/>
                  <a:pt x="215908" y="2533577"/>
                </a:cubicBezTo>
                <a:cubicBezTo>
                  <a:pt x="154949" y="2417754"/>
                  <a:pt x="218395" y="2456195"/>
                  <a:pt x="131932" y="2421610"/>
                </a:cubicBezTo>
                <a:cubicBezTo>
                  <a:pt x="119491" y="2387398"/>
                  <a:pt x="103799" y="2354198"/>
                  <a:pt x="94610" y="2318973"/>
                </a:cubicBezTo>
                <a:cubicBezTo>
                  <a:pt x="89333" y="2298746"/>
                  <a:pt x="67779" y="2140978"/>
                  <a:pt x="57287" y="2113700"/>
                </a:cubicBezTo>
                <a:cubicBezTo>
                  <a:pt x="52550" y="2101384"/>
                  <a:pt x="38626" y="2095039"/>
                  <a:pt x="29295" y="2085708"/>
                </a:cubicBezTo>
                <a:cubicBezTo>
                  <a:pt x="2341" y="1816148"/>
                  <a:pt x="0" y="1838162"/>
                  <a:pt x="47957" y="1376581"/>
                </a:cubicBezTo>
                <a:cubicBezTo>
                  <a:pt x="51841" y="1339202"/>
                  <a:pt x="77027" y="1307158"/>
                  <a:pt x="94610" y="1273945"/>
                </a:cubicBezTo>
                <a:cubicBezTo>
                  <a:pt x="136704" y="1194433"/>
                  <a:pt x="159880" y="1203749"/>
                  <a:pt x="225238" y="1115324"/>
                </a:cubicBezTo>
                <a:cubicBezTo>
                  <a:pt x="250921" y="1080577"/>
                  <a:pt x="264208" y="1037605"/>
                  <a:pt x="290553" y="1003357"/>
                </a:cubicBezTo>
                <a:cubicBezTo>
                  <a:pt x="326782" y="956259"/>
                  <a:pt x="373367" y="918003"/>
                  <a:pt x="411851" y="872728"/>
                </a:cubicBezTo>
                <a:cubicBezTo>
                  <a:pt x="426376" y="855639"/>
                  <a:pt x="433314" y="832604"/>
                  <a:pt x="449173" y="816745"/>
                </a:cubicBezTo>
                <a:cubicBezTo>
                  <a:pt x="523523" y="742395"/>
                  <a:pt x="563731" y="715663"/>
                  <a:pt x="654447" y="676785"/>
                </a:cubicBezTo>
                <a:cubicBezTo>
                  <a:pt x="666234" y="671734"/>
                  <a:pt x="679328" y="670565"/>
                  <a:pt x="691769" y="667455"/>
                </a:cubicBezTo>
                <a:cubicBezTo>
                  <a:pt x="745547" y="617814"/>
                  <a:pt x="878698" y="488960"/>
                  <a:pt x="943695" y="452851"/>
                </a:cubicBezTo>
                <a:cubicBezTo>
                  <a:pt x="980675" y="432307"/>
                  <a:pt x="1025461" y="430588"/>
                  <a:pt x="1064993" y="415528"/>
                </a:cubicBezTo>
                <a:cubicBezTo>
                  <a:pt x="1090989" y="405625"/>
                  <a:pt x="1114270" y="389622"/>
                  <a:pt x="1139638" y="378206"/>
                </a:cubicBezTo>
                <a:cubicBezTo>
                  <a:pt x="1201209" y="350500"/>
                  <a:pt x="1294121" y="309254"/>
                  <a:pt x="1363573" y="303561"/>
                </a:cubicBezTo>
                <a:cubicBezTo>
                  <a:pt x="1515590" y="291101"/>
                  <a:pt x="1668392" y="291574"/>
                  <a:pt x="1820773" y="284900"/>
                </a:cubicBezTo>
                <a:lnTo>
                  <a:pt x="2641867" y="247577"/>
                </a:lnTo>
                <a:cubicBezTo>
                  <a:pt x="3611950" y="53559"/>
                  <a:pt x="2778475" y="210566"/>
                  <a:pt x="5329083" y="228916"/>
                </a:cubicBezTo>
                <a:cubicBezTo>
                  <a:pt x="5339881" y="228994"/>
                  <a:pt x="5388908" y="240167"/>
                  <a:pt x="5403728" y="247577"/>
                </a:cubicBezTo>
                <a:cubicBezTo>
                  <a:pt x="5419949" y="255687"/>
                  <a:pt x="5434528" y="266762"/>
                  <a:pt x="5450381" y="275569"/>
                </a:cubicBezTo>
                <a:cubicBezTo>
                  <a:pt x="5462540" y="282324"/>
                  <a:pt x="5475263" y="288010"/>
                  <a:pt x="5487704" y="294230"/>
                </a:cubicBezTo>
                <a:cubicBezTo>
                  <a:pt x="5545284" y="351812"/>
                  <a:pt x="5481592" y="295840"/>
                  <a:pt x="5590340" y="350214"/>
                </a:cubicBezTo>
                <a:cubicBezTo>
                  <a:pt x="5616584" y="363336"/>
                  <a:pt x="5641728" y="378977"/>
                  <a:pt x="5664985" y="396867"/>
                </a:cubicBezTo>
                <a:cubicBezTo>
                  <a:pt x="5682417" y="410276"/>
                  <a:pt x="5694278" y="430018"/>
                  <a:pt x="5711638" y="443520"/>
                </a:cubicBezTo>
                <a:cubicBezTo>
                  <a:pt x="5722617" y="452059"/>
                  <a:pt x="5737566" y="454204"/>
                  <a:pt x="5748961" y="462181"/>
                </a:cubicBezTo>
                <a:cubicBezTo>
                  <a:pt x="5799921" y="497853"/>
                  <a:pt x="5858071" y="526663"/>
                  <a:pt x="5898251" y="574149"/>
                </a:cubicBezTo>
                <a:cubicBezTo>
                  <a:pt x="5932463" y="614582"/>
                  <a:pt x="5960198" y="661540"/>
                  <a:pt x="6000887" y="695447"/>
                </a:cubicBezTo>
                <a:cubicBezTo>
                  <a:pt x="6019548" y="710998"/>
                  <a:pt x="6039694" y="724923"/>
                  <a:pt x="6056871" y="742100"/>
                </a:cubicBezTo>
                <a:cubicBezTo>
                  <a:pt x="6076641" y="761870"/>
                  <a:pt x="6128128" y="827216"/>
                  <a:pt x="6140847" y="854067"/>
                </a:cubicBezTo>
                <a:cubicBezTo>
                  <a:pt x="6159392" y="893217"/>
                  <a:pt x="6171799" y="934990"/>
                  <a:pt x="6187500" y="975365"/>
                </a:cubicBezTo>
                <a:cubicBezTo>
                  <a:pt x="6193571" y="990975"/>
                  <a:pt x="6206161" y="1022018"/>
                  <a:pt x="6206161" y="1022018"/>
                </a:cubicBezTo>
                <a:cubicBezTo>
                  <a:pt x="6227311" y="1148929"/>
                  <a:pt x="6200437" y="1012271"/>
                  <a:pt x="6234153" y="1124655"/>
                </a:cubicBezTo>
                <a:cubicBezTo>
                  <a:pt x="6238710" y="1139845"/>
                  <a:pt x="6236391" y="1157123"/>
                  <a:pt x="6243483" y="1171308"/>
                </a:cubicBezTo>
                <a:cubicBezTo>
                  <a:pt x="6255448" y="1195238"/>
                  <a:pt x="6274585" y="1214851"/>
                  <a:pt x="6290136" y="1236622"/>
                </a:cubicBezTo>
                <a:cubicBezTo>
                  <a:pt x="6296357" y="1264614"/>
                  <a:pt x="6300769" y="1293070"/>
                  <a:pt x="6308798" y="1320598"/>
                </a:cubicBezTo>
                <a:cubicBezTo>
                  <a:pt x="6322568" y="1367807"/>
                  <a:pt x="6355451" y="1460557"/>
                  <a:pt x="6355451" y="1460557"/>
                </a:cubicBezTo>
                <a:cubicBezTo>
                  <a:pt x="6352341" y="1731145"/>
                  <a:pt x="6352132" y="2001781"/>
                  <a:pt x="6346120" y="2272320"/>
                </a:cubicBezTo>
                <a:cubicBezTo>
                  <a:pt x="6345901" y="2282153"/>
                  <a:pt x="6338602" y="2290645"/>
                  <a:pt x="6336789" y="2300312"/>
                </a:cubicBezTo>
                <a:cubicBezTo>
                  <a:pt x="6329250" y="2340520"/>
                  <a:pt x="6325137" y="2381307"/>
                  <a:pt x="6318128" y="2421610"/>
                </a:cubicBezTo>
                <a:cubicBezTo>
                  <a:pt x="6312693" y="2452859"/>
                  <a:pt x="6308581" y="2484536"/>
                  <a:pt x="6299467" y="2514916"/>
                </a:cubicBezTo>
                <a:cubicBezTo>
                  <a:pt x="6270078" y="2612878"/>
                  <a:pt x="6276675" y="2582277"/>
                  <a:pt x="6243483" y="2636214"/>
                </a:cubicBezTo>
                <a:cubicBezTo>
                  <a:pt x="6224474" y="2667104"/>
                  <a:pt x="6208582" y="2700005"/>
                  <a:pt x="6187500" y="2729520"/>
                </a:cubicBezTo>
                <a:cubicBezTo>
                  <a:pt x="6143346" y="2791335"/>
                  <a:pt x="6067442" y="2875392"/>
                  <a:pt x="6010218" y="2925463"/>
                </a:cubicBezTo>
                <a:cubicBezTo>
                  <a:pt x="5968543" y="2961928"/>
                  <a:pt x="5921990" y="2992483"/>
                  <a:pt x="5879589" y="3028100"/>
                </a:cubicBezTo>
                <a:cubicBezTo>
                  <a:pt x="5844186" y="3057839"/>
                  <a:pt x="5809647" y="3088712"/>
                  <a:pt x="5776953" y="3121406"/>
                </a:cubicBezTo>
                <a:cubicBezTo>
                  <a:pt x="5765957" y="3132402"/>
                  <a:pt x="5760635" y="3148455"/>
                  <a:pt x="5748961" y="3158728"/>
                </a:cubicBezTo>
                <a:cubicBezTo>
                  <a:pt x="5682591" y="3217133"/>
                  <a:pt x="5615628" y="3275292"/>
                  <a:pt x="5543687" y="3326679"/>
                </a:cubicBezTo>
                <a:cubicBezTo>
                  <a:pt x="5521916" y="3342230"/>
                  <a:pt x="5501980" y="3360741"/>
                  <a:pt x="5478373" y="3373332"/>
                </a:cubicBezTo>
                <a:cubicBezTo>
                  <a:pt x="5236715" y="3502217"/>
                  <a:pt x="5592080" y="3280391"/>
                  <a:pt x="5319753" y="3447977"/>
                </a:cubicBezTo>
                <a:cubicBezTo>
                  <a:pt x="5254668" y="3488029"/>
                  <a:pt x="5308920" y="3463498"/>
                  <a:pt x="5254438" y="3494630"/>
                </a:cubicBezTo>
                <a:cubicBezTo>
                  <a:pt x="5210953" y="3519479"/>
                  <a:pt x="5225717" y="3509500"/>
                  <a:pt x="5179793" y="3522622"/>
                </a:cubicBezTo>
                <a:cubicBezTo>
                  <a:pt x="5157267" y="3529058"/>
                  <a:pt x="5138355" y="3538630"/>
                  <a:pt x="5114479" y="3541283"/>
                </a:cubicBezTo>
                <a:cubicBezTo>
                  <a:pt x="4993020" y="3554778"/>
                  <a:pt x="4749533" y="3557506"/>
                  <a:pt x="4666610" y="3559945"/>
                </a:cubicBezTo>
                <a:cubicBezTo>
                  <a:pt x="4584231" y="3587403"/>
                  <a:pt x="4670729" y="3561267"/>
                  <a:pt x="4479998" y="3578606"/>
                </a:cubicBezTo>
                <a:cubicBezTo>
                  <a:pt x="4464204" y="3580042"/>
                  <a:pt x="4449154" y="3586688"/>
                  <a:pt x="4433344" y="3587936"/>
                </a:cubicBezTo>
                <a:cubicBezTo>
                  <a:pt x="4330838" y="3596029"/>
                  <a:pt x="4125434" y="3606598"/>
                  <a:pt x="4125434" y="3606598"/>
                </a:cubicBezTo>
                <a:cubicBezTo>
                  <a:pt x="4100552" y="3609708"/>
                  <a:pt x="4075377" y="3611010"/>
                  <a:pt x="4050789" y="3615928"/>
                </a:cubicBezTo>
                <a:cubicBezTo>
                  <a:pt x="4013065" y="3623473"/>
                  <a:pt x="3976270" y="3635108"/>
                  <a:pt x="3938822" y="3643920"/>
                </a:cubicBezTo>
                <a:cubicBezTo>
                  <a:pt x="3923385" y="3647552"/>
                  <a:pt x="3907622" y="3649685"/>
                  <a:pt x="3892169" y="3653251"/>
                </a:cubicBezTo>
                <a:cubicBezTo>
                  <a:pt x="3867178" y="3659018"/>
                  <a:pt x="3842561" y="3666348"/>
                  <a:pt x="3817524" y="3671912"/>
                </a:cubicBezTo>
                <a:cubicBezTo>
                  <a:pt x="3786561" y="3678793"/>
                  <a:pt x="3754892" y="3682501"/>
                  <a:pt x="3724218" y="3690573"/>
                </a:cubicBezTo>
                <a:cubicBezTo>
                  <a:pt x="3515155" y="3745589"/>
                  <a:pt x="3728320" y="3700949"/>
                  <a:pt x="3593589" y="3727896"/>
                </a:cubicBezTo>
                <a:cubicBezTo>
                  <a:pt x="3565597" y="3740337"/>
                  <a:pt x="3539166" y="3757158"/>
                  <a:pt x="3509614" y="3765218"/>
                </a:cubicBezTo>
                <a:cubicBezTo>
                  <a:pt x="3347950" y="3809308"/>
                  <a:pt x="3018244" y="3776327"/>
                  <a:pt x="2931116" y="3774549"/>
                </a:cubicBezTo>
                <a:lnTo>
                  <a:pt x="2501908" y="3755887"/>
                </a:lnTo>
                <a:cubicBezTo>
                  <a:pt x="2479950" y="3754644"/>
                  <a:pt x="2457929" y="3751891"/>
                  <a:pt x="2436593" y="3746557"/>
                </a:cubicBezTo>
                <a:cubicBezTo>
                  <a:pt x="2371950" y="3730396"/>
                  <a:pt x="2276357" y="3696267"/>
                  <a:pt x="2212659" y="3671912"/>
                </a:cubicBezTo>
                <a:cubicBezTo>
                  <a:pt x="2140909" y="3644478"/>
                  <a:pt x="2067477" y="3620820"/>
                  <a:pt x="1998055" y="3587936"/>
                </a:cubicBezTo>
                <a:cubicBezTo>
                  <a:pt x="1938961" y="3559944"/>
                  <a:pt x="1882165" y="3526471"/>
                  <a:pt x="1820773" y="3503961"/>
                </a:cubicBezTo>
                <a:cubicBezTo>
                  <a:pt x="1367388" y="3337719"/>
                  <a:pt x="1688590" y="3470526"/>
                  <a:pt x="1419557" y="3336010"/>
                </a:cubicBezTo>
                <a:cubicBezTo>
                  <a:pt x="1398371" y="3325417"/>
                  <a:pt x="1374553" y="3320205"/>
                  <a:pt x="1354242" y="3308018"/>
                </a:cubicBezTo>
                <a:cubicBezTo>
                  <a:pt x="1265467" y="3254753"/>
                  <a:pt x="1170898" y="3208241"/>
                  <a:pt x="1092985" y="3140067"/>
                </a:cubicBezTo>
                <a:cubicBezTo>
                  <a:pt x="1043222" y="3096524"/>
                  <a:pt x="1000396" y="3043458"/>
                  <a:pt x="943695" y="3009438"/>
                </a:cubicBezTo>
                <a:cubicBezTo>
                  <a:pt x="928144" y="3000108"/>
                  <a:pt x="909866" y="2994271"/>
                  <a:pt x="897042" y="2981447"/>
                </a:cubicBezTo>
                <a:cubicBezTo>
                  <a:pt x="859590" y="2943995"/>
                  <a:pt x="830266" y="2899127"/>
                  <a:pt x="794406" y="2860149"/>
                </a:cubicBezTo>
                <a:cubicBezTo>
                  <a:pt x="758670" y="2821305"/>
                  <a:pt x="718299" y="2786910"/>
                  <a:pt x="682438" y="2748181"/>
                </a:cubicBezTo>
                <a:cubicBezTo>
                  <a:pt x="640494" y="2702882"/>
                  <a:pt x="603660" y="2652980"/>
                  <a:pt x="561140" y="2608222"/>
                </a:cubicBezTo>
                <a:cubicBezTo>
                  <a:pt x="455555" y="2497080"/>
                  <a:pt x="453880" y="2609088"/>
                  <a:pt x="337206" y="2356296"/>
                </a:cubicBezTo>
                <a:cubicBezTo>
                  <a:pt x="318545" y="2315863"/>
                  <a:pt x="299308" y="2275691"/>
                  <a:pt x="281222" y="2234998"/>
                </a:cubicBezTo>
                <a:cubicBezTo>
                  <a:pt x="262633" y="2193172"/>
                  <a:pt x="233370" y="2107096"/>
                  <a:pt x="225238" y="2076377"/>
                </a:cubicBezTo>
                <a:cubicBezTo>
                  <a:pt x="150346" y="1793453"/>
                  <a:pt x="210499" y="1950891"/>
                  <a:pt x="159924" y="1824451"/>
                </a:cubicBezTo>
                <a:cubicBezTo>
                  <a:pt x="166144" y="1622288"/>
                  <a:pt x="166124" y="1419836"/>
                  <a:pt x="178585" y="1217961"/>
                </a:cubicBezTo>
                <a:cubicBezTo>
                  <a:pt x="181704" y="1167427"/>
                  <a:pt x="190566" y="1116703"/>
                  <a:pt x="206577" y="1068671"/>
                </a:cubicBezTo>
                <a:cubicBezTo>
                  <a:pt x="215856" y="1040835"/>
                  <a:pt x="238672" y="1019502"/>
                  <a:pt x="253230" y="994026"/>
                </a:cubicBezTo>
                <a:cubicBezTo>
                  <a:pt x="300103" y="911999"/>
                  <a:pt x="266928" y="930722"/>
                  <a:pt x="365198" y="844736"/>
                </a:cubicBezTo>
                <a:cubicBezTo>
                  <a:pt x="433560" y="784919"/>
                  <a:pt x="507132" y="731287"/>
                  <a:pt x="579802" y="676785"/>
                </a:cubicBezTo>
                <a:cubicBezTo>
                  <a:pt x="619143" y="647279"/>
                  <a:pt x="655055" y="610077"/>
                  <a:pt x="701100" y="592810"/>
                </a:cubicBezTo>
                <a:cubicBezTo>
                  <a:pt x="725981" y="583479"/>
                  <a:pt x="751976" y="576702"/>
                  <a:pt x="775744" y="564818"/>
                </a:cubicBezTo>
                <a:cubicBezTo>
                  <a:pt x="820600" y="542390"/>
                  <a:pt x="860717" y="510925"/>
                  <a:pt x="906373" y="490173"/>
                </a:cubicBezTo>
                <a:cubicBezTo>
                  <a:pt x="1015629" y="440512"/>
                  <a:pt x="1239583" y="373589"/>
                  <a:pt x="1344912" y="359545"/>
                </a:cubicBezTo>
                <a:cubicBezTo>
                  <a:pt x="1391565" y="353324"/>
                  <a:pt x="1438652" y="349771"/>
                  <a:pt x="1484871" y="340883"/>
                </a:cubicBezTo>
                <a:cubicBezTo>
                  <a:pt x="1600489" y="318649"/>
                  <a:pt x="1714653" y="289328"/>
                  <a:pt x="1830104" y="266238"/>
                </a:cubicBezTo>
                <a:cubicBezTo>
                  <a:pt x="1938912" y="244477"/>
                  <a:pt x="1948912" y="244015"/>
                  <a:pt x="2072700" y="210255"/>
                </a:cubicBezTo>
                <a:cubicBezTo>
                  <a:pt x="2211725" y="172339"/>
                  <a:pt x="2233595" y="155279"/>
                  <a:pt x="2371279" y="135610"/>
                </a:cubicBezTo>
                <a:cubicBezTo>
                  <a:pt x="2433165" y="126769"/>
                  <a:pt x="2495860" y="124703"/>
                  <a:pt x="2557891" y="116949"/>
                </a:cubicBezTo>
                <a:cubicBezTo>
                  <a:pt x="2770180" y="90413"/>
                  <a:pt x="2568809" y="99799"/>
                  <a:pt x="2856471" y="70296"/>
                </a:cubicBezTo>
                <a:cubicBezTo>
                  <a:pt x="2915338" y="64258"/>
                  <a:pt x="2974636" y="63612"/>
                  <a:pt x="3033753" y="60965"/>
                </a:cubicBezTo>
                <a:lnTo>
                  <a:pt x="3481622" y="42304"/>
                </a:lnTo>
                <a:lnTo>
                  <a:pt x="4591965" y="51634"/>
                </a:lnTo>
                <a:cubicBezTo>
                  <a:pt x="4697874" y="53711"/>
                  <a:pt x="4803392" y="65336"/>
                  <a:pt x="4909206" y="70296"/>
                </a:cubicBezTo>
                <a:lnTo>
                  <a:pt x="5506365" y="98287"/>
                </a:lnTo>
                <a:cubicBezTo>
                  <a:pt x="5553018" y="113838"/>
                  <a:pt x="5601386" y="124967"/>
                  <a:pt x="5646324" y="144940"/>
                </a:cubicBezTo>
                <a:cubicBezTo>
                  <a:pt x="5674316" y="157381"/>
                  <a:pt x="5701341" y="172277"/>
                  <a:pt x="5730300" y="182263"/>
                </a:cubicBezTo>
                <a:cubicBezTo>
                  <a:pt x="5898500" y="240263"/>
                  <a:pt x="5878126" y="211764"/>
                  <a:pt x="5991557" y="275569"/>
                </a:cubicBezTo>
                <a:cubicBezTo>
                  <a:pt x="6068399" y="318792"/>
                  <a:pt x="6157445" y="385474"/>
                  <a:pt x="6215491" y="443520"/>
                </a:cubicBezTo>
                <a:cubicBezTo>
                  <a:pt x="6249703" y="477732"/>
                  <a:pt x="6285582" y="510356"/>
                  <a:pt x="6318128" y="546157"/>
                </a:cubicBezTo>
                <a:cubicBezTo>
                  <a:pt x="6347863" y="578865"/>
                  <a:pt x="6374965" y="613900"/>
                  <a:pt x="6402104" y="648793"/>
                </a:cubicBezTo>
                <a:cubicBezTo>
                  <a:pt x="6440294" y="697894"/>
                  <a:pt x="6490969" y="740328"/>
                  <a:pt x="6514071" y="798083"/>
                </a:cubicBezTo>
                <a:cubicBezTo>
                  <a:pt x="6526512" y="829185"/>
                  <a:pt x="6540327" y="859772"/>
                  <a:pt x="6551393" y="891389"/>
                </a:cubicBezTo>
                <a:cubicBezTo>
                  <a:pt x="6562120" y="922038"/>
                  <a:pt x="6566827" y="954751"/>
                  <a:pt x="6579385" y="984696"/>
                </a:cubicBezTo>
                <a:cubicBezTo>
                  <a:pt x="6607361" y="1051409"/>
                  <a:pt x="6655145" y="1110457"/>
                  <a:pt x="6672691" y="1180638"/>
                </a:cubicBezTo>
                <a:cubicBezTo>
                  <a:pt x="6690851" y="1253278"/>
                  <a:pt x="6677640" y="1205909"/>
                  <a:pt x="6719344" y="1320598"/>
                </a:cubicBezTo>
                <a:cubicBezTo>
                  <a:pt x="6727621" y="1395088"/>
                  <a:pt x="6740003" y="1493291"/>
                  <a:pt x="6738006" y="1563193"/>
                </a:cubicBezTo>
                <a:cubicBezTo>
                  <a:pt x="6733291" y="1728231"/>
                  <a:pt x="6723502" y="1893163"/>
                  <a:pt x="6710014" y="2057716"/>
                </a:cubicBezTo>
                <a:cubicBezTo>
                  <a:pt x="6707919" y="2083278"/>
                  <a:pt x="6699170" y="2107934"/>
                  <a:pt x="6691353" y="2132361"/>
                </a:cubicBezTo>
                <a:cubicBezTo>
                  <a:pt x="6653409" y="2250935"/>
                  <a:pt x="6630713" y="2315459"/>
                  <a:pt x="6570055" y="2421610"/>
                </a:cubicBezTo>
                <a:cubicBezTo>
                  <a:pt x="6525599" y="2499407"/>
                  <a:pt x="6435513" y="2630798"/>
                  <a:pt x="6374112" y="2692198"/>
                </a:cubicBezTo>
                <a:cubicBezTo>
                  <a:pt x="6346120" y="2720190"/>
                  <a:pt x="6317211" y="2747293"/>
                  <a:pt x="6290136" y="2776173"/>
                </a:cubicBezTo>
                <a:cubicBezTo>
                  <a:pt x="6270524" y="2797092"/>
                  <a:pt x="6256700" y="2823771"/>
                  <a:pt x="6234153" y="2841487"/>
                </a:cubicBezTo>
                <a:cubicBezTo>
                  <a:pt x="6212279" y="2858674"/>
                  <a:pt x="6183362" y="2864497"/>
                  <a:pt x="6159508" y="2878810"/>
                </a:cubicBezTo>
                <a:cubicBezTo>
                  <a:pt x="6105506" y="2911211"/>
                  <a:pt x="6060632" y="2961532"/>
                  <a:pt x="6000887" y="2981447"/>
                </a:cubicBezTo>
                <a:cubicBezTo>
                  <a:pt x="5926956" y="3006091"/>
                  <a:pt x="5941863" y="2997301"/>
                  <a:pt x="5860928" y="3046761"/>
                </a:cubicBezTo>
                <a:cubicBezTo>
                  <a:pt x="5832222" y="3064304"/>
                  <a:pt x="5803063" y="3081531"/>
                  <a:pt x="5776953" y="3102745"/>
                </a:cubicBezTo>
                <a:cubicBezTo>
                  <a:pt x="5753057" y="3122161"/>
                  <a:pt x="5737049" y="3150673"/>
                  <a:pt x="5711638" y="3168059"/>
                </a:cubicBezTo>
                <a:cubicBezTo>
                  <a:pt x="5566125" y="3267619"/>
                  <a:pt x="5644968" y="3189207"/>
                  <a:pt x="5525026" y="3252034"/>
                </a:cubicBezTo>
                <a:cubicBezTo>
                  <a:pt x="5345329" y="3346161"/>
                  <a:pt x="5458182" y="3293227"/>
                  <a:pt x="5357075" y="3364002"/>
                </a:cubicBezTo>
                <a:cubicBezTo>
                  <a:pt x="5342218" y="3374402"/>
                  <a:pt x="5325801" y="3382381"/>
                  <a:pt x="5310422" y="3391993"/>
                </a:cubicBezTo>
                <a:cubicBezTo>
                  <a:pt x="5300912" y="3397936"/>
                  <a:pt x="5291940" y="3404711"/>
                  <a:pt x="5282430" y="3410655"/>
                </a:cubicBezTo>
                <a:cubicBezTo>
                  <a:pt x="5242521" y="3435599"/>
                  <a:pt x="5223657" y="3446393"/>
                  <a:pt x="5179793" y="3466638"/>
                </a:cubicBezTo>
                <a:cubicBezTo>
                  <a:pt x="5158024" y="3476685"/>
                  <a:pt x="5085773" y="3508477"/>
                  <a:pt x="5058495" y="3513291"/>
                </a:cubicBezTo>
                <a:cubicBezTo>
                  <a:pt x="5024665" y="3519261"/>
                  <a:pt x="4990208" y="3522124"/>
                  <a:pt x="4955859" y="3522622"/>
                </a:cubicBezTo>
                <a:lnTo>
                  <a:pt x="3770871" y="3531953"/>
                </a:lnTo>
                <a:cubicBezTo>
                  <a:pt x="3670930" y="3565264"/>
                  <a:pt x="3781979" y="3531953"/>
                  <a:pt x="3528275" y="3531953"/>
                </a:cubicBezTo>
                <a:cubicBezTo>
                  <a:pt x="3469099" y="3531953"/>
                  <a:pt x="3410087" y="3538173"/>
                  <a:pt x="3350993" y="3541283"/>
                </a:cubicBezTo>
                <a:cubicBezTo>
                  <a:pt x="3317215" y="3518764"/>
                  <a:pt x="3328017" y="3532652"/>
                  <a:pt x="3313671" y="3503961"/>
                </a:cubicBezTo>
              </a:path>
            </a:pathLst>
          </a:custGeom>
          <a:noFill/>
          <a:ln w="12600">
            <a:solidFill>
              <a:srgbClr val="4d7bc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629" name="フリーフォーム 8"/>
          <p:cNvSpPr/>
          <p:nvPr/>
        </p:nvSpPr>
        <p:spPr>
          <a:xfrm>
            <a:off x="2957400" y="4049640"/>
            <a:ext cx="1324080" cy="720720"/>
          </a:xfrm>
          <a:custGeom>
            <a:avLst/>
            <a:gdLst/>
            <a:ahLst/>
            <a:rect l="l" t="t" r="r" b="b"/>
            <a:pathLst>
              <a:path w="1324183" h="721517">
                <a:moveTo>
                  <a:pt x="503853" y="718457"/>
                </a:moveTo>
                <a:cubicBezTo>
                  <a:pt x="426098" y="715347"/>
                  <a:pt x="347412" y="721517"/>
                  <a:pt x="270588" y="709126"/>
                </a:cubicBezTo>
                <a:cubicBezTo>
                  <a:pt x="248446" y="705555"/>
                  <a:pt x="232308" y="685573"/>
                  <a:pt x="214604" y="671804"/>
                </a:cubicBezTo>
                <a:cubicBezTo>
                  <a:pt x="192329" y="654479"/>
                  <a:pt x="164974" y="616764"/>
                  <a:pt x="149290" y="597159"/>
                </a:cubicBezTo>
                <a:cubicBezTo>
                  <a:pt x="141939" y="567756"/>
                  <a:pt x="140666" y="558610"/>
                  <a:pt x="130629" y="531845"/>
                </a:cubicBezTo>
                <a:cubicBezTo>
                  <a:pt x="104276" y="461571"/>
                  <a:pt x="118271" y="510410"/>
                  <a:pt x="102637" y="447869"/>
                </a:cubicBezTo>
                <a:cubicBezTo>
                  <a:pt x="105747" y="388775"/>
                  <a:pt x="104627" y="329306"/>
                  <a:pt x="111967" y="270587"/>
                </a:cubicBezTo>
                <a:cubicBezTo>
                  <a:pt x="114044" y="253967"/>
                  <a:pt x="120778" y="237480"/>
                  <a:pt x="130629" y="223934"/>
                </a:cubicBezTo>
                <a:cubicBezTo>
                  <a:pt x="146151" y="202591"/>
                  <a:pt x="166004" y="184437"/>
                  <a:pt x="186612" y="167951"/>
                </a:cubicBezTo>
                <a:cubicBezTo>
                  <a:pt x="206223" y="152263"/>
                  <a:pt x="260669" y="137045"/>
                  <a:pt x="279918" y="130628"/>
                </a:cubicBezTo>
                <a:cubicBezTo>
                  <a:pt x="357813" y="134169"/>
                  <a:pt x="507038" y="138366"/>
                  <a:pt x="597159" y="149290"/>
                </a:cubicBezTo>
                <a:cubicBezTo>
                  <a:pt x="662657" y="157229"/>
                  <a:pt x="727788" y="167951"/>
                  <a:pt x="793102" y="177281"/>
                </a:cubicBezTo>
                <a:cubicBezTo>
                  <a:pt x="839755" y="199053"/>
                  <a:pt x="887013" y="219572"/>
                  <a:pt x="933061" y="242596"/>
                </a:cubicBezTo>
                <a:cubicBezTo>
                  <a:pt x="949282" y="250706"/>
                  <a:pt x="963493" y="262477"/>
                  <a:pt x="979714" y="270587"/>
                </a:cubicBezTo>
                <a:cubicBezTo>
                  <a:pt x="1000900" y="281180"/>
                  <a:pt x="1024234" y="287236"/>
                  <a:pt x="1045029" y="298579"/>
                </a:cubicBezTo>
                <a:cubicBezTo>
                  <a:pt x="1058681" y="306026"/>
                  <a:pt x="1070544" y="316451"/>
                  <a:pt x="1082351" y="326571"/>
                </a:cubicBezTo>
                <a:cubicBezTo>
                  <a:pt x="1092370" y="335159"/>
                  <a:pt x="1098285" y="349204"/>
                  <a:pt x="1110343" y="354563"/>
                </a:cubicBezTo>
                <a:cubicBezTo>
                  <a:pt x="1127631" y="362247"/>
                  <a:pt x="1147666" y="360784"/>
                  <a:pt x="1166327" y="363894"/>
                </a:cubicBezTo>
                <a:cubicBezTo>
                  <a:pt x="1181878" y="382555"/>
                  <a:pt x="1197805" y="400909"/>
                  <a:pt x="1212980" y="419877"/>
                </a:cubicBezTo>
                <a:cubicBezTo>
                  <a:pt x="1222695" y="432020"/>
                  <a:pt x="1239344" y="441734"/>
                  <a:pt x="1240972" y="457200"/>
                </a:cubicBezTo>
                <a:cubicBezTo>
                  <a:pt x="1254949" y="589988"/>
                  <a:pt x="1245681" y="572430"/>
                  <a:pt x="1194318" y="653143"/>
                </a:cubicBezTo>
                <a:cubicBezTo>
                  <a:pt x="1157003" y="711782"/>
                  <a:pt x="1183615" y="688271"/>
                  <a:pt x="1138335" y="718457"/>
                </a:cubicBezTo>
                <a:lnTo>
                  <a:pt x="326572" y="709126"/>
                </a:lnTo>
                <a:cubicBezTo>
                  <a:pt x="304584" y="708658"/>
                  <a:pt x="282778" y="704327"/>
                  <a:pt x="261257" y="699796"/>
                </a:cubicBezTo>
                <a:cubicBezTo>
                  <a:pt x="172337" y="681076"/>
                  <a:pt x="164245" y="676789"/>
                  <a:pt x="93306" y="653143"/>
                </a:cubicBezTo>
                <a:cubicBezTo>
                  <a:pt x="38363" y="598197"/>
                  <a:pt x="133018" y="687293"/>
                  <a:pt x="18661" y="615820"/>
                </a:cubicBezTo>
                <a:cubicBezTo>
                  <a:pt x="9152" y="609877"/>
                  <a:pt x="6220" y="597159"/>
                  <a:pt x="0" y="587828"/>
                </a:cubicBezTo>
                <a:cubicBezTo>
                  <a:pt x="6220" y="541175"/>
                  <a:pt x="10923" y="494294"/>
                  <a:pt x="18661" y="447869"/>
                </a:cubicBezTo>
                <a:cubicBezTo>
                  <a:pt x="20278" y="438167"/>
                  <a:pt x="21515" y="427279"/>
                  <a:pt x="27992" y="419877"/>
                </a:cubicBezTo>
                <a:cubicBezTo>
                  <a:pt x="43988" y="401596"/>
                  <a:pt x="67401" y="390982"/>
                  <a:pt x="83976" y="373224"/>
                </a:cubicBezTo>
                <a:cubicBezTo>
                  <a:pt x="189305" y="260371"/>
                  <a:pt x="148687" y="246874"/>
                  <a:pt x="317241" y="149290"/>
                </a:cubicBezTo>
                <a:cubicBezTo>
                  <a:pt x="376335" y="115078"/>
                  <a:pt x="427989" y="62007"/>
                  <a:pt x="494523" y="46653"/>
                </a:cubicBezTo>
                <a:cubicBezTo>
                  <a:pt x="649703" y="10842"/>
                  <a:pt x="574994" y="26084"/>
                  <a:pt x="718457" y="0"/>
                </a:cubicBezTo>
                <a:cubicBezTo>
                  <a:pt x="808653" y="9331"/>
                  <a:pt x="899068" y="16745"/>
                  <a:pt x="989045" y="27992"/>
                </a:cubicBezTo>
                <a:cubicBezTo>
                  <a:pt x="998804" y="29212"/>
                  <a:pt x="1008439" y="32546"/>
                  <a:pt x="1017037" y="37322"/>
                </a:cubicBezTo>
                <a:cubicBezTo>
                  <a:pt x="1036643" y="48214"/>
                  <a:pt x="1054934" y="61382"/>
                  <a:pt x="1073020" y="74645"/>
                </a:cubicBezTo>
                <a:cubicBezTo>
                  <a:pt x="1101617" y="95616"/>
                  <a:pt x="1129004" y="118188"/>
                  <a:pt x="1156996" y="139959"/>
                </a:cubicBezTo>
                <a:cubicBezTo>
                  <a:pt x="1226878" y="314667"/>
                  <a:pt x="1154712" y="157699"/>
                  <a:pt x="1250302" y="307910"/>
                </a:cubicBezTo>
                <a:cubicBezTo>
                  <a:pt x="1255582" y="316208"/>
                  <a:pt x="1255234" y="327105"/>
                  <a:pt x="1259633" y="335902"/>
                </a:cubicBezTo>
                <a:cubicBezTo>
                  <a:pt x="1270847" y="358330"/>
                  <a:pt x="1284514" y="379445"/>
                  <a:pt x="1296955" y="401216"/>
                </a:cubicBezTo>
                <a:cubicBezTo>
                  <a:pt x="1310688" y="469879"/>
                  <a:pt x="1324183" y="506248"/>
                  <a:pt x="1278294" y="587828"/>
                </a:cubicBezTo>
                <a:cubicBezTo>
                  <a:pt x="1269019" y="604317"/>
                  <a:pt x="1240971" y="594049"/>
                  <a:pt x="1222310" y="597159"/>
                </a:cubicBezTo>
                <a:cubicBezTo>
                  <a:pt x="981202" y="717715"/>
                  <a:pt x="1174411" y="631851"/>
                  <a:pt x="541176" y="615820"/>
                </a:cubicBezTo>
                <a:cubicBezTo>
                  <a:pt x="503736" y="614872"/>
                  <a:pt x="466550" y="609362"/>
                  <a:pt x="429208" y="606490"/>
                </a:cubicBezTo>
                <a:lnTo>
                  <a:pt x="298580" y="597159"/>
                </a:lnTo>
                <a:cubicBezTo>
                  <a:pt x="273291" y="592101"/>
                  <a:pt x="242240" y="592048"/>
                  <a:pt x="223935" y="569167"/>
                </a:cubicBezTo>
                <a:cubicBezTo>
                  <a:pt x="213621" y="556274"/>
                  <a:pt x="214604" y="545303"/>
                  <a:pt x="214604" y="531845"/>
                </a:cubicBezTo>
              </a:path>
            </a:pathLst>
          </a:custGeom>
          <a:noFill/>
          <a:ln w="12600">
            <a:solidFill>
              <a:srgbClr val="00b0f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630" name="フリーフォーム 9"/>
          <p:cNvSpPr/>
          <p:nvPr/>
        </p:nvSpPr>
        <p:spPr>
          <a:xfrm>
            <a:off x="3537000" y="4665600"/>
            <a:ext cx="709560" cy="457200"/>
          </a:xfrm>
          <a:custGeom>
            <a:avLst/>
            <a:gdLst/>
            <a:ahLst/>
            <a:rect l="l" t="t" r="r" b="b"/>
            <a:pathLst>
              <a:path w="709848" h="457200">
                <a:moveTo>
                  <a:pt x="158620" y="457200"/>
                </a:moveTo>
                <a:cubicBezTo>
                  <a:pt x="122517" y="421096"/>
                  <a:pt x="87257" y="386930"/>
                  <a:pt x="55984" y="345233"/>
                </a:cubicBezTo>
                <a:cubicBezTo>
                  <a:pt x="50083" y="337365"/>
                  <a:pt x="49763" y="326572"/>
                  <a:pt x="46653" y="317241"/>
                </a:cubicBezTo>
                <a:cubicBezTo>
                  <a:pt x="52873" y="283029"/>
                  <a:pt x="53890" y="247447"/>
                  <a:pt x="65314" y="214604"/>
                </a:cubicBezTo>
                <a:cubicBezTo>
                  <a:pt x="79022" y="175192"/>
                  <a:pt x="87916" y="127674"/>
                  <a:pt x="121298" y="102637"/>
                </a:cubicBezTo>
                <a:cubicBezTo>
                  <a:pt x="133739" y="93306"/>
                  <a:pt x="146813" y="84765"/>
                  <a:pt x="158620" y="74645"/>
                </a:cubicBezTo>
                <a:cubicBezTo>
                  <a:pt x="168639" y="66057"/>
                  <a:pt x="175874" y="54323"/>
                  <a:pt x="186612" y="46653"/>
                </a:cubicBezTo>
                <a:cubicBezTo>
                  <a:pt x="197931" y="38568"/>
                  <a:pt x="211224" y="33641"/>
                  <a:pt x="223935" y="27992"/>
                </a:cubicBezTo>
                <a:cubicBezTo>
                  <a:pt x="257404" y="13117"/>
                  <a:pt x="267803" y="10259"/>
                  <a:pt x="298580" y="0"/>
                </a:cubicBezTo>
                <a:cubicBezTo>
                  <a:pt x="351453" y="3110"/>
                  <a:pt x="404434" y="4743"/>
                  <a:pt x="457200" y="9331"/>
                </a:cubicBezTo>
                <a:cubicBezTo>
                  <a:pt x="476048" y="10970"/>
                  <a:pt x="495470" y="12018"/>
                  <a:pt x="513184" y="18661"/>
                </a:cubicBezTo>
                <a:cubicBezTo>
                  <a:pt x="545743" y="30871"/>
                  <a:pt x="576672" y="47423"/>
                  <a:pt x="606490" y="65314"/>
                </a:cubicBezTo>
                <a:cubicBezTo>
                  <a:pt x="662759" y="99076"/>
                  <a:pt x="638053" y="83246"/>
                  <a:pt x="681135" y="111967"/>
                </a:cubicBezTo>
                <a:cubicBezTo>
                  <a:pt x="684245" y="121298"/>
                  <a:pt x="687763" y="130502"/>
                  <a:pt x="690465" y="139959"/>
                </a:cubicBezTo>
                <a:cubicBezTo>
                  <a:pt x="709848" y="207802"/>
                  <a:pt x="703722" y="206266"/>
                  <a:pt x="681135" y="307910"/>
                </a:cubicBezTo>
                <a:cubicBezTo>
                  <a:pt x="678163" y="321284"/>
                  <a:pt x="645504" y="376432"/>
                  <a:pt x="634482" y="382555"/>
                </a:cubicBezTo>
                <a:cubicBezTo>
                  <a:pt x="617944" y="391743"/>
                  <a:pt x="597159" y="388776"/>
                  <a:pt x="578498" y="391886"/>
                </a:cubicBezTo>
                <a:cubicBezTo>
                  <a:pt x="475861" y="388776"/>
                  <a:pt x="373137" y="387814"/>
                  <a:pt x="270588" y="382555"/>
                </a:cubicBezTo>
                <a:cubicBezTo>
                  <a:pt x="234927" y="380726"/>
                  <a:pt x="210609" y="371300"/>
                  <a:pt x="177282" y="363894"/>
                </a:cubicBezTo>
                <a:cubicBezTo>
                  <a:pt x="161801" y="360454"/>
                  <a:pt x="146014" y="358409"/>
                  <a:pt x="130629" y="354563"/>
                </a:cubicBezTo>
                <a:cubicBezTo>
                  <a:pt x="103168" y="347698"/>
                  <a:pt x="92022" y="339926"/>
                  <a:pt x="65314" y="326572"/>
                </a:cubicBezTo>
                <a:cubicBezTo>
                  <a:pt x="59094" y="320351"/>
                  <a:pt x="53522" y="313406"/>
                  <a:pt x="46653" y="307910"/>
                </a:cubicBezTo>
                <a:cubicBezTo>
                  <a:pt x="37896" y="300905"/>
                  <a:pt x="24604" y="298758"/>
                  <a:pt x="18661" y="289249"/>
                </a:cubicBezTo>
                <a:cubicBezTo>
                  <a:pt x="8236" y="272568"/>
                  <a:pt x="0" y="233265"/>
                  <a:pt x="0" y="233265"/>
                </a:cubicBezTo>
                <a:cubicBezTo>
                  <a:pt x="2019" y="225191"/>
                  <a:pt x="12714" y="178358"/>
                  <a:pt x="18661" y="167951"/>
                </a:cubicBezTo>
                <a:cubicBezTo>
                  <a:pt x="30470" y="147285"/>
                  <a:pt x="65910" y="106855"/>
                  <a:pt x="83976" y="93306"/>
                </a:cubicBezTo>
                <a:cubicBezTo>
                  <a:pt x="95103" y="84961"/>
                  <a:pt x="108384" y="79811"/>
                  <a:pt x="121298" y="74645"/>
                </a:cubicBezTo>
                <a:cubicBezTo>
                  <a:pt x="168649" y="55705"/>
                  <a:pt x="177083" y="56024"/>
                  <a:pt x="223935" y="46653"/>
                </a:cubicBezTo>
                <a:cubicBezTo>
                  <a:pt x="329682" y="49763"/>
                  <a:pt x="435680" y="48072"/>
                  <a:pt x="541176" y="55984"/>
                </a:cubicBezTo>
                <a:cubicBezTo>
                  <a:pt x="560791" y="57455"/>
                  <a:pt x="580479" y="64220"/>
                  <a:pt x="597159" y="74645"/>
                </a:cubicBezTo>
                <a:cubicBezTo>
                  <a:pt x="606668" y="80588"/>
                  <a:pt x="610503" y="92763"/>
                  <a:pt x="615820" y="102637"/>
                </a:cubicBezTo>
                <a:cubicBezTo>
                  <a:pt x="632306" y="133254"/>
                  <a:pt x="662474" y="195943"/>
                  <a:pt x="662474" y="195943"/>
                </a:cubicBezTo>
                <a:cubicBezTo>
                  <a:pt x="659364" y="233265"/>
                  <a:pt x="662226" y="271577"/>
                  <a:pt x="653143" y="307910"/>
                </a:cubicBezTo>
                <a:cubicBezTo>
                  <a:pt x="645357" y="339053"/>
                  <a:pt x="602233" y="361358"/>
                  <a:pt x="578498" y="373225"/>
                </a:cubicBezTo>
                <a:cubicBezTo>
                  <a:pt x="571881" y="376533"/>
                  <a:pt x="507528" y="405583"/>
                  <a:pt x="485192" y="410547"/>
                </a:cubicBezTo>
                <a:cubicBezTo>
                  <a:pt x="461879" y="415728"/>
                  <a:pt x="384740" y="426230"/>
                  <a:pt x="363894" y="429208"/>
                </a:cubicBezTo>
                <a:lnTo>
                  <a:pt x="46653" y="410547"/>
                </a:lnTo>
              </a:path>
            </a:pathLst>
          </a:custGeom>
          <a:noFill/>
          <a:ln w="12600">
            <a:solidFill>
              <a:srgbClr val="acc1e8"/>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631" name="フリーフォーム 10"/>
          <p:cNvSpPr/>
          <p:nvPr/>
        </p:nvSpPr>
        <p:spPr>
          <a:xfrm>
            <a:off x="4130640" y="4879800"/>
            <a:ext cx="441360" cy="317520"/>
          </a:xfrm>
          <a:custGeom>
            <a:avLst/>
            <a:gdLst/>
            <a:ahLst/>
            <a:rect l="l" t="t" r="r" b="b"/>
            <a:pathLst>
              <a:path w="440762" h="317241">
                <a:moveTo>
                  <a:pt x="263480" y="298580"/>
                </a:moveTo>
                <a:cubicBezTo>
                  <a:pt x="207954" y="317088"/>
                  <a:pt x="214846" y="317241"/>
                  <a:pt x="123521" y="317241"/>
                </a:cubicBezTo>
                <a:cubicBezTo>
                  <a:pt x="104603" y="317241"/>
                  <a:pt x="86199" y="311020"/>
                  <a:pt x="67538" y="307910"/>
                </a:cubicBezTo>
                <a:cubicBezTo>
                  <a:pt x="61317" y="298580"/>
                  <a:pt x="55881" y="288676"/>
                  <a:pt x="48876" y="279919"/>
                </a:cubicBezTo>
                <a:cubicBezTo>
                  <a:pt x="43380" y="273050"/>
                  <a:pt x="34580" y="268895"/>
                  <a:pt x="30215" y="261257"/>
                </a:cubicBezTo>
                <a:cubicBezTo>
                  <a:pt x="14600" y="233930"/>
                  <a:pt x="9638" y="206940"/>
                  <a:pt x="2223" y="177282"/>
                </a:cubicBezTo>
                <a:cubicBezTo>
                  <a:pt x="5333" y="143070"/>
                  <a:pt x="0" y="106997"/>
                  <a:pt x="11554" y="74645"/>
                </a:cubicBezTo>
                <a:cubicBezTo>
                  <a:pt x="16784" y="60000"/>
                  <a:pt x="34756" y="53170"/>
                  <a:pt x="48876" y="46653"/>
                </a:cubicBezTo>
                <a:cubicBezTo>
                  <a:pt x="75666" y="34288"/>
                  <a:pt x="132852" y="18661"/>
                  <a:pt x="132852" y="18661"/>
                </a:cubicBezTo>
                <a:cubicBezTo>
                  <a:pt x="198166" y="21771"/>
                  <a:pt x="263872" y="20201"/>
                  <a:pt x="328795" y="27992"/>
                </a:cubicBezTo>
                <a:cubicBezTo>
                  <a:pt x="342605" y="29649"/>
                  <a:pt x="356282" y="36818"/>
                  <a:pt x="366117" y="46653"/>
                </a:cubicBezTo>
                <a:cubicBezTo>
                  <a:pt x="373072" y="53608"/>
                  <a:pt x="370568" y="66105"/>
                  <a:pt x="375448" y="74645"/>
                </a:cubicBezTo>
                <a:cubicBezTo>
                  <a:pt x="383164" y="88147"/>
                  <a:pt x="394109" y="99527"/>
                  <a:pt x="403440" y="111968"/>
                </a:cubicBezTo>
                <a:cubicBezTo>
                  <a:pt x="419136" y="190453"/>
                  <a:pt x="418043" y="163094"/>
                  <a:pt x="403440" y="279919"/>
                </a:cubicBezTo>
                <a:cubicBezTo>
                  <a:pt x="402220" y="289678"/>
                  <a:pt x="401064" y="300956"/>
                  <a:pt x="394109" y="307910"/>
                </a:cubicBezTo>
                <a:cubicBezTo>
                  <a:pt x="387154" y="314865"/>
                  <a:pt x="375448" y="314131"/>
                  <a:pt x="366117" y="317241"/>
                </a:cubicBezTo>
                <a:cubicBezTo>
                  <a:pt x="303913" y="314131"/>
                  <a:pt x="241572" y="313082"/>
                  <a:pt x="179505" y="307910"/>
                </a:cubicBezTo>
                <a:cubicBezTo>
                  <a:pt x="166725" y="306845"/>
                  <a:pt x="154757" y="301095"/>
                  <a:pt x="142182" y="298580"/>
                </a:cubicBezTo>
                <a:cubicBezTo>
                  <a:pt x="123631" y="294870"/>
                  <a:pt x="104860" y="292359"/>
                  <a:pt x="86199" y="289249"/>
                </a:cubicBezTo>
                <a:cubicBezTo>
                  <a:pt x="70648" y="279918"/>
                  <a:pt x="54925" y="270869"/>
                  <a:pt x="39546" y="261257"/>
                </a:cubicBezTo>
                <a:cubicBezTo>
                  <a:pt x="30037" y="255314"/>
                  <a:pt x="12414" y="253777"/>
                  <a:pt x="11554" y="242596"/>
                </a:cubicBezTo>
                <a:cubicBezTo>
                  <a:pt x="8887" y="207925"/>
                  <a:pt x="22929" y="173960"/>
                  <a:pt x="30215" y="139959"/>
                </a:cubicBezTo>
                <a:cubicBezTo>
                  <a:pt x="33524" y="124519"/>
                  <a:pt x="49886" y="84353"/>
                  <a:pt x="58207" y="74645"/>
                </a:cubicBezTo>
                <a:cubicBezTo>
                  <a:pt x="68327" y="62838"/>
                  <a:pt x="82342" y="54895"/>
                  <a:pt x="95529" y="46653"/>
                </a:cubicBezTo>
                <a:cubicBezTo>
                  <a:pt x="143622" y="16595"/>
                  <a:pt x="141798" y="31231"/>
                  <a:pt x="207497" y="9331"/>
                </a:cubicBezTo>
                <a:lnTo>
                  <a:pt x="235489" y="0"/>
                </a:lnTo>
                <a:cubicBezTo>
                  <a:pt x="266591" y="3110"/>
                  <a:pt x="298920" y="139"/>
                  <a:pt x="328795" y="9331"/>
                </a:cubicBezTo>
                <a:cubicBezTo>
                  <a:pt x="341407" y="13212"/>
                  <a:pt x="346649" y="28876"/>
                  <a:pt x="356786" y="37323"/>
                </a:cubicBezTo>
                <a:cubicBezTo>
                  <a:pt x="365401" y="44502"/>
                  <a:pt x="376848" y="48055"/>
                  <a:pt x="384778" y="55984"/>
                </a:cubicBezTo>
                <a:cubicBezTo>
                  <a:pt x="395774" y="66980"/>
                  <a:pt x="405218" y="79712"/>
                  <a:pt x="412770" y="93306"/>
                </a:cubicBezTo>
                <a:cubicBezTo>
                  <a:pt x="422066" y="110038"/>
                  <a:pt x="433779" y="147003"/>
                  <a:pt x="440762" y="167951"/>
                </a:cubicBezTo>
                <a:cubicBezTo>
                  <a:pt x="437652" y="180392"/>
                  <a:pt x="438228" y="194399"/>
                  <a:pt x="431431" y="205274"/>
                </a:cubicBezTo>
                <a:cubicBezTo>
                  <a:pt x="422106" y="220193"/>
                  <a:pt x="407467" y="231146"/>
                  <a:pt x="394109" y="242596"/>
                </a:cubicBezTo>
                <a:cubicBezTo>
                  <a:pt x="385595" y="249894"/>
                  <a:pt x="375853" y="255693"/>
                  <a:pt x="366117" y="261257"/>
                </a:cubicBezTo>
                <a:cubicBezTo>
                  <a:pt x="354040" y="268158"/>
                  <a:pt x="341819" y="275035"/>
                  <a:pt x="328795" y="279919"/>
                </a:cubicBezTo>
                <a:cubicBezTo>
                  <a:pt x="269721" y="302072"/>
                  <a:pt x="182483" y="289249"/>
                  <a:pt x="132852" y="289249"/>
                </a:cubicBezTo>
              </a:path>
            </a:pathLst>
          </a:custGeom>
          <a:noFill/>
          <a:ln w="12600">
            <a:solidFill>
              <a:srgbClr val="cdee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632" name="フリーフォーム 12"/>
          <p:cNvSpPr/>
          <p:nvPr/>
        </p:nvSpPr>
        <p:spPr>
          <a:xfrm>
            <a:off x="644400" y="733320"/>
            <a:ext cx="6527880" cy="3614760"/>
          </a:xfrm>
          <a:custGeom>
            <a:avLst/>
            <a:gdLst/>
            <a:ahLst/>
            <a:rect l="l" t="t" r="r" b="b"/>
            <a:pathLst>
              <a:path w="6528495" h="3614473">
                <a:moveTo>
                  <a:pt x="2911151" y="3614473"/>
                </a:moveTo>
                <a:lnTo>
                  <a:pt x="1539551" y="3586481"/>
                </a:lnTo>
                <a:cubicBezTo>
                  <a:pt x="1458648" y="3584610"/>
                  <a:pt x="1377712" y="3582361"/>
                  <a:pt x="1296955" y="3577151"/>
                </a:cubicBezTo>
                <a:cubicBezTo>
                  <a:pt x="1281129" y="3576130"/>
                  <a:pt x="1265739" y="3571452"/>
                  <a:pt x="1250302" y="3567820"/>
                </a:cubicBezTo>
                <a:cubicBezTo>
                  <a:pt x="1212854" y="3559008"/>
                  <a:pt x="1175077" y="3551231"/>
                  <a:pt x="1138335" y="3539828"/>
                </a:cubicBezTo>
                <a:cubicBezTo>
                  <a:pt x="1084785" y="3523209"/>
                  <a:pt x="1034696" y="3494841"/>
                  <a:pt x="979715" y="3483845"/>
                </a:cubicBezTo>
                <a:lnTo>
                  <a:pt x="886408" y="3465184"/>
                </a:lnTo>
                <a:cubicBezTo>
                  <a:pt x="855251" y="3458625"/>
                  <a:pt x="808227" y="3450706"/>
                  <a:pt x="774441" y="3437192"/>
                </a:cubicBezTo>
                <a:cubicBezTo>
                  <a:pt x="752449" y="3428395"/>
                  <a:pt x="729300" y="3421614"/>
                  <a:pt x="709127" y="3409200"/>
                </a:cubicBezTo>
                <a:cubicBezTo>
                  <a:pt x="570609" y="3323958"/>
                  <a:pt x="723732" y="3390782"/>
                  <a:pt x="606490" y="3343886"/>
                </a:cubicBezTo>
                <a:cubicBezTo>
                  <a:pt x="587829" y="3328335"/>
                  <a:pt x="570407" y="3311163"/>
                  <a:pt x="550506" y="3297232"/>
                </a:cubicBezTo>
                <a:cubicBezTo>
                  <a:pt x="539111" y="3289256"/>
                  <a:pt x="524382" y="3286822"/>
                  <a:pt x="513184" y="3278571"/>
                </a:cubicBezTo>
                <a:cubicBezTo>
                  <a:pt x="465086" y="3243130"/>
                  <a:pt x="373225" y="3166604"/>
                  <a:pt x="373225" y="3166604"/>
                </a:cubicBezTo>
                <a:cubicBezTo>
                  <a:pt x="367005" y="3154163"/>
                  <a:pt x="362541" y="3140676"/>
                  <a:pt x="354564" y="3129281"/>
                </a:cubicBezTo>
                <a:cubicBezTo>
                  <a:pt x="254945" y="2986970"/>
                  <a:pt x="361500" y="3165509"/>
                  <a:pt x="261257" y="3007984"/>
                </a:cubicBezTo>
                <a:cubicBezTo>
                  <a:pt x="253789" y="2996249"/>
                  <a:pt x="249256" y="2982872"/>
                  <a:pt x="242596" y="2970661"/>
                </a:cubicBezTo>
                <a:cubicBezTo>
                  <a:pt x="230589" y="2948648"/>
                  <a:pt x="218175" y="2926849"/>
                  <a:pt x="205274" y="2905347"/>
                </a:cubicBezTo>
                <a:cubicBezTo>
                  <a:pt x="199504" y="2895731"/>
                  <a:pt x="191627" y="2887385"/>
                  <a:pt x="186612" y="2877355"/>
                </a:cubicBezTo>
                <a:cubicBezTo>
                  <a:pt x="176019" y="2856169"/>
                  <a:pt x="169851" y="2832896"/>
                  <a:pt x="158621" y="2812041"/>
                </a:cubicBezTo>
                <a:cubicBezTo>
                  <a:pt x="147988" y="2792294"/>
                  <a:pt x="132837" y="2775289"/>
                  <a:pt x="121298" y="2756057"/>
                </a:cubicBezTo>
                <a:cubicBezTo>
                  <a:pt x="114142" y="2744130"/>
                  <a:pt x="108857" y="2731176"/>
                  <a:pt x="102637" y="2718735"/>
                </a:cubicBezTo>
                <a:cubicBezTo>
                  <a:pt x="96417" y="2693853"/>
                  <a:pt x="91022" y="2668751"/>
                  <a:pt x="83976" y="2644090"/>
                </a:cubicBezTo>
                <a:cubicBezTo>
                  <a:pt x="78572" y="2625176"/>
                  <a:pt x="68940" y="2607440"/>
                  <a:pt x="65315" y="2588106"/>
                </a:cubicBezTo>
                <a:cubicBezTo>
                  <a:pt x="24246" y="2369071"/>
                  <a:pt x="85930" y="2599611"/>
                  <a:pt x="37323" y="2429486"/>
                </a:cubicBezTo>
                <a:cubicBezTo>
                  <a:pt x="34213" y="2389053"/>
                  <a:pt x="32237" y="2348517"/>
                  <a:pt x="27992" y="2308188"/>
                </a:cubicBezTo>
                <a:cubicBezTo>
                  <a:pt x="26011" y="2289373"/>
                  <a:pt x="21008" y="2270977"/>
                  <a:pt x="18661" y="2252204"/>
                </a:cubicBezTo>
                <a:cubicBezTo>
                  <a:pt x="480" y="2106754"/>
                  <a:pt x="19151" y="2207998"/>
                  <a:pt x="0" y="2112245"/>
                </a:cubicBezTo>
                <a:cubicBezTo>
                  <a:pt x="3110" y="1966065"/>
                  <a:pt x="3487" y="1819802"/>
                  <a:pt x="9331" y="1673706"/>
                </a:cubicBezTo>
                <a:cubicBezTo>
                  <a:pt x="9724" y="1663879"/>
                  <a:pt x="16527" y="1655315"/>
                  <a:pt x="18661" y="1645714"/>
                </a:cubicBezTo>
                <a:cubicBezTo>
                  <a:pt x="22765" y="1627246"/>
                  <a:pt x="22009" y="1607678"/>
                  <a:pt x="27992" y="1589730"/>
                </a:cubicBezTo>
                <a:cubicBezTo>
                  <a:pt x="40778" y="1551372"/>
                  <a:pt x="52217" y="1511405"/>
                  <a:pt x="74645" y="1477763"/>
                </a:cubicBezTo>
                <a:cubicBezTo>
                  <a:pt x="87086" y="1459102"/>
                  <a:pt x="96109" y="1437638"/>
                  <a:pt x="111968" y="1421779"/>
                </a:cubicBezTo>
                <a:cubicBezTo>
                  <a:pt x="130887" y="1402860"/>
                  <a:pt x="157559" y="1393205"/>
                  <a:pt x="177282" y="1375126"/>
                </a:cubicBezTo>
                <a:cubicBezTo>
                  <a:pt x="210043" y="1345095"/>
                  <a:pt x="224979" y="1307733"/>
                  <a:pt x="261257" y="1281820"/>
                </a:cubicBezTo>
                <a:cubicBezTo>
                  <a:pt x="269260" y="1276103"/>
                  <a:pt x="279918" y="1275600"/>
                  <a:pt x="289249" y="1272490"/>
                </a:cubicBezTo>
                <a:cubicBezTo>
                  <a:pt x="357515" y="1181467"/>
                  <a:pt x="269628" y="1288872"/>
                  <a:pt x="363894" y="1207175"/>
                </a:cubicBezTo>
                <a:cubicBezTo>
                  <a:pt x="404027" y="1172393"/>
                  <a:pt x="453304" y="1108472"/>
                  <a:pt x="503853" y="1076547"/>
                </a:cubicBezTo>
                <a:cubicBezTo>
                  <a:pt x="546255" y="1049767"/>
                  <a:pt x="593397" y="1030661"/>
                  <a:pt x="634482" y="1001902"/>
                </a:cubicBezTo>
                <a:cubicBezTo>
                  <a:pt x="665584" y="980131"/>
                  <a:pt x="695393" y="956385"/>
                  <a:pt x="727788" y="936588"/>
                </a:cubicBezTo>
                <a:cubicBezTo>
                  <a:pt x="886222" y="839767"/>
                  <a:pt x="735176" y="940909"/>
                  <a:pt x="849086" y="880604"/>
                </a:cubicBezTo>
                <a:cubicBezTo>
                  <a:pt x="917918" y="844164"/>
                  <a:pt x="1022967" y="778821"/>
                  <a:pt x="1082351" y="731314"/>
                </a:cubicBezTo>
                <a:cubicBezTo>
                  <a:pt x="1097902" y="718873"/>
                  <a:pt x="1111647" y="703755"/>
                  <a:pt x="1129004" y="693992"/>
                </a:cubicBezTo>
                <a:cubicBezTo>
                  <a:pt x="1334977" y="578133"/>
                  <a:pt x="1140281" y="706853"/>
                  <a:pt x="1306286" y="610016"/>
                </a:cubicBezTo>
                <a:cubicBezTo>
                  <a:pt x="1319719" y="602180"/>
                  <a:pt x="1329488" y="588541"/>
                  <a:pt x="1343608" y="582024"/>
                </a:cubicBezTo>
                <a:cubicBezTo>
                  <a:pt x="1370398" y="569659"/>
                  <a:pt x="1401193" y="567227"/>
                  <a:pt x="1427584" y="554032"/>
                </a:cubicBezTo>
                <a:cubicBezTo>
                  <a:pt x="1519356" y="508146"/>
                  <a:pt x="1483030" y="505729"/>
                  <a:pt x="1548882" y="479388"/>
                </a:cubicBezTo>
                <a:cubicBezTo>
                  <a:pt x="1610136" y="454886"/>
                  <a:pt x="1607498" y="466487"/>
                  <a:pt x="1670180" y="432735"/>
                </a:cubicBezTo>
                <a:cubicBezTo>
                  <a:pt x="1689927" y="422102"/>
                  <a:pt x="1705119" y="403166"/>
                  <a:pt x="1726164" y="395412"/>
                </a:cubicBezTo>
                <a:cubicBezTo>
                  <a:pt x="1765100" y="381067"/>
                  <a:pt x="1807563" y="378820"/>
                  <a:pt x="1847461" y="367420"/>
                </a:cubicBezTo>
                <a:cubicBezTo>
                  <a:pt x="1873012" y="360120"/>
                  <a:pt x="1895832" y="343409"/>
                  <a:pt x="1922106" y="339428"/>
                </a:cubicBezTo>
                <a:cubicBezTo>
                  <a:pt x="1999230" y="327743"/>
                  <a:pt x="2077617" y="326987"/>
                  <a:pt x="2155372" y="320767"/>
                </a:cubicBezTo>
                <a:lnTo>
                  <a:pt x="2313992" y="292775"/>
                </a:lnTo>
                <a:cubicBezTo>
                  <a:pt x="2351279" y="286346"/>
                  <a:pt x="2389023" y="282322"/>
                  <a:pt x="2425959" y="274114"/>
                </a:cubicBezTo>
                <a:cubicBezTo>
                  <a:pt x="2453951" y="267894"/>
                  <a:pt x="2481501" y="259162"/>
                  <a:pt x="2509935" y="255453"/>
                </a:cubicBezTo>
                <a:cubicBezTo>
                  <a:pt x="2553222" y="249807"/>
                  <a:pt x="2597049" y="249603"/>
                  <a:pt x="2640564" y="246122"/>
                </a:cubicBezTo>
                <a:cubicBezTo>
                  <a:pt x="2674808" y="243383"/>
                  <a:pt x="2709082" y="240806"/>
                  <a:pt x="2743200" y="236792"/>
                </a:cubicBezTo>
                <a:cubicBezTo>
                  <a:pt x="2761989" y="234582"/>
                  <a:pt x="2780307" y="228720"/>
                  <a:pt x="2799184" y="227461"/>
                </a:cubicBezTo>
                <a:cubicBezTo>
                  <a:pt x="2873728" y="222491"/>
                  <a:pt x="2948474" y="221240"/>
                  <a:pt x="3023119" y="218130"/>
                </a:cubicBezTo>
                <a:cubicBezTo>
                  <a:pt x="3043940" y="215156"/>
                  <a:pt x="3110274" y="206913"/>
                  <a:pt x="3135086" y="199469"/>
                </a:cubicBezTo>
                <a:cubicBezTo>
                  <a:pt x="3183195" y="185036"/>
                  <a:pt x="3173491" y="177987"/>
                  <a:pt x="3219061" y="171477"/>
                </a:cubicBezTo>
                <a:cubicBezTo>
                  <a:pt x="3250004" y="167057"/>
                  <a:pt x="3281266" y="165257"/>
                  <a:pt x="3312368" y="162147"/>
                </a:cubicBezTo>
                <a:lnTo>
                  <a:pt x="4889241" y="171477"/>
                </a:lnTo>
                <a:cubicBezTo>
                  <a:pt x="4917912" y="171960"/>
                  <a:pt x="4945033" y="184855"/>
                  <a:pt x="4973217" y="190139"/>
                </a:cubicBezTo>
                <a:cubicBezTo>
                  <a:pt x="4994833" y="194192"/>
                  <a:pt x="5016624" y="197536"/>
                  <a:pt x="5038531" y="199469"/>
                </a:cubicBezTo>
                <a:cubicBezTo>
                  <a:pt x="5288081" y="221488"/>
                  <a:pt x="5334527" y="218211"/>
                  <a:pt x="5598368" y="236792"/>
                </a:cubicBezTo>
                <a:lnTo>
                  <a:pt x="5952931" y="264784"/>
                </a:lnTo>
                <a:cubicBezTo>
                  <a:pt x="6034930" y="281183"/>
                  <a:pt x="5965901" y="261938"/>
                  <a:pt x="6046237" y="302106"/>
                </a:cubicBezTo>
                <a:cubicBezTo>
                  <a:pt x="6061545" y="309760"/>
                  <a:pt x="6114665" y="326707"/>
                  <a:pt x="6130212" y="339428"/>
                </a:cubicBezTo>
                <a:cubicBezTo>
                  <a:pt x="6201576" y="397817"/>
                  <a:pt x="6179133" y="384535"/>
                  <a:pt x="6214188" y="432735"/>
                </a:cubicBezTo>
                <a:cubicBezTo>
                  <a:pt x="6232481" y="457888"/>
                  <a:pt x="6254170" y="480709"/>
                  <a:pt x="6270172" y="507379"/>
                </a:cubicBezTo>
                <a:cubicBezTo>
                  <a:pt x="6279503" y="522930"/>
                  <a:pt x="6290054" y="537811"/>
                  <a:pt x="6298164" y="554032"/>
                </a:cubicBezTo>
                <a:cubicBezTo>
                  <a:pt x="6302562" y="562829"/>
                  <a:pt x="6302718" y="573426"/>
                  <a:pt x="6307494" y="582024"/>
                </a:cubicBezTo>
                <a:cubicBezTo>
                  <a:pt x="6336919" y="634990"/>
                  <a:pt x="6342809" y="636000"/>
                  <a:pt x="6382139" y="675330"/>
                </a:cubicBezTo>
                <a:cubicBezTo>
                  <a:pt x="6389825" y="706075"/>
                  <a:pt x="6394161" y="730560"/>
                  <a:pt x="6410131" y="759306"/>
                </a:cubicBezTo>
                <a:cubicBezTo>
                  <a:pt x="6417683" y="772900"/>
                  <a:pt x="6428792" y="784187"/>
                  <a:pt x="6438123" y="796628"/>
                </a:cubicBezTo>
                <a:cubicBezTo>
                  <a:pt x="6463656" y="873233"/>
                  <a:pt x="6421478" y="752790"/>
                  <a:pt x="6484776" y="889935"/>
                </a:cubicBezTo>
                <a:cubicBezTo>
                  <a:pt x="6493019" y="907795"/>
                  <a:pt x="6497217" y="927257"/>
                  <a:pt x="6503437" y="945918"/>
                </a:cubicBezTo>
                <a:cubicBezTo>
                  <a:pt x="6509657" y="983241"/>
                  <a:pt x="6521370" y="1020056"/>
                  <a:pt x="6522098" y="1057886"/>
                </a:cubicBezTo>
                <a:cubicBezTo>
                  <a:pt x="6522818" y="1095328"/>
                  <a:pt x="6528495" y="1371139"/>
                  <a:pt x="6503437" y="1496424"/>
                </a:cubicBezTo>
                <a:cubicBezTo>
                  <a:pt x="6499273" y="1517242"/>
                  <a:pt x="6467497" y="1586769"/>
                  <a:pt x="6466115" y="1589730"/>
                </a:cubicBezTo>
                <a:cubicBezTo>
                  <a:pt x="6403373" y="1724177"/>
                  <a:pt x="6449918" y="1611560"/>
                  <a:pt x="6410131" y="1711028"/>
                </a:cubicBezTo>
                <a:cubicBezTo>
                  <a:pt x="6391778" y="1821141"/>
                  <a:pt x="6415801" y="1710847"/>
                  <a:pt x="6363478" y="1841657"/>
                </a:cubicBezTo>
                <a:cubicBezTo>
                  <a:pt x="6355069" y="1862680"/>
                  <a:pt x="6352432" y="1885648"/>
                  <a:pt x="6344817" y="1906971"/>
                </a:cubicBezTo>
                <a:cubicBezTo>
                  <a:pt x="6336850" y="1929278"/>
                  <a:pt x="6325622" y="1950293"/>
                  <a:pt x="6316825" y="1972286"/>
                </a:cubicBezTo>
                <a:cubicBezTo>
                  <a:pt x="6313172" y="1981418"/>
                  <a:pt x="6310947" y="1991068"/>
                  <a:pt x="6307494" y="2000277"/>
                </a:cubicBezTo>
                <a:cubicBezTo>
                  <a:pt x="6301613" y="2015959"/>
                  <a:pt x="6293646" y="2030887"/>
                  <a:pt x="6288833" y="2046930"/>
                </a:cubicBezTo>
                <a:cubicBezTo>
                  <a:pt x="6284276" y="2062120"/>
                  <a:pt x="6285392" y="2078859"/>
                  <a:pt x="6279502" y="2093584"/>
                </a:cubicBezTo>
                <a:cubicBezTo>
                  <a:pt x="6272767" y="2110422"/>
                  <a:pt x="6259620" y="2124016"/>
                  <a:pt x="6251510" y="2140237"/>
                </a:cubicBezTo>
                <a:cubicBezTo>
                  <a:pt x="6212878" y="2217502"/>
                  <a:pt x="6277003" y="2115992"/>
                  <a:pt x="6223519" y="2196220"/>
                </a:cubicBezTo>
                <a:cubicBezTo>
                  <a:pt x="6220409" y="2208661"/>
                  <a:pt x="6219240" y="2221756"/>
                  <a:pt x="6214188" y="2233543"/>
                </a:cubicBezTo>
                <a:cubicBezTo>
                  <a:pt x="6209771" y="2243850"/>
                  <a:pt x="6200542" y="2251505"/>
                  <a:pt x="6195527" y="2261535"/>
                </a:cubicBezTo>
                <a:cubicBezTo>
                  <a:pt x="6188037" y="2276516"/>
                  <a:pt x="6182747" y="2292506"/>
                  <a:pt x="6176866" y="2308188"/>
                </a:cubicBezTo>
                <a:cubicBezTo>
                  <a:pt x="6153042" y="2371717"/>
                  <a:pt x="6187440" y="2299065"/>
                  <a:pt x="6139543" y="2410824"/>
                </a:cubicBezTo>
                <a:cubicBezTo>
                  <a:pt x="6131324" y="2430001"/>
                  <a:pt x="6123516" y="2449716"/>
                  <a:pt x="6111551" y="2466808"/>
                </a:cubicBezTo>
                <a:cubicBezTo>
                  <a:pt x="6101462" y="2481221"/>
                  <a:pt x="6085679" y="2490772"/>
                  <a:pt x="6074229" y="2504130"/>
                </a:cubicBezTo>
                <a:cubicBezTo>
                  <a:pt x="5978610" y="2615686"/>
                  <a:pt x="6160799" y="2417715"/>
                  <a:pt x="6036906" y="2578775"/>
                </a:cubicBezTo>
                <a:cubicBezTo>
                  <a:pt x="6015451" y="2606666"/>
                  <a:pt x="5987143" y="2628538"/>
                  <a:pt x="5962261" y="2653420"/>
                </a:cubicBezTo>
                <a:cubicBezTo>
                  <a:pt x="5940490" y="2675192"/>
                  <a:pt x="5914026" y="2693117"/>
                  <a:pt x="5896947" y="2718735"/>
                </a:cubicBezTo>
                <a:cubicBezTo>
                  <a:pt x="5870157" y="2758919"/>
                  <a:pt x="5848670" y="2792624"/>
                  <a:pt x="5812972" y="2830702"/>
                </a:cubicBezTo>
                <a:cubicBezTo>
                  <a:pt x="5790360" y="2854822"/>
                  <a:pt x="5761098" y="2872046"/>
                  <a:pt x="5738327" y="2896016"/>
                </a:cubicBezTo>
                <a:cubicBezTo>
                  <a:pt x="5685322" y="2951811"/>
                  <a:pt x="5589706" y="3085292"/>
                  <a:pt x="5523723" y="3129281"/>
                </a:cubicBezTo>
                <a:cubicBezTo>
                  <a:pt x="5484683" y="3155308"/>
                  <a:pt x="5464961" y="3166960"/>
                  <a:pt x="5430417" y="3194596"/>
                </a:cubicBezTo>
                <a:cubicBezTo>
                  <a:pt x="5383972" y="3231752"/>
                  <a:pt x="5384580" y="3240922"/>
                  <a:pt x="5337110" y="3259910"/>
                </a:cubicBezTo>
                <a:cubicBezTo>
                  <a:pt x="5289605" y="3278912"/>
                  <a:pt x="5275114" y="3280763"/>
                  <a:pt x="5225143" y="3287902"/>
                </a:cubicBezTo>
                <a:lnTo>
                  <a:pt x="5085184" y="3306563"/>
                </a:lnTo>
                <a:cubicBezTo>
                  <a:pt x="5075853" y="3309673"/>
                  <a:pt x="5066836" y="3313965"/>
                  <a:pt x="5057192" y="3315894"/>
                </a:cubicBezTo>
                <a:cubicBezTo>
                  <a:pt x="5015949" y="3324143"/>
                  <a:pt x="4935571" y="3330855"/>
                  <a:pt x="4898572" y="3334555"/>
                </a:cubicBezTo>
                <a:cubicBezTo>
                  <a:pt x="4886131" y="3340775"/>
                  <a:pt x="4874445" y="3348818"/>
                  <a:pt x="4861249" y="3353216"/>
                </a:cubicBezTo>
                <a:cubicBezTo>
                  <a:pt x="4793769" y="3375709"/>
                  <a:pt x="4766435" y="3373894"/>
                  <a:pt x="4693298" y="3381208"/>
                </a:cubicBezTo>
                <a:cubicBezTo>
                  <a:pt x="4646645" y="3396759"/>
                  <a:pt x="4597324" y="3405869"/>
                  <a:pt x="4553339" y="3427861"/>
                </a:cubicBezTo>
                <a:cubicBezTo>
                  <a:pt x="4540898" y="3434081"/>
                  <a:pt x="4529772" y="3444459"/>
                  <a:pt x="4516017" y="3446522"/>
                </a:cubicBezTo>
                <a:cubicBezTo>
                  <a:pt x="4466708" y="3453918"/>
                  <a:pt x="4416490" y="3452743"/>
                  <a:pt x="4366727" y="3455853"/>
                </a:cubicBezTo>
                <a:cubicBezTo>
                  <a:pt x="4354286" y="3458963"/>
                  <a:pt x="4341661" y="3461413"/>
                  <a:pt x="4329404" y="3465184"/>
                </a:cubicBezTo>
                <a:cubicBezTo>
                  <a:pt x="4301203" y="3473861"/>
                  <a:pt x="4274232" y="3486774"/>
                  <a:pt x="4245429" y="3493175"/>
                </a:cubicBezTo>
                <a:cubicBezTo>
                  <a:pt x="4217935" y="3499285"/>
                  <a:pt x="4189400" y="3499013"/>
                  <a:pt x="4161453" y="3502506"/>
                </a:cubicBezTo>
                <a:cubicBezTo>
                  <a:pt x="4139630" y="3505234"/>
                  <a:pt x="4117777" y="3507903"/>
                  <a:pt x="4096139" y="3511837"/>
                </a:cubicBezTo>
                <a:cubicBezTo>
                  <a:pt x="4056384" y="3519065"/>
                  <a:pt x="4045442" y="3527654"/>
                  <a:pt x="4002833" y="3539828"/>
                </a:cubicBezTo>
                <a:cubicBezTo>
                  <a:pt x="3978172" y="3546874"/>
                  <a:pt x="3953814" y="3557437"/>
                  <a:pt x="3928188" y="3558490"/>
                </a:cubicBezTo>
                <a:cubicBezTo>
                  <a:pt x="3726171" y="3566792"/>
                  <a:pt x="3523861" y="3564710"/>
                  <a:pt x="3321698" y="3567820"/>
                </a:cubicBezTo>
                <a:lnTo>
                  <a:pt x="1520890" y="3558490"/>
                </a:lnTo>
                <a:cubicBezTo>
                  <a:pt x="1461717" y="3557932"/>
                  <a:pt x="1402362" y="3556210"/>
                  <a:pt x="1343608" y="3549159"/>
                </a:cubicBezTo>
                <a:cubicBezTo>
                  <a:pt x="1324078" y="3546815"/>
                  <a:pt x="1305958" y="3537627"/>
                  <a:pt x="1287625" y="3530498"/>
                </a:cubicBezTo>
                <a:cubicBezTo>
                  <a:pt x="1249941" y="3515843"/>
                  <a:pt x="1210328" y="3504648"/>
                  <a:pt x="1175657" y="3483845"/>
                </a:cubicBezTo>
                <a:cubicBezTo>
                  <a:pt x="1067294" y="3418827"/>
                  <a:pt x="1200955" y="3500711"/>
                  <a:pt x="1063690" y="3409200"/>
                </a:cubicBezTo>
                <a:cubicBezTo>
                  <a:pt x="1048600" y="3399140"/>
                  <a:pt x="1032588" y="3390539"/>
                  <a:pt x="1017037" y="3381208"/>
                </a:cubicBezTo>
                <a:cubicBezTo>
                  <a:pt x="1004596" y="3365657"/>
                  <a:pt x="994648" y="3347731"/>
                  <a:pt x="979715" y="3334555"/>
                </a:cubicBezTo>
                <a:cubicBezTo>
                  <a:pt x="921960" y="3283595"/>
                  <a:pt x="848652" y="3240815"/>
                  <a:pt x="793102" y="3185265"/>
                </a:cubicBezTo>
                <a:cubicBezTo>
                  <a:pt x="772826" y="3164989"/>
                  <a:pt x="755277" y="3142144"/>
                  <a:pt x="737119" y="3119951"/>
                </a:cubicBezTo>
                <a:cubicBezTo>
                  <a:pt x="727271" y="3107915"/>
                  <a:pt x="720634" y="3093089"/>
                  <a:pt x="709127" y="3082628"/>
                </a:cubicBezTo>
                <a:cubicBezTo>
                  <a:pt x="686113" y="3061707"/>
                  <a:pt x="657273" y="3047808"/>
                  <a:pt x="634482" y="3026645"/>
                </a:cubicBezTo>
                <a:cubicBezTo>
                  <a:pt x="613469" y="3007133"/>
                  <a:pt x="598774" y="2981606"/>
                  <a:pt x="578498" y="2961330"/>
                </a:cubicBezTo>
                <a:cubicBezTo>
                  <a:pt x="564416" y="2947248"/>
                  <a:pt x="545927" y="2938090"/>
                  <a:pt x="531845" y="2924008"/>
                </a:cubicBezTo>
                <a:cubicBezTo>
                  <a:pt x="520849" y="2913012"/>
                  <a:pt x="514849" y="2897682"/>
                  <a:pt x="503853" y="2886686"/>
                </a:cubicBezTo>
                <a:cubicBezTo>
                  <a:pt x="423233" y="2806066"/>
                  <a:pt x="556724" y="2994293"/>
                  <a:pt x="419878" y="2802710"/>
                </a:cubicBezTo>
                <a:cubicBezTo>
                  <a:pt x="405303" y="2782305"/>
                  <a:pt x="396464" y="2758260"/>
                  <a:pt x="382555" y="2737396"/>
                </a:cubicBezTo>
                <a:cubicBezTo>
                  <a:pt x="365303" y="2711518"/>
                  <a:pt x="345233" y="2687633"/>
                  <a:pt x="326572" y="2662751"/>
                </a:cubicBezTo>
                <a:cubicBezTo>
                  <a:pt x="312937" y="2608211"/>
                  <a:pt x="320128" y="2622662"/>
                  <a:pt x="279919" y="2560114"/>
                </a:cubicBezTo>
                <a:cubicBezTo>
                  <a:pt x="265451" y="2537608"/>
                  <a:pt x="245680" y="2518500"/>
                  <a:pt x="233266" y="2494800"/>
                </a:cubicBezTo>
                <a:cubicBezTo>
                  <a:pt x="211284" y="2452835"/>
                  <a:pt x="198468" y="2406543"/>
                  <a:pt x="177282" y="2364171"/>
                </a:cubicBezTo>
                <a:cubicBezTo>
                  <a:pt x="171062" y="2351730"/>
                  <a:pt x="163019" y="2340044"/>
                  <a:pt x="158621" y="2326849"/>
                </a:cubicBezTo>
                <a:cubicBezTo>
                  <a:pt x="144300" y="2283887"/>
                  <a:pt x="132281" y="2240153"/>
                  <a:pt x="121298" y="2196220"/>
                </a:cubicBezTo>
                <a:cubicBezTo>
                  <a:pt x="118188" y="2183779"/>
                  <a:pt x="117274" y="2170572"/>
                  <a:pt x="111968" y="2158898"/>
                </a:cubicBezTo>
                <a:cubicBezTo>
                  <a:pt x="101592" y="2136070"/>
                  <a:pt x="87086" y="2115355"/>
                  <a:pt x="74645" y="2093584"/>
                </a:cubicBezTo>
                <a:cubicBezTo>
                  <a:pt x="71535" y="2068702"/>
                  <a:pt x="70953" y="2043372"/>
                  <a:pt x="65315" y="2018939"/>
                </a:cubicBezTo>
                <a:cubicBezTo>
                  <a:pt x="61549" y="2002619"/>
                  <a:pt x="50715" y="1988535"/>
                  <a:pt x="46653" y="1972286"/>
                </a:cubicBezTo>
                <a:cubicBezTo>
                  <a:pt x="41319" y="1950950"/>
                  <a:pt x="41257" y="1928609"/>
                  <a:pt x="37323" y="1906971"/>
                </a:cubicBezTo>
                <a:cubicBezTo>
                  <a:pt x="35029" y="1894354"/>
                  <a:pt x="30507" y="1882224"/>
                  <a:pt x="27992" y="1869649"/>
                </a:cubicBezTo>
                <a:cubicBezTo>
                  <a:pt x="24282" y="1851098"/>
                  <a:pt x="21771" y="1832326"/>
                  <a:pt x="18661" y="1813665"/>
                </a:cubicBezTo>
                <a:cubicBezTo>
                  <a:pt x="15551" y="1704808"/>
                  <a:pt x="7454" y="1595979"/>
                  <a:pt x="9331" y="1487094"/>
                </a:cubicBezTo>
                <a:cubicBezTo>
                  <a:pt x="11038" y="1388120"/>
                  <a:pt x="7724" y="1323429"/>
                  <a:pt x="37323" y="1244498"/>
                </a:cubicBezTo>
                <a:cubicBezTo>
                  <a:pt x="43204" y="1228816"/>
                  <a:pt x="46693" y="1211781"/>
                  <a:pt x="55984" y="1197845"/>
                </a:cubicBezTo>
                <a:cubicBezTo>
                  <a:pt x="65743" y="1183206"/>
                  <a:pt x="82750" y="1174597"/>
                  <a:pt x="93306" y="1160522"/>
                </a:cubicBezTo>
                <a:cubicBezTo>
                  <a:pt x="101652" y="1149395"/>
                  <a:pt x="105067" y="1135277"/>
                  <a:pt x="111968" y="1123200"/>
                </a:cubicBezTo>
                <a:cubicBezTo>
                  <a:pt x="117532" y="1113464"/>
                  <a:pt x="123901" y="1104179"/>
                  <a:pt x="130629" y="1095208"/>
                </a:cubicBezTo>
                <a:cubicBezTo>
                  <a:pt x="156538" y="1060662"/>
                  <a:pt x="168517" y="1041567"/>
                  <a:pt x="205274" y="1020563"/>
                </a:cubicBezTo>
                <a:cubicBezTo>
                  <a:pt x="213814" y="1015683"/>
                  <a:pt x="223935" y="1014342"/>
                  <a:pt x="233266" y="1011232"/>
                </a:cubicBezTo>
                <a:cubicBezTo>
                  <a:pt x="273699" y="977020"/>
                  <a:pt x="307191" y="932283"/>
                  <a:pt x="354564" y="908596"/>
                </a:cubicBezTo>
                <a:cubicBezTo>
                  <a:pt x="379445" y="896155"/>
                  <a:pt x="403840" y="882689"/>
                  <a:pt x="429208" y="871273"/>
                </a:cubicBezTo>
                <a:cubicBezTo>
                  <a:pt x="466080" y="854681"/>
                  <a:pt x="505831" y="844256"/>
                  <a:pt x="541176" y="824620"/>
                </a:cubicBezTo>
                <a:cubicBezTo>
                  <a:pt x="610503" y="786105"/>
                  <a:pt x="635517" y="768956"/>
                  <a:pt x="709127" y="740645"/>
                </a:cubicBezTo>
                <a:cubicBezTo>
                  <a:pt x="721096" y="736042"/>
                  <a:pt x="734662" y="736366"/>
                  <a:pt x="746449" y="731314"/>
                </a:cubicBezTo>
                <a:cubicBezTo>
                  <a:pt x="778410" y="717616"/>
                  <a:pt x="807469" y="697575"/>
                  <a:pt x="839755" y="684661"/>
                </a:cubicBezTo>
                <a:cubicBezTo>
                  <a:pt x="916833" y="653830"/>
                  <a:pt x="916565" y="662198"/>
                  <a:pt x="979715" y="647339"/>
                </a:cubicBezTo>
                <a:cubicBezTo>
                  <a:pt x="1017163" y="638528"/>
                  <a:pt x="1054648" y="629763"/>
                  <a:pt x="1091682" y="619347"/>
                </a:cubicBezTo>
                <a:cubicBezTo>
                  <a:pt x="1154199" y="601764"/>
                  <a:pt x="1216027" y="581813"/>
                  <a:pt x="1278294" y="563363"/>
                </a:cubicBezTo>
                <a:cubicBezTo>
                  <a:pt x="1300004" y="556931"/>
                  <a:pt x="1321505" y="549614"/>
                  <a:pt x="1343608" y="544702"/>
                </a:cubicBezTo>
                <a:cubicBezTo>
                  <a:pt x="1371600" y="538482"/>
                  <a:pt x="1399765" y="532996"/>
                  <a:pt x="1427584" y="526041"/>
                </a:cubicBezTo>
                <a:cubicBezTo>
                  <a:pt x="1461987" y="517440"/>
                  <a:pt x="1496200" y="508055"/>
                  <a:pt x="1530221" y="498049"/>
                </a:cubicBezTo>
                <a:cubicBezTo>
                  <a:pt x="1549092" y="492499"/>
                  <a:pt x="1567121" y="484159"/>
                  <a:pt x="1586204" y="479388"/>
                </a:cubicBezTo>
                <a:cubicBezTo>
                  <a:pt x="1616975" y="471695"/>
                  <a:pt x="1648224" y="465940"/>
                  <a:pt x="1679510" y="460726"/>
                </a:cubicBezTo>
                <a:cubicBezTo>
                  <a:pt x="1704244" y="456604"/>
                  <a:pt x="1729233" y="454165"/>
                  <a:pt x="1754155" y="451396"/>
                </a:cubicBezTo>
                <a:cubicBezTo>
                  <a:pt x="1869154" y="438619"/>
                  <a:pt x="1868803" y="440810"/>
                  <a:pt x="2006082" y="432735"/>
                </a:cubicBezTo>
                <a:lnTo>
                  <a:pt x="2080727" y="423404"/>
                </a:lnTo>
                <a:cubicBezTo>
                  <a:pt x="2108698" y="420113"/>
                  <a:pt x="2136866" y="418355"/>
                  <a:pt x="2164702" y="414073"/>
                </a:cubicBezTo>
                <a:cubicBezTo>
                  <a:pt x="2177377" y="412123"/>
                  <a:pt x="2189259" y="405959"/>
                  <a:pt x="2202025" y="404743"/>
                </a:cubicBezTo>
                <a:cubicBezTo>
                  <a:pt x="2254751" y="399722"/>
                  <a:pt x="2307772" y="398522"/>
                  <a:pt x="2360645" y="395412"/>
                </a:cubicBezTo>
                <a:cubicBezTo>
                  <a:pt x="2379306" y="392302"/>
                  <a:pt x="2398508" y="391517"/>
                  <a:pt x="2416629" y="386081"/>
                </a:cubicBezTo>
                <a:cubicBezTo>
                  <a:pt x="2429951" y="382084"/>
                  <a:pt x="2440532" y="371080"/>
                  <a:pt x="2453951" y="367420"/>
                </a:cubicBezTo>
                <a:cubicBezTo>
                  <a:pt x="2475169" y="361634"/>
                  <a:pt x="2497529" y="361434"/>
                  <a:pt x="2519266" y="358090"/>
                </a:cubicBezTo>
                <a:cubicBezTo>
                  <a:pt x="2570984" y="350134"/>
                  <a:pt x="2573387" y="349131"/>
                  <a:pt x="2621902" y="339428"/>
                </a:cubicBezTo>
                <a:cubicBezTo>
                  <a:pt x="2646784" y="342538"/>
                  <a:pt x="2671724" y="352305"/>
                  <a:pt x="2696547" y="348759"/>
                </a:cubicBezTo>
                <a:cubicBezTo>
                  <a:pt x="2717201" y="345808"/>
                  <a:pt x="2732290" y="325827"/>
                  <a:pt x="2752531" y="320767"/>
                </a:cubicBezTo>
                <a:cubicBezTo>
                  <a:pt x="2782855" y="313186"/>
                  <a:pt x="2814611" y="312825"/>
                  <a:pt x="2845837" y="311437"/>
                </a:cubicBezTo>
                <a:cubicBezTo>
                  <a:pt x="2954631" y="306602"/>
                  <a:pt x="3063551" y="305216"/>
                  <a:pt x="3172408" y="302106"/>
                </a:cubicBezTo>
                <a:cubicBezTo>
                  <a:pt x="3368517" y="280315"/>
                  <a:pt x="3124880" y="306427"/>
                  <a:pt x="3377682" y="283445"/>
                </a:cubicBezTo>
                <a:cubicBezTo>
                  <a:pt x="3405730" y="280895"/>
                  <a:pt x="3433665" y="277224"/>
                  <a:pt x="3461657" y="274114"/>
                </a:cubicBezTo>
                <a:cubicBezTo>
                  <a:pt x="3483429" y="264783"/>
                  <a:pt x="3503512" y="249395"/>
                  <a:pt x="3526972" y="246122"/>
                </a:cubicBezTo>
                <a:cubicBezTo>
                  <a:pt x="3638249" y="230595"/>
                  <a:pt x="3862874" y="218130"/>
                  <a:pt x="3862874" y="218130"/>
                </a:cubicBezTo>
                <a:cubicBezTo>
                  <a:pt x="3928123" y="205081"/>
                  <a:pt x="3921457" y="207933"/>
                  <a:pt x="4002833" y="180808"/>
                </a:cubicBezTo>
                <a:cubicBezTo>
                  <a:pt x="4074685" y="156857"/>
                  <a:pt x="4149695" y="140034"/>
                  <a:pt x="4217437" y="106163"/>
                </a:cubicBezTo>
                <a:cubicBezTo>
                  <a:pt x="4236098" y="96832"/>
                  <a:pt x="4253628" y="84769"/>
                  <a:pt x="4273421" y="78171"/>
                </a:cubicBezTo>
                <a:cubicBezTo>
                  <a:pt x="4309918" y="66005"/>
                  <a:pt x="4348342" y="60552"/>
                  <a:pt x="4385388" y="50179"/>
                </a:cubicBezTo>
                <a:cubicBezTo>
                  <a:pt x="4564600" y="0"/>
                  <a:pt x="4444947" y="18002"/>
                  <a:pt x="4618653" y="3526"/>
                </a:cubicBezTo>
                <a:lnTo>
                  <a:pt x="5421086" y="12857"/>
                </a:lnTo>
                <a:cubicBezTo>
                  <a:pt x="5474041" y="13885"/>
                  <a:pt x="5527090" y="16117"/>
                  <a:pt x="5579706" y="22188"/>
                </a:cubicBezTo>
                <a:cubicBezTo>
                  <a:pt x="5600452" y="24582"/>
                  <a:pt x="5661459" y="38093"/>
                  <a:pt x="5691674" y="50179"/>
                </a:cubicBezTo>
                <a:cubicBezTo>
                  <a:pt x="5729215" y="65195"/>
                  <a:pt x="5765783" y="82635"/>
                  <a:pt x="5803641" y="96832"/>
                </a:cubicBezTo>
                <a:cubicBezTo>
                  <a:pt x="5828523" y="106163"/>
                  <a:pt x="5852419" y="118737"/>
                  <a:pt x="5878286" y="124824"/>
                </a:cubicBezTo>
                <a:cubicBezTo>
                  <a:pt x="5905701" y="131275"/>
                  <a:pt x="5934269" y="131045"/>
                  <a:pt x="5962261" y="134155"/>
                </a:cubicBezTo>
                <a:cubicBezTo>
                  <a:pt x="5987143" y="140375"/>
                  <a:pt x="6012753" y="144190"/>
                  <a:pt x="6036906" y="152816"/>
                </a:cubicBezTo>
                <a:cubicBezTo>
                  <a:pt x="6194312" y="209032"/>
                  <a:pt x="6017362" y="161925"/>
                  <a:pt x="6130212" y="190139"/>
                </a:cubicBezTo>
                <a:cubicBezTo>
                  <a:pt x="6145763" y="199469"/>
                  <a:pt x="6162108" y="207589"/>
                  <a:pt x="6176866" y="218130"/>
                </a:cubicBezTo>
                <a:cubicBezTo>
                  <a:pt x="6184025" y="223243"/>
                  <a:pt x="6188658" y="231296"/>
                  <a:pt x="6195527" y="236792"/>
                </a:cubicBezTo>
                <a:cubicBezTo>
                  <a:pt x="6204284" y="243797"/>
                  <a:pt x="6214188" y="249233"/>
                  <a:pt x="6223519" y="255453"/>
                </a:cubicBezTo>
                <a:cubicBezTo>
                  <a:pt x="6251511" y="292775"/>
                  <a:pt x="6283987" y="327122"/>
                  <a:pt x="6307494" y="367420"/>
                </a:cubicBezTo>
                <a:lnTo>
                  <a:pt x="6372808" y="479388"/>
                </a:lnTo>
                <a:cubicBezTo>
                  <a:pt x="6375918" y="494939"/>
                  <a:pt x="6378292" y="510656"/>
                  <a:pt x="6382139" y="526041"/>
                </a:cubicBezTo>
                <a:cubicBezTo>
                  <a:pt x="6384524" y="535582"/>
                  <a:pt x="6391470" y="544197"/>
                  <a:pt x="6391470" y="554032"/>
                </a:cubicBezTo>
                <a:cubicBezTo>
                  <a:pt x="6391470" y="920640"/>
                  <a:pt x="6386308" y="711260"/>
                  <a:pt x="6372808" y="927257"/>
                </a:cubicBezTo>
                <a:cubicBezTo>
                  <a:pt x="6368729" y="992518"/>
                  <a:pt x="6369776" y="1058116"/>
                  <a:pt x="6363478" y="1123200"/>
                </a:cubicBezTo>
                <a:cubicBezTo>
                  <a:pt x="6357336" y="1186665"/>
                  <a:pt x="6344691" y="1216885"/>
                  <a:pt x="6326155" y="1272490"/>
                </a:cubicBezTo>
                <a:cubicBezTo>
                  <a:pt x="6323045" y="1350245"/>
                  <a:pt x="6322001" y="1428110"/>
                  <a:pt x="6316825" y="1505755"/>
                </a:cubicBezTo>
                <a:cubicBezTo>
                  <a:pt x="6313891" y="1549763"/>
                  <a:pt x="6299789" y="1564568"/>
                  <a:pt x="6288833" y="1608392"/>
                </a:cubicBezTo>
                <a:cubicBezTo>
                  <a:pt x="6284245" y="1626746"/>
                  <a:pt x="6283606" y="1645907"/>
                  <a:pt x="6279502" y="1664375"/>
                </a:cubicBezTo>
                <a:cubicBezTo>
                  <a:pt x="6277368" y="1673976"/>
                  <a:pt x="6272306" y="1682766"/>
                  <a:pt x="6270172" y="1692367"/>
                </a:cubicBezTo>
                <a:cubicBezTo>
                  <a:pt x="6266068" y="1710835"/>
                  <a:pt x="6265904" y="1730122"/>
                  <a:pt x="6260841" y="1748351"/>
                </a:cubicBezTo>
                <a:cubicBezTo>
                  <a:pt x="6250312" y="1786257"/>
                  <a:pt x="6231235" y="1821741"/>
                  <a:pt x="6223519" y="1860318"/>
                </a:cubicBezTo>
                <a:cubicBezTo>
                  <a:pt x="6220409" y="1875869"/>
                  <a:pt x="6216284" y="1891251"/>
                  <a:pt x="6214188" y="1906971"/>
                </a:cubicBezTo>
                <a:cubicBezTo>
                  <a:pt x="6210057" y="1937954"/>
                  <a:pt x="6211886" y="1969820"/>
                  <a:pt x="6204857" y="2000277"/>
                </a:cubicBezTo>
                <a:cubicBezTo>
                  <a:pt x="6202335" y="2011204"/>
                  <a:pt x="6192416" y="2018938"/>
                  <a:pt x="6186196" y="2028269"/>
                </a:cubicBezTo>
                <a:cubicBezTo>
                  <a:pt x="6183086" y="2046930"/>
                  <a:pt x="6182849" y="2066305"/>
                  <a:pt x="6176866" y="2084253"/>
                </a:cubicBezTo>
                <a:cubicBezTo>
                  <a:pt x="6173320" y="2094892"/>
                  <a:pt x="6161426" y="2101504"/>
                  <a:pt x="6158204" y="2112245"/>
                </a:cubicBezTo>
                <a:cubicBezTo>
                  <a:pt x="6151885" y="2133310"/>
                  <a:pt x="6152489" y="2155866"/>
                  <a:pt x="6148874" y="2177559"/>
                </a:cubicBezTo>
                <a:cubicBezTo>
                  <a:pt x="6147101" y="2188200"/>
                  <a:pt x="6135245" y="2248115"/>
                  <a:pt x="6130212" y="2261535"/>
                </a:cubicBezTo>
                <a:cubicBezTo>
                  <a:pt x="6125328" y="2274558"/>
                  <a:pt x="6117771" y="2286416"/>
                  <a:pt x="6111551" y="2298857"/>
                </a:cubicBezTo>
                <a:cubicBezTo>
                  <a:pt x="6108441" y="2317518"/>
                  <a:pt x="6108204" y="2336893"/>
                  <a:pt x="6102221" y="2354841"/>
                </a:cubicBezTo>
                <a:cubicBezTo>
                  <a:pt x="6098675" y="2365479"/>
                  <a:pt x="6088574" y="2372802"/>
                  <a:pt x="6083559" y="2382832"/>
                </a:cubicBezTo>
                <a:cubicBezTo>
                  <a:pt x="6079160" y="2391629"/>
                  <a:pt x="6078103" y="2401784"/>
                  <a:pt x="6074229" y="2410824"/>
                </a:cubicBezTo>
                <a:cubicBezTo>
                  <a:pt x="6068750" y="2423609"/>
                  <a:pt x="6061047" y="2435362"/>
                  <a:pt x="6055568" y="2448147"/>
                </a:cubicBezTo>
                <a:cubicBezTo>
                  <a:pt x="6045642" y="2471309"/>
                  <a:pt x="6045257" y="2492833"/>
                  <a:pt x="6027576" y="2513461"/>
                </a:cubicBezTo>
                <a:cubicBezTo>
                  <a:pt x="6017455" y="2525268"/>
                  <a:pt x="6002694" y="2532122"/>
                  <a:pt x="5990253" y="2541453"/>
                </a:cubicBezTo>
                <a:cubicBezTo>
                  <a:pt x="5984033" y="2553894"/>
                  <a:pt x="5979677" y="2567457"/>
                  <a:pt x="5971592" y="2578775"/>
                </a:cubicBezTo>
                <a:cubicBezTo>
                  <a:pt x="5963922" y="2589513"/>
                  <a:pt x="5950919" y="2595788"/>
                  <a:pt x="5943600" y="2606767"/>
                </a:cubicBezTo>
                <a:cubicBezTo>
                  <a:pt x="5938144" y="2614951"/>
                  <a:pt x="5938144" y="2625719"/>
                  <a:pt x="5934270" y="2634759"/>
                </a:cubicBezTo>
                <a:cubicBezTo>
                  <a:pt x="5917324" y="2674298"/>
                  <a:pt x="5921869" y="2665820"/>
                  <a:pt x="5896947" y="2690743"/>
                </a:cubicBezTo>
                <a:cubicBezTo>
                  <a:pt x="5885650" y="2724636"/>
                  <a:pt x="5887617" y="2708900"/>
                  <a:pt x="5887617" y="2737396"/>
                </a:cubicBezTo>
              </a:path>
            </a:pathLst>
          </a:custGeom>
          <a:noFill/>
          <a:ln w="12600">
            <a:solidFill>
              <a:srgbClr val="ffff66"/>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633" name="フリーフォーム 13"/>
          <p:cNvSpPr/>
          <p:nvPr/>
        </p:nvSpPr>
        <p:spPr>
          <a:xfrm>
            <a:off x="3135240" y="3938760"/>
            <a:ext cx="961920" cy="828360"/>
          </a:xfrm>
          <a:custGeom>
            <a:avLst/>
            <a:gdLst/>
            <a:ahLst/>
            <a:rect l="l" t="t" r="r" b="b"/>
            <a:pathLst>
              <a:path w="961663" h="828864">
                <a:moveTo>
                  <a:pt x="793102" y="828864"/>
                </a:moveTo>
                <a:cubicBezTo>
                  <a:pt x="631371" y="822644"/>
                  <a:pt x="469377" y="821339"/>
                  <a:pt x="307910" y="810203"/>
                </a:cubicBezTo>
                <a:cubicBezTo>
                  <a:pt x="268196" y="807464"/>
                  <a:pt x="237932" y="781694"/>
                  <a:pt x="205273" y="763550"/>
                </a:cubicBezTo>
                <a:cubicBezTo>
                  <a:pt x="193114" y="756795"/>
                  <a:pt x="180110" y="751643"/>
                  <a:pt x="167951" y="744888"/>
                </a:cubicBezTo>
                <a:cubicBezTo>
                  <a:pt x="135693" y="726967"/>
                  <a:pt x="112027" y="712282"/>
                  <a:pt x="83975" y="688905"/>
                </a:cubicBezTo>
                <a:cubicBezTo>
                  <a:pt x="77217" y="683273"/>
                  <a:pt x="71534" y="676464"/>
                  <a:pt x="65314" y="670243"/>
                </a:cubicBezTo>
                <a:cubicBezTo>
                  <a:pt x="62204" y="660913"/>
                  <a:pt x="55983" y="652087"/>
                  <a:pt x="55983" y="642252"/>
                </a:cubicBezTo>
                <a:cubicBezTo>
                  <a:pt x="55983" y="555110"/>
                  <a:pt x="57425" y="467778"/>
                  <a:pt x="65314" y="380994"/>
                </a:cubicBezTo>
                <a:cubicBezTo>
                  <a:pt x="66830" y="364314"/>
                  <a:pt x="74684" y="348277"/>
                  <a:pt x="83975" y="334341"/>
                </a:cubicBezTo>
                <a:cubicBezTo>
                  <a:pt x="198594" y="162413"/>
                  <a:pt x="119944" y="291833"/>
                  <a:pt x="186612" y="213043"/>
                </a:cubicBezTo>
                <a:cubicBezTo>
                  <a:pt x="212340" y="182637"/>
                  <a:pt x="239164" y="152878"/>
                  <a:pt x="261257" y="119737"/>
                </a:cubicBezTo>
                <a:cubicBezTo>
                  <a:pt x="267477" y="110406"/>
                  <a:pt x="271989" y="99674"/>
                  <a:pt x="279918" y="91745"/>
                </a:cubicBezTo>
                <a:cubicBezTo>
                  <a:pt x="293105" y="78558"/>
                  <a:pt x="330597" y="61741"/>
                  <a:pt x="345232" y="54423"/>
                </a:cubicBezTo>
                <a:cubicBezTo>
                  <a:pt x="617044" y="67065"/>
                  <a:pt x="660483" y="0"/>
                  <a:pt x="802432" y="110407"/>
                </a:cubicBezTo>
                <a:cubicBezTo>
                  <a:pt x="818778" y="123121"/>
                  <a:pt x="849190" y="158807"/>
                  <a:pt x="858416" y="175721"/>
                </a:cubicBezTo>
                <a:cubicBezTo>
                  <a:pt x="869758" y="196515"/>
                  <a:pt x="876268" y="219629"/>
                  <a:pt x="886408" y="241035"/>
                </a:cubicBezTo>
                <a:cubicBezTo>
                  <a:pt x="904271" y="278746"/>
                  <a:pt x="942392" y="353003"/>
                  <a:pt x="942392" y="353003"/>
                </a:cubicBezTo>
                <a:cubicBezTo>
                  <a:pt x="959855" y="457789"/>
                  <a:pt x="961663" y="444339"/>
                  <a:pt x="942392" y="604929"/>
                </a:cubicBezTo>
                <a:cubicBezTo>
                  <a:pt x="940735" y="618739"/>
                  <a:pt x="931446" y="630679"/>
                  <a:pt x="923730" y="642252"/>
                </a:cubicBezTo>
                <a:cubicBezTo>
                  <a:pt x="912683" y="658822"/>
                  <a:pt x="900490" y="674823"/>
                  <a:pt x="886408" y="688905"/>
                </a:cubicBezTo>
                <a:cubicBezTo>
                  <a:pt x="865700" y="709613"/>
                  <a:pt x="826126" y="730079"/>
                  <a:pt x="802432" y="744888"/>
                </a:cubicBezTo>
                <a:cubicBezTo>
                  <a:pt x="792923" y="750831"/>
                  <a:pt x="784748" y="759133"/>
                  <a:pt x="774441" y="763550"/>
                </a:cubicBezTo>
                <a:cubicBezTo>
                  <a:pt x="762654" y="768602"/>
                  <a:pt x="749559" y="769770"/>
                  <a:pt x="737118" y="772880"/>
                </a:cubicBezTo>
                <a:lnTo>
                  <a:pt x="270587" y="763550"/>
                </a:lnTo>
                <a:cubicBezTo>
                  <a:pt x="228644" y="761997"/>
                  <a:pt x="238462" y="752152"/>
                  <a:pt x="205273" y="735558"/>
                </a:cubicBezTo>
                <a:cubicBezTo>
                  <a:pt x="190292" y="728068"/>
                  <a:pt x="173925" y="723699"/>
                  <a:pt x="158620" y="716897"/>
                </a:cubicBezTo>
                <a:cubicBezTo>
                  <a:pt x="145910" y="711248"/>
                  <a:pt x="133739" y="704456"/>
                  <a:pt x="121298" y="698235"/>
                </a:cubicBezTo>
                <a:cubicBezTo>
                  <a:pt x="75829" y="630034"/>
                  <a:pt x="136345" y="710775"/>
                  <a:pt x="65314" y="651582"/>
                </a:cubicBezTo>
                <a:cubicBezTo>
                  <a:pt x="56699" y="644403"/>
                  <a:pt x="53171" y="632715"/>
                  <a:pt x="46653" y="623590"/>
                </a:cubicBezTo>
                <a:cubicBezTo>
                  <a:pt x="37614" y="610936"/>
                  <a:pt x="27992" y="598709"/>
                  <a:pt x="18661" y="586268"/>
                </a:cubicBezTo>
                <a:cubicBezTo>
                  <a:pt x="14260" y="573066"/>
                  <a:pt x="0" y="532673"/>
                  <a:pt x="0" y="520954"/>
                </a:cubicBezTo>
                <a:cubicBezTo>
                  <a:pt x="0" y="483502"/>
                  <a:pt x="4685" y="446149"/>
                  <a:pt x="9330" y="408986"/>
                </a:cubicBezTo>
                <a:cubicBezTo>
                  <a:pt x="10921" y="396261"/>
                  <a:pt x="12433" y="382874"/>
                  <a:pt x="18661" y="371664"/>
                </a:cubicBezTo>
                <a:cubicBezTo>
                  <a:pt x="51594" y="312384"/>
                  <a:pt x="55488" y="338111"/>
                  <a:pt x="93306" y="287688"/>
                </a:cubicBezTo>
                <a:lnTo>
                  <a:pt x="121298" y="250366"/>
                </a:lnTo>
                <a:cubicBezTo>
                  <a:pt x="124408" y="241035"/>
                  <a:pt x="125568" y="230808"/>
                  <a:pt x="130628" y="222374"/>
                </a:cubicBezTo>
                <a:cubicBezTo>
                  <a:pt x="138066" y="209978"/>
                  <a:pt x="166386" y="190500"/>
                  <a:pt x="177281" y="185052"/>
                </a:cubicBezTo>
                <a:cubicBezTo>
                  <a:pt x="186078" y="180653"/>
                  <a:pt x="195816" y="178423"/>
                  <a:pt x="205273" y="175721"/>
                </a:cubicBezTo>
                <a:cubicBezTo>
                  <a:pt x="259911" y="160110"/>
                  <a:pt x="261543" y="164495"/>
                  <a:pt x="335902" y="157060"/>
                </a:cubicBezTo>
                <a:cubicBezTo>
                  <a:pt x="399301" y="135926"/>
                  <a:pt x="354059" y="147729"/>
                  <a:pt x="475861" y="147729"/>
                </a:cubicBezTo>
              </a:path>
            </a:pathLst>
          </a:custGeom>
          <a:noFill/>
          <a:ln w="12600">
            <a:solidFill>
              <a:srgbClr val="ffff66"/>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634" name="フリーフォーム 14"/>
          <p:cNvSpPr/>
          <p:nvPr/>
        </p:nvSpPr>
        <p:spPr>
          <a:xfrm>
            <a:off x="3583080" y="4610160"/>
            <a:ext cx="663480" cy="474480"/>
          </a:xfrm>
          <a:custGeom>
            <a:avLst/>
            <a:gdLst/>
            <a:ahLst/>
            <a:rect l="l" t="t" r="r" b="b"/>
            <a:pathLst>
              <a:path w="664364" h="475862">
                <a:moveTo>
                  <a:pt x="382555" y="475862"/>
                </a:moveTo>
                <a:lnTo>
                  <a:pt x="223935" y="457200"/>
                </a:lnTo>
                <a:cubicBezTo>
                  <a:pt x="192869" y="453748"/>
                  <a:pt x="161279" y="454000"/>
                  <a:pt x="130629" y="447870"/>
                </a:cubicBezTo>
                <a:cubicBezTo>
                  <a:pt x="114205" y="444585"/>
                  <a:pt x="99658" y="435090"/>
                  <a:pt x="83976" y="429209"/>
                </a:cubicBezTo>
                <a:cubicBezTo>
                  <a:pt x="74767" y="425756"/>
                  <a:pt x="65315" y="422988"/>
                  <a:pt x="55984" y="419878"/>
                </a:cubicBezTo>
                <a:cubicBezTo>
                  <a:pt x="9370" y="349958"/>
                  <a:pt x="26991" y="384718"/>
                  <a:pt x="0" y="317241"/>
                </a:cubicBezTo>
                <a:cubicBezTo>
                  <a:pt x="875" y="310242"/>
                  <a:pt x="8388" y="225821"/>
                  <a:pt x="18661" y="205274"/>
                </a:cubicBezTo>
                <a:cubicBezTo>
                  <a:pt x="25616" y="191365"/>
                  <a:pt x="37735" y="180691"/>
                  <a:pt x="46653" y="167951"/>
                </a:cubicBezTo>
                <a:cubicBezTo>
                  <a:pt x="59515" y="149577"/>
                  <a:pt x="65315" y="124409"/>
                  <a:pt x="83976" y="111968"/>
                </a:cubicBezTo>
                <a:cubicBezTo>
                  <a:pt x="102637" y="99527"/>
                  <a:pt x="124100" y="90504"/>
                  <a:pt x="139959" y="74645"/>
                </a:cubicBezTo>
                <a:cubicBezTo>
                  <a:pt x="154042" y="60563"/>
                  <a:pt x="175532" y="35414"/>
                  <a:pt x="195943" y="27992"/>
                </a:cubicBezTo>
                <a:cubicBezTo>
                  <a:pt x="235285" y="13686"/>
                  <a:pt x="284870" y="6951"/>
                  <a:pt x="326572" y="0"/>
                </a:cubicBezTo>
                <a:cubicBezTo>
                  <a:pt x="385209" y="8377"/>
                  <a:pt x="394411" y="5718"/>
                  <a:pt x="447869" y="27992"/>
                </a:cubicBezTo>
                <a:cubicBezTo>
                  <a:pt x="577439" y="81980"/>
                  <a:pt x="453518" y="39205"/>
                  <a:pt x="531845" y="65315"/>
                </a:cubicBezTo>
                <a:cubicBezTo>
                  <a:pt x="544286" y="74646"/>
                  <a:pt x="558171" y="82311"/>
                  <a:pt x="569167" y="93307"/>
                </a:cubicBezTo>
                <a:cubicBezTo>
                  <a:pt x="580163" y="104303"/>
                  <a:pt x="587203" y="118683"/>
                  <a:pt x="597159" y="130629"/>
                </a:cubicBezTo>
                <a:cubicBezTo>
                  <a:pt x="602791" y="137387"/>
                  <a:pt x="609600" y="143070"/>
                  <a:pt x="615821" y="149290"/>
                </a:cubicBezTo>
                <a:cubicBezTo>
                  <a:pt x="657541" y="232732"/>
                  <a:pt x="644346" y="197544"/>
                  <a:pt x="662474" y="251927"/>
                </a:cubicBezTo>
                <a:cubicBezTo>
                  <a:pt x="659364" y="283029"/>
                  <a:pt x="664364" y="316059"/>
                  <a:pt x="653143" y="345233"/>
                </a:cubicBezTo>
                <a:cubicBezTo>
                  <a:pt x="647561" y="359747"/>
                  <a:pt x="629730" y="366270"/>
                  <a:pt x="615821" y="373225"/>
                </a:cubicBezTo>
                <a:cubicBezTo>
                  <a:pt x="604351" y="378960"/>
                  <a:pt x="590829" y="379033"/>
                  <a:pt x="578498" y="382556"/>
                </a:cubicBezTo>
                <a:cubicBezTo>
                  <a:pt x="511556" y="401682"/>
                  <a:pt x="598696" y="382248"/>
                  <a:pt x="503853" y="401217"/>
                </a:cubicBezTo>
                <a:cubicBezTo>
                  <a:pt x="286907" y="394437"/>
                  <a:pt x="269758" y="451156"/>
                  <a:pt x="167951" y="363894"/>
                </a:cubicBezTo>
                <a:cubicBezTo>
                  <a:pt x="157932" y="355306"/>
                  <a:pt x="149290" y="345233"/>
                  <a:pt x="139959" y="335902"/>
                </a:cubicBezTo>
                <a:cubicBezTo>
                  <a:pt x="110988" y="248989"/>
                  <a:pt x="109351" y="267629"/>
                  <a:pt x="130629" y="139960"/>
                </a:cubicBezTo>
                <a:cubicBezTo>
                  <a:pt x="132473" y="128899"/>
                  <a:pt x="140675" y="119147"/>
                  <a:pt x="149290" y="111968"/>
                </a:cubicBezTo>
                <a:cubicBezTo>
                  <a:pt x="159975" y="103064"/>
                  <a:pt x="174536" y="100208"/>
                  <a:pt x="186612" y="93307"/>
                </a:cubicBezTo>
                <a:cubicBezTo>
                  <a:pt x="236730" y="64668"/>
                  <a:pt x="190624" y="80639"/>
                  <a:pt x="251927" y="65315"/>
                </a:cubicBezTo>
                <a:cubicBezTo>
                  <a:pt x="291533" y="45512"/>
                  <a:pt x="284225" y="45793"/>
                  <a:pt x="326572" y="37323"/>
                </a:cubicBezTo>
                <a:cubicBezTo>
                  <a:pt x="345123" y="33613"/>
                  <a:pt x="382555" y="27992"/>
                  <a:pt x="382555" y="27992"/>
                </a:cubicBezTo>
              </a:path>
            </a:pathLst>
          </a:custGeom>
          <a:noFill/>
          <a:ln w="12600">
            <a:solidFill>
              <a:srgbClr val="fcccf5"/>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635" name="フリーフォーム 15"/>
          <p:cNvSpPr/>
          <p:nvPr/>
        </p:nvSpPr>
        <p:spPr>
          <a:xfrm>
            <a:off x="3946680" y="4897440"/>
            <a:ext cx="544320" cy="312840"/>
          </a:xfrm>
          <a:custGeom>
            <a:avLst/>
            <a:gdLst/>
            <a:ahLst/>
            <a:rect l="l" t="t" r="r" b="b"/>
            <a:pathLst>
              <a:path w="544202" h="312695">
                <a:moveTo>
                  <a:pt x="354563" y="271260"/>
                </a:moveTo>
                <a:cubicBezTo>
                  <a:pt x="345232" y="274370"/>
                  <a:pt x="336358" y="281570"/>
                  <a:pt x="326571" y="280591"/>
                </a:cubicBezTo>
                <a:cubicBezTo>
                  <a:pt x="304041" y="278338"/>
                  <a:pt x="281870" y="271300"/>
                  <a:pt x="261257" y="261930"/>
                </a:cubicBezTo>
                <a:cubicBezTo>
                  <a:pt x="247100" y="255495"/>
                  <a:pt x="236589" y="242977"/>
                  <a:pt x="223935" y="233938"/>
                </a:cubicBezTo>
                <a:cubicBezTo>
                  <a:pt x="214810" y="227420"/>
                  <a:pt x="205746" y="220723"/>
                  <a:pt x="195943" y="215277"/>
                </a:cubicBezTo>
                <a:cubicBezTo>
                  <a:pt x="177705" y="205145"/>
                  <a:pt x="158620" y="196616"/>
                  <a:pt x="139959" y="187285"/>
                </a:cubicBezTo>
                <a:cubicBezTo>
                  <a:pt x="129200" y="155005"/>
                  <a:pt x="120254" y="142719"/>
                  <a:pt x="139959" y="103309"/>
                </a:cubicBezTo>
                <a:cubicBezTo>
                  <a:pt x="144974" y="93279"/>
                  <a:pt x="157703" y="89202"/>
                  <a:pt x="167951" y="84648"/>
                </a:cubicBezTo>
                <a:cubicBezTo>
                  <a:pt x="185926" y="76659"/>
                  <a:pt x="205274" y="72207"/>
                  <a:pt x="223935" y="65987"/>
                </a:cubicBezTo>
                <a:cubicBezTo>
                  <a:pt x="233266" y="62877"/>
                  <a:pt x="243743" y="62112"/>
                  <a:pt x="251927" y="56656"/>
                </a:cubicBezTo>
                <a:cubicBezTo>
                  <a:pt x="336909" y="0"/>
                  <a:pt x="268716" y="38504"/>
                  <a:pt x="485192" y="28664"/>
                </a:cubicBezTo>
                <a:cubicBezTo>
                  <a:pt x="491412" y="41105"/>
                  <a:pt x="496481" y="54192"/>
                  <a:pt x="503853" y="65987"/>
                </a:cubicBezTo>
                <a:cubicBezTo>
                  <a:pt x="544202" y="130545"/>
                  <a:pt x="522845" y="76306"/>
                  <a:pt x="541175" y="131301"/>
                </a:cubicBezTo>
                <a:cubicBezTo>
                  <a:pt x="537092" y="159884"/>
                  <a:pt x="540560" y="202706"/>
                  <a:pt x="513184" y="224607"/>
                </a:cubicBezTo>
                <a:cubicBezTo>
                  <a:pt x="505504" y="230751"/>
                  <a:pt x="494776" y="231726"/>
                  <a:pt x="485192" y="233938"/>
                </a:cubicBezTo>
                <a:cubicBezTo>
                  <a:pt x="454286" y="241070"/>
                  <a:pt x="422988" y="246379"/>
                  <a:pt x="391886" y="252599"/>
                </a:cubicBezTo>
                <a:lnTo>
                  <a:pt x="345233" y="261930"/>
                </a:lnTo>
                <a:cubicBezTo>
                  <a:pt x="242596" y="258820"/>
                  <a:pt x="139651" y="261127"/>
                  <a:pt x="37322" y="252599"/>
                </a:cubicBezTo>
                <a:cubicBezTo>
                  <a:pt x="26147" y="251668"/>
                  <a:pt x="15551" y="243268"/>
                  <a:pt x="9331" y="233938"/>
                </a:cubicBezTo>
                <a:cubicBezTo>
                  <a:pt x="2218" y="223268"/>
                  <a:pt x="3110" y="209056"/>
                  <a:pt x="0" y="196615"/>
                </a:cubicBezTo>
                <a:cubicBezTo>
                  <a:pt x="3489" y="175683"/>
                  <a:pt x="3393" y="129040"/>
                  <a:pt x="27992" y="112640"/>
                </a:cubicBezTo>
                <a:cubicBezTo>
                  <a:pt x="38662" y="105527"/>
                  <a:pt x="52640" y="105259"/>
                  <a:pt x="65314" y="103309"/>
                </a:cubicBezTo>
                <a:cubicBezTo>
                  <a:pt x="131804" y="93080"/>
                  <a:pt x="227366" y="88774"/>
                  <a:pt x="289249" y="84648"/>
                </a:cubicBezTo>
                <a:cubicBezTo>
                  <a:pt x="351453" y="87758"/>
                  <a:pt x="430581" y="51215"/>
                  <a:pt x="475861" y="93979"/>
                </a:cubicBezTo>
                <a:cubicBezTo>
                  <a:pt x="512321" y="128413"/>
                  <a:pt x="468079" y="194312"/>
                  <a:pt x="457200" y="243268"/>
                </a:cubicBezTo>
                <a:cubicBezTo>
                  <a:pt x="455292" y="251856"/>
                  <a:pt x="446407" y="257996"/>
                  <a:pt x="438539" y="261930"/>
                </a:cubicBezTo>
                <a:cubicBezTo>
                  <a:pt x="420945" y="270727"/>
                  <a:pt x="401216" y="274371"/>
                  <a:pt x="382555" y="280591"/>
                </a:cubicBezTo>
                <a:lnTo>
                  <a:pt x="354563" y="289921"/>
                </a:lnTo>
                <a:cubicBezTo>
                  <a:pt x="179752" y="260787"/>
                  <a:pt x="211992" y="312695"/>
                  <a:pt x="177282" y="243268"/>
                </a:cubicBezTo>
              </a:path>
            </a:pathLst>
          </a:custGeom>
          <a:noFill/>
          <a:ln w="12600">
            <a:solidFill>
              <a:srgbClr val="f2c74c"/>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636" name="フリーフォーム 16"/>
          <p:cNvSpPr/>
          <p:nvPr/>
        </p:nvSpPr>
        <p:spPr>
          <a:xfrm>
            <a:off x="503280" y="554040"/>
            <a:ext cx="6410160" cy="3989520"/>
          </a:xfrm>
          <a:custGeom>
            <a:avLst/>
            <a:gdLst/>
            <a:ahLst/>
            <a:rect l="l" t="t" r="r" b="b"/>
            <a:pathLst>
              <a:path w="6410131" h="3990033">
                <a:moveTo>
                  <a:pt x="3452327" y="3840743"/>
                </a:moveTo>
                <a:cubicBezTo>
                  <a:pt x="3338821" y="3878580"/>
                  <a:pt x="3405190" y="3859405"/>
                  <a:pt x="3144416" y="3859405"/>
                </a:cubicBezTo>
                <a:cubicBezTo>
                  <a:pt x="2914240" y="3859405"/>
                  <a:pt x="2684106" y="3853184"/>
                  <a:pt x="2453951" y="3850074"/>
                </a:cubicBezTo>
                <a:lnTo>
                  <a:pt x="2174033" y="3803421"/>
                </a:lnTo>
                <a:cubicBezTo>
                  <a:pt x="2145809" y="3798355"/>
                  <a:pt x="2118225" y="3790125"/>
                  <a:pt x="2090057" y="3784760"/>
                </a:cubicBezTo>
                <a:cubicBezTo>
                  <a:pt x="2052888" y="3777680"/>
                  <a:pt x="2015246" y="3773243"/>
                  <a:pt x="1978090" y="3766098"/>
                </a:cubicBezTo>
                <a:cubicBezTo>
                  <a:pt x="1701132" y="3712837"/>
                  <a:pt x="1945693" y="3754480"/>
                  <a:pt x="1791478" y="3728776"/>
                </a:cubicBezTo>
                <a:cubicBezTo>
                  <a:pt x="1751045" y="3710115"/>
                  <a:pt x="1711420" y="3689594"/>
                  <a:pt x="1670180" y="3672792"/>
                </a:cubicBezTo>
                <a:cubicBezTo>
                  <a:pt x="1534904" y="3617680"/>
                  <a:pt x="1569409" y="3649093"/>
                  <a:pt x="1474237" y="3588817"/>
                </a:cubicBezTo>
                <a:cubicBezTo>
                  <a:pt x="1402087" y="3543122"/>
                  <a:pt x="1315213" y="3513701"/>
                  <a:pt x="1259633" y="3448858"/>
                </a:cubicBezTo>
                <a:cubicBezTo>
                  <a:pt x="1034141" y="3185785"/>
                  <a:pt x="1261196" y="3431565"/>
                  <a:pt x="1035698" y="3234254"/>
                </a:cubicBezTo>
                <a:cubicBezTo>
                  <a:pt x="1020711" y="3221140"/>
                  <a:pt x="1013497" y="3200561"/>
                  <a:pt x="998376" y="3187601"/>
                </a:cubicBezTo>
                <a:cubicBezTo>
                  <a:pt x="969551" y="3162894"/>
                  <a:pt x="933802" y="3147101"/>
                  <a:pt x="905069" y="3122286"/>
                </a:cubicBezTo>
                <a:cubicBezTo>
                  <a:pt x="865123" y="3087787"/>
                  <a:pt x="833177" y="3044669"/>
                  <a:pt x="793102" y="3010319"/>
                </a:cubicBezTo>
                <a:cubicBezTo>
                  <a:pt x="767559" y="2988425"/>
                  <a:pt x="733647" y="2977369"/>
                  <a:pt x="709127" y="2954335"/>
                </a:cubicBezTo>
                <a:cubicBezTo>
                  <a:pt x="630568" y="2880537"/>
                  <a:pt x="560148" y="2798525"/>
                  <a:pt x="485192" y="2721070"/>
                </a:cubicBezTo>
                <a:cubicBezTo>
                  <a:pt x="423434" y="2657254"/>
                  <a:pt x="401572" y="2639281"/>
                  <a:pt x="326571" y="2571780"/>
                </a:cubicBezTo>
                <a:cubicBezTo>
                  <a:pt x="298733" y="2546726"/>
                  <a:pt x="265067" y="2527096"/>
                  <a:pt x="242596" y="2497135"/>
                </a:cubicBezTo>
                <a:cubicBezTo>
                  <a:pt x="210708" y="2454619"/>
                  <a:pt x="187990" y="2425766"/>
                  <a:pt x="158620" y="2375837"/>
                </a:cubicBezTo>
                <a:cubicBezTo>
                  <a:pt x="113954" y="2299905"/>
                  <a:pt x="122433" y="2292492"/>
                  <a:pt x="83976" y="2207886"/>
                </a:cubicBezTo>
                <a:cubicBezTo>
                  <a:pt x="15398" y="2057015"/>
                  <a:pt x="40221" y="2144832"/>
                  <a:pt x="18661" y="2058596"/>
                </a:cubicBezTo>
                <a:cubicBezTo>
                  <a:pt x="15278" y="2028146"/>
                  <a:pt x="0" y="1895734"/>
                  <a:pt x="0" y="1871984"/>
                </a:cubicBezTo>
                <a:cubicBezTo>
                  <a:pt x="0" y="1744428"/>
                  <a:pt x="4429" y="1616891"/>
                  <a:pt x="9331" y="1489429"/>
                </a:cubicBezTo>
                <a:cubicBezTo>
                  <a:pt x="12451" y="1408321"/>
                  <a:pt x="30244" y="1289042"/>
                  <a:pt x="55984" y="1218841"/>
                </a:cubicBezTo>
                <a:cubicBezTo>
                  <a:pt x="90838" y="1123784"/>
                  <a:pt x="112970" y="1124891"/>
                  <a:pt x="158620" y="1060221"/>
                </a:cubicBezTo>
                <a:cubicBezTo>
                  <a:pt x="184488" y="1023575"/>
                  <a:pt x="205620" y="983578"/>
                  <a:pt x="233265" y="948254"/>
                </a:cubicBezTo>
                <a:cubicBezTo>
                  <a:pt x="261761" y="911842"/>
                  <a:pt x="298485" y="882345"/>
                  <a:pt x="326571" y="845617"/>
                </a:cubicBezTo>
                <a:cubicBezTo>
                  <a:pt x="339245" y="829043"/>
                  <a:pt x="339209" y="803759"/>
                  <a:pt x="354563" y="789633"/>
                </a:cubicBezTo>
                <a:cubicBezTo>
                  <a:pt x="416042" y="733072"/>
                  <a:pt x="622427" y="568109"/>
                  <a:pt x="727788" y="547037"/>
                </a:cubicBezTo>
                <a:cubicBezTo>
                  <a:pt x="1009202" y="490755"/>
                  <a:pt x="658554" y="562422"/>
                  <a:pt x="895739" y="509715"/>
                </a:cubicBezTo>
                <a:cubicBezTo>
                  <a:pt x="926702" y="502834"/>
                  <a:pt x="958051" y="497792"/>
                  <a:pt x="989045" y="491054"/>
                </a:cubicBezTo>
                <a:cubicBezTo>
                  <a:pt x="1029593" y="482239"/>
                  <a:pt x="1069541" y="470618"/>
                  <a:pt x="1110343" y="463062"/>
                </a:cubicBezTo>
                <a:cubicBezTo>
                  <a:pt x="1153592" y="455053"/>
                  <a:pt x="1197428" y="450621"/>
                  <a:pt x="1240971" y="444401"/>
                </a:cubicBezTo>
                <a:cubicBezTo>
                  <a:pt x="1328630" y="409337"/>
                  <a:pt x="1277632" y="424165"/>
                  <a:pt x="1427584" y="416409"/>
                </a:cubicBezTo>
                <a:lnTo>
                  <a:pt x="1828800" y="397747"/>
                </a:lnTo>
                <a:lnTo>
                  <a:pt x="2425959" y="379086"/>
                </a:lnTo>
                <a:cubicBezTo>
                  <a:pt x="2519265" y="382196"/>
                  <a:pt x="2612520" y="388417"/>
                  <a:pt x="2705878" y="388417"/>
                </a:cubicBezTo>
                <a:cubicBezTo>
                  <a:pt x="2755738" y="388417"/>
                  <a:pt x="2805331" y="380643"/>
                  <a:pt x="2855167" y="379086"/>
                </a:cubicBezTo>
                <a:cubicBezTo>
                  <a:pt x="3004417" y="374422"/>
                  <a:pt x="3153747" y="372866"/>
                  <a:pt x="3303037" y="369756"/>
                </a:cubicBezTo>
                <a:lnTo>
                  <a:pt x="5561045" y="379086"/>
                </a:lnTo>
                <a:cubicBezTo>
                  <a:pt x="5599511" y="379692"/>
                  <a:pt x="5635288" y="399533"/>
                  <a:pt x="5673012" y="407078"/>
                </a:cubicBezTo>
                <a:cubicBezTo>
                  <a:pt x="5704114" y="413298"/>
                  <a:pt x="5735412" y="418607"/>
                  <a:pt x="5766318" y="425739"/>
                </a:cubicBezTo>
                <a:cubicBezTo>
                  <a:pt x="5810551" y="435947"/>
                  <a:pt x="5814222" y="453074"/>
                  <a:pt x="5868955" y="472392"/>
                </a:cubicBezTo>
                <a:cubicBezTo>
                  <a:pt x="5895995" y="481936"/>
                  <a:pt x="5924939" y="484833"/>
                  <a:pt x="5952931" y="491054"/>
                </a:cubicBezTo>
                <a:cubicBezTo>
                  <a:pt x="5974702" y="509715"/>
                  <a:pt x="5995854" y="529124"/>
                  <a:pt x="6018245" y="547037"/>
                </a:cubicBezTo>
                <a:cubicBezTo>
                  <a:pt x="6103501" y="615241"/>
                  <a:pt x="5952304" y="472388"/>
                  <a:pt x="6111551" y="621682"/>
                </a:cubicBezTo>
                <a:cubicBezTo>
                  <a:pt x="6140431" y="648757"/>
                  <a:pt x="6167535" y="677666"/>
                  <a:pt x="6195527" y="705658"/>
                </a:cubicBezTo>
                <a:cubicBezTo>
                  <a:pt x="6204857" y="724319"/>
                  <a:pt x="6211945" y="744281"/>
                  <a:pt x="6223518" y="761641"/>
                </a:cubicBezTo>
                <a:cubicBezTo>
                  <a:pt x="6271641" y="833826"/>
                  <a:pt x="6295096" y="851880"/>
                  <a:pt x="6354147" y="910931"/>
                </a:cubicBezTo>
                <a:cubicBezTo>
                  <a:pt x="6359738" y="923976"/>
                  <a:pt x="6399687" y="1012196"/>
                  <a:pt x="6400800" y="1032229"/>
                </a:cubicBezTo>
                <a:cubicBezTo>
                  <a:pt x="6402877" y="1069623"/>
                  <a:pt x="6394579" y="1106874"/>
                  <a:pt x="6391469" y="1144196"/>
                </a:cubicBezTo>
                <a:cubicBezTo>
                  <a:pt x="6394579" y="1203290"/>
                  <a:pt x="6397109" y="1262417"/>
                  <a:pt x="6400800" y="1321478"/>
                </a:cubicBezTo>
                <a:cubicBezTo>
                  <a:pt x="6403330" y="1361951"/>
                  <a:pt x="6410131" y="1402224"/>
                  <a:pt x="6410131" y="1442776"/>
                </a:cubicBezTo>
                <a:cubicBezTo>
                  <a:pt x="6410131" y="1604537"/>
                  <a:pt x="6405700" y="1766282"/>
                  <a:pt x="6400800" y="1927968"/>
                </a:cubicBezTo>
                <a:cubicBezTo>
                  <a:pt x="6396608" y="2066293"/>
                  <a:pt x="6404960" y="2027115"/>
                  <a:pt x="6363478" y="2123911"/>
                </a:cubicBezTo>
                <a:cubicBezTo>
                  <a:pt x="6357257" y="2170564"/>
                  <a:pt x="6351472" y="2217277"/>
                  <a:pt x="6344816" y="2263870"/>
                </a:cubicBezTo>
                <a:cubicBezTo>
                  <a:pt x="6339031" y="2304367"/>
                  <a:pt x="6331229" y="2344576"/>
                  <a:pt x="6326155" y="2385168"/>
                </a:cubicBezTo>
                <a:cubicBezTo>
                  <a:pt x="6321894" y="2419256"/>
                  <a:pt x="6325409" y="2454541"/>
                  <a:pt x="6316825" y="2487805"/>
                </a:cubicBezTo>
                <a:cubicBezTo>
                  <a:pt x="6266954" y="2681056"/>
                  <a:pt x="6273182" y="2637244"/>
                  <a:pt x="6186196" y="2767723"/>
                </a:cubicBezTo>
                <a:cubicBezTo>
                  <a:pt x="6176136" y="2782813"/>
                  <a:pt x="6168561" y="2799489"/>
                  <a:pt x="6158204" y="2814376"/>
                </a:cubicBezTo>
                <a:cubicBezTo>
                  <a:pt x="6118768" y="2871066"/>
                  <a:pt x="6067790" y="2920560"/>
                  <a:pt x="6036906" y="2982327"/>
                </a:cubicBezTo>
                <a:cubicBezTo>
                  <a:pt x="6015548" y="3025042"/>
                  <a:pt x="6011304" y="3041876"/>
                  <a:pt x="5980923" y="3075633"/>
                </a:cubicBezTo>
                <a:cubicBezTo>
                  <a:pt x="5963268" y="3095249"/>
                  <a:pt x="5949443" y="3121816"/>
                  <a:pt x="5924939" y="3131617"/>
                </a:cubicBezTo>
                <a:cubicBezTo>
                  <a:pt x="5884807" y="3147670"/>
                  <a:pt x="5861012" y="3155689"/>
                  <a:pt x="5822302" y="3178270"/>
                </a:cubicBezTo>
                <a:cubicBezTo>
                  <a:pt x="5802929" y="3189571"/>
                  <a:pt x="5785791" y="3204465"/>
                  <a:pt x="5766318" y="3215592"/>
                </a:cubicBezTo>
                <a:cubicBezTo>
                  <a:pt x="5742165" y="3229394"/>
                  <a:pt x="5715029" y="3237803"/>
                  <a:pt x="5691674" y="3252915"/>
                </a:cubicBezTo>
                <a:cubicBezTo>
                  <a:pt x="5550716" y="3344124"/>
                  <a:pt x="5664335" y="3299350"/>
                  <a:pt x="5551714" y="3336890"/>
                </a:cubicBezTo>
                <a:cubicBezTo>
                  <a:pt x="5514996" y="3373610"/>
                  <a:pt x="5546781" y="3347866"/>
                  <a:pt x="5467739" y="3374213"/>
                </a:cubicBezTo>
                <a:cubicBezTo>
                  <a:pt x="5451850" y="3379509"/>
                  <a:pt x="5437129" y="3388061"/>
                  <a:pt x="5421086" y="3392874"/>
                </a:cubicBezTo>
                <a:cubicBezTo>
                  <a:pt x="5394480" y="3400856"/>
                  <a:pt x="5371064" y="3399223"/>
                  <a:pt x="5346441" y="3411535"/>
                </a:cubicBezTo>
                <a:cubicBezTo>
                  <a:pt x="5324013" y="3422749"/>
                  <a:pt x="5303205" y="3436970"/>
                  <a:pt x="5281127" y="3448858"/>
                </a:cubicBezTo>
                <a:cubicBezTo>
                  <a:pt x="5262757" y="3458750"/>
                  <a:pt x="5243381" y="3466717"/>
                  <a:pt x="5225143" y="3476849"/>
                </a:cubicBezTo>
                <a:cubicBezTo>
                  <a:pt x="5215340" y="3482295"/>
                  <a:pt x="5207181" y="3490496"/>
                  <a:pt x="5197151" y="3495511"/>
                </a:cubicBezTo>
                <a:cubicBezTo>
                  <a:pt x="5169753" y="3509210"/>
                  <a:pt x="5139874" y="3517816"/>
                  <a:pt x="5113176" y="3532833"/>
                </a:cubicBezTo>
                <a:cubicBezTo>
                  <a:pt x="5089857" y="3545950"/>
                  <a:pt x="5072373" y="3568762"/>
                  <a:pt x="5047861" y="3579486"/>
                </a:cubicBezTo>
                <a:cubicBezTo>
                  <a:pt x="5005607" y="3597972"/>
                  <a:pt x="4934449" y="3599500"/>
                  <a:pt x="4889241" y="3607478"/>
                </a:cubicBezTo>
                <a:cubicBezTo>
                  <a:pt x="4861003" y="3612461"/>
                  <a:pt x="4832775" y="3618048"/>
                  <a:pt x="4805265" y="3626139"/>
                </a:cubicBezTo>
                <a:cubicBezTo>
                  <a:pt x="4779771" y="3633637"/>
                  <a:pt x="4756487" y="3648044"/>
                  <a:pt x="4730620" y="3654131"/>
                </a:cubicBezTo>
                <a:cubicBezTo>
                  <a:pt x="4703205" y="3660582"/>
                  <a:pt x="4674591" y="3659969"/>
                  <a:pt x="4646645" y="3663462"/>
                </a:cubicBezTo>
                <a:cubicBezTo>
                  <a:pt x="4624822" y="3666190"/>
                  <a:pt x="4602969" y="3668858"/>
                  <a:pt x="4581331" y="3672792"/>
                </a:cubicBezTo>
                <a:cubicBezTo>
                  <a:pt x="4508519" y="3686030"/>
                  <a:pt x="4581937" y="3681020"/>
                  <a:pt x="4488025" y="3691454"/>
                </a:cubicBezTo>
                <a:cubicBezTo>
                  <a:pt x="4450802" y="3695590"/>
                  <a:pt x="4413380" y="3697674"/>
                  <a:pt x="4376057" y="3700784"/>
                </a:cubicBezTo>
                <a:cubicBezTo>
                  <a:pt x="4336739" y="3708648"/>
                  <a:pt x="4325193" y="3706702"/>
                  <a:pt x="4292082" y="3728776"/>
                </a:cubicBezTo>
                <a:cubicBezTo>
                  <a:pt x="4217282" y="3778642"/>
                  <a:pt x="4276426" y="3758349"/>
                  <a:pt x="4208106" y="3775429"/>
                </a:cubicBezTo>
                <a:cubicBezTo>
                  <a:pt x="4078353" y="3853282"/>
                  <a:pt x="4241774" y="3758596"/>
                  <a:pt x="4114800" y="3822082"/>
                </a:cubicBezTo>
                <a:cubicBezTo>
                  <a:pt x="4104770" y="3827097"/>
                  <a:pt x="4096544" y="3835179"/>
                  <a:pt x="4086808" y="3840743"/>
                </a:cubicBezTo>
                <a:cubicBezTo>
                  <a:pt x="4074731" y="3847644"/>
                  <a:pt x="4061281" y="3852033"/>
                  <a:pt x="4049486" y="3859405"/>
                </a:cubicBezTo>
                <a:cubicBezTo>
                  <a:pt x="3989784" y="3896719"/>
                  <a:pt x="4031837" y="3874111"/>
                  <a:pt x="3993502" y="3906058"/>
                </a:cubicBezTo>
                <a:cubicBezTo>
                  <a:pt x="3981556" y="3916013"/>
                  <a:pt x="3967987" y="3923929"/>
                  <a:pt x="3956180" y="3934049"/>
                </a:cubicBezTo>
                <a:cubicBezTo>
                  <a:pt x="3946161" y="3942637"/>
                  <a:pt x="3939645" y="3955494"/>
                  <a:pt x="3928188" y="3962041"/>
                </a:cubicBezTo>
                <a:cubicBezTo>
                  <a:pt x="3917054" y="3968403"/>
                  <a:pt x="3902872" y="3966869"/>
                  <a:pt x="3890865" y="3971372"/>
                </a:cubicBezTo>
                <a:cubicBezTo>
                  <a:pt x="3877842" y="3976256"/>
                  <a:pt x="3865984" y="3983813"/>
                  <a:pt x="3853543" y="3990033"/>
                </a:cubicBezTo>
                <a:lnTo>
                  <a:pt x="3433665" y="3971372"/>
                </a:lnTo>
                <a:cubicBezTo>
                  <a:pt x="3393167" y="3969277"/>
                  <a:pt x="3352908" y="3962973"/>
                  <a:pt x="3312367" y="3962041"/>
                </a:cubicBezTo>
                <a:lnTo>
                  <a:pt x="2621902" y="3952711"/>
                </a:lnTo>
                <a:cubicBezTo>
                  <a:pt x="2441365" y="3930143"/>
                  <a:pt x="2628865" y="3955426"/>
                  <a:pt x="2500604" y="3934049"/>
                </a:cubicBezTo>
                <a:cubicBezTo>
                  <a:pt x="2478911" y="3930434"/>
                  <a:pt x="2457027" y="3928063"/>
                  <a:pt x="2435290" y="3924719"/>
                </a:cubicBezTo>
                <a:cubicBezTo>
                  <a:pt x="2416591" y="3921842"/>
                  <a:pt x="2397967" y="3918498"/>
                  <a:pt x="2379306" y="3915388"/>
                </a:cubicBezTo>
                <a:cubicBezTo>
                  <a:pt x="2303433" y="3877452"/>
                  <a:pt x="2361761" y="3905546"/>
                  <a:pt x="2230016" y="3850074"/>
                </a:cubicBezTo>
                <a:lnTo>
                  <a:pt x="2164702" y="3822082"/>
                </a:lnTo>
                <a:cubicBezTo>
                  <a:pt x="2149241" y="3815640"/>
                  <a:pt x="2134399" y="3807054"/>
                  <a:pt x="2118049" y="3803421"/>
                </a:cubicBezTo>
                <a:lnTo>
                  <a:pt x="2034074" y="3784760"/>
                </a:lnTo>
                <a:cubicBezTo>
                  <a:pt x="2006239" y="3766202"/>
                  <a:pt x="1968816" y="3740326"/>
                  <a:pt x="1940767" y="3728776"/>
                </a:cubicBezTo>
                <a:cubicBezTo>
                  <a:pt x="1910741" y="3716413"/>
                  <a:pt x="1877388" y="3713385"/>
                  <a:pt x="1847461" y="3700784"/>
                </a:cubicBezTo>
                <a:cubicBezTo>
                  <a:pt x="1817949" y="3688358"/>
                  <a:pt x="1792127" y="3668451"/>
                  <a:pt x="1763486" y="3654131"/>
                </a:cubicBezTo>
                <a:cubicBezTo>
                  <a:pt x="1754689" y="3649733"/>
                  <a:pt x="1744915" y="3647627"/>
                  <a:pt x="1735494" y="3644801"/>
                </a:cubicBezTo>
                <a:cubicBezTo>
                  <a:pt x="1713806" y="3638295"/>
                  <a:pt x="1691661" y="3633299"/>
                  <a:pt x="1670180" y="3626139"/>
                </a:cubicBezTo>
                <a:cubicBezTo>
                  <a:pt x="1654291" y="3620842"/>
                  <a:pt x="1639209" y="3613359"/>
                  <a:pt x="1623527" y="3607478"/>
                </a:cubicBezTo>
                <a:cubicBezTo>
                  <a:pt x="1614318" y="3604025"/>
                  <a:pt x="1604097" y="3602987"/>
                  <a:pt x="1595535" y="3598147"/>
                </a:cubicBezTo>
                <a:cubicBezTo>
                  <a:pt x="1532383" y="3562452"/>
                  <a:pt x="1473806" y="3518621"/>
                  <a:pt x="1408923" y="3486180"/>
                </a:cubicBezTo>
                <a:cubicBezTo>
                  <a:pt x="1384041" y="3473739"/>
                  <a:pt x="1360476" y="3458214"/>
                  <a:pt x="1334278" y="3448858"/>
                </a:cubicBezTo>
                <a:cubicBezTo>
                  <a:pt x="1316461" y="3442495"/>
                  <a:pt x="1296955" y="3442637"/>
                  <a:pt x="1278294" y="3439527"/>
                </a:cubicBezTo>
                <a:cubicBezTo>
                  <a:pt x="1253412" y="3423976"/>
                  <a:pt x="1226867" y="3410815"/>
                  <a:pt x="1203649" y="3392874"/>
                </a:cubicBezTo>
                <a:cubicBezTo>
                  <a:pt x="1158269" y="3357808"/>
                  <a:pt x="1113571" y="3321460"/>
                  <a:pt x="1073020" y="3280907"/>
                </a:cubicBezTo>
                <a:cubicBezTo>
                  <a:pt x="1066800" y="3274686"/>
                  <a:pt x="1060225" y="3268801"/>
                  <a:pt x="1054359" y="3262245"/>
                </a:cubicBezTo>
                <a:cubicBezTo>
                  <a:pt x="1007341" y="3209696"/>
                  <a:pt x="964260" y="3153485"/>
                  <a:pt x="914400" y="3103625"/>
                </a:cubicBezTo>
                <a:cubicBezTo>
                  <a:pt x="880188" y="3069413"/>
                  <a:pt x="848932" y="3031963"/>
                  <a:pt x="811763" y="3000988"/>
                </a:cubicBezTo>
                <a:cubicBezTo>
                  <a:pt x="793102" y="2985437"/>
                  <a:pt x="773440" y="2971014"/>
                  <a:pt x="755780" y="2954335"/>
                </a:cubicBezTo>
                <a:cubicBezTo>
                  <a:pt x="717407" y="2918094"/>
                  <a:pt x="681135" y="2879691"/>
                  <a:pt x="643812" y="2842368"/>
                </a:cubicBezTo>
                <a:cubicBezTo>
                  <a:pt x="615820" y="2814376"/>
                  <a:pt x="585600" y="2788448"/>
                  <a:pt x="559837" y="2758392"/>
                </a:cubicBezTo>
                <a:cubicBezTo>
                  <a:pt x="522514" y="2714849"/>
                  <a:pt x="484810" y="2671631"/>
                  <a:pt x="447869" y="2627764"/>
                </a:cubicBezTo>
                <a:cubicBezTo>
                  <a:pt x="435041" y="2612531"/>
                  <a:pt x="422851" y="2596771"/>
                  <a:pt x="410547" y="2581111"/>
                </a:cubicBezTo>
                <a:cubicBezTo>
                  <a:pt x="388638" y="2553227"/>
                  <a:pt x="368585" y="2523823"/>
                  <a:pt x="345233" y="2497135"/>
                </a:cubicBezTo>
                <a:lnTo>
                  <a:pt x="279918" y="2422490"/>
                </a:lnTo>
                <a:cubicBezTo>
                  <a:pt x="270588" y="2397608"/>
                  <a:pt x="265241" y="2370842"/>
                  <a:pt x="251927" y="2347845"/>
                </a:cubicBezTo>
                <a:cubicBezTo>
                  <a:pt x="230732" y="2311235"/>
                  <a:pt x="196201" y="2283046"/>
                  <a:pt x="177282" y="2245209"/>
                </a:cubicBezTo>
                <a:cubicBezTo>
                  <a:pt x="129929" y="2150504"/>
                  <a:pt x="155390" y="2193711"/>
                  <a:pt x="102637" y="2114580"/>
                </a:cubicBezTo>
                <a:cubicBezTo>
                  <a:pt x="99527" y="2102139"/>
                  <a:pt x="98514" y="2088976"/>
                  <a:pt x="93306" y="2077258"/>
                </a:cubicBezTo>
                <a:cubicBezTo>
                  <a:pt x="85940" y="2060686"/>
                  <a:pt x="69712" y="2048199"/>
                  <a:pt x="65314" y="2030605"/>
                </a:cubicBezTo>
                <a:cubicBezTo>
                  <a:pt x="56982" y="1997277"/>
                  <a:pt x="59094" y="1962180"/>
                  <a:pt x="55984" y="1927968"/>
                </a:cubicBezTo>
                <a:cubicBezTo>
                  <a:pt x="65315" y="1834662"/>
                  <a:pt x="62167" y="1739249"/>
                  <a:pt x="83976" y="1648049"/>
                </a:cubicBezTo>
                <a:cubicBezTo>
                  <a:pt x="102193" y="1571870"/>
                  <a:pt x="170976" y="1482649"/>
                  <a:pt x="214604" y="1414784"/>
                </a:cubicBezTo>
                <a:cubicBezTo>
                  <a:pt x="224411" y="1399529"/>
                  <a:pt x="232055" y="1382888"/>
                  <a:pt x="242596" y="1368131"/>
                </a:cubicBezTo>
                <a:cubicBezTo>
                  <a:pt x="278751" y="1317513"/>
                  <a:pt x="320058" y="1270598"/>
                  <a:pt x="354563" y="1218841"/>
                </a:cubicBezTo>
                <a:cubicBezTo>
                  <a:pt x="373224" y="1190849"/>
                  <a:pt x="387538" y="1159409"/>
                  <a:pt x="410547" y="1134866"/>
                </a:cubicBezTo>
                <a:cubicBezTo>
                  <a:pt x="434801" y="1108995"/>
                  <a:pt x="470964" y="1096057"/>
                  <a:pt x="494523" y="1069552"/>
                </a:cubicBezTo>
                <a:cubicBezTo>
                  <a:pt x="650406" y="894181"/>
                  <a:pt x="493117" y="1063517"/>
                  <a:pt x="634482" y="929592"/>
                </a:cubicBezTo>
                <a:cubicBezTo>
                  <a:pt x="672799" y="893292"/>
                  <a:pt x="700622" y="843812"/>
                  <a:pt x="746449" y="817625"/>
                </a:cubicBezTo>
                <a:cubicBezTo>
                  <a:pt x="768220" y="805184"/>
                  <a:pt x="789685" y="792191"/>
                  <a:pt x="811763" y="780303"/>
                </a:cubicBezTo>
                <a:cubicBezTo>
                  <a:pt x="830133" y="770411"/>
                  <a:pt x="850554" y="764131"/>
                  <a:pt x="867747" y="752311"/>
                </a:cubicBezTo>
                <a:cubicBezTo>
                  <a:pt x="967512" y="683722"/>
                  <a:pt x="944646" y="676893"/>
                  <a:pt x="1045029" y="621682"/>
                </a:cubicBezTo>
                <a:cubicBezTo>
                  <a:pt x="1077958" y="603571"/>
                  <a:pt x="1114506" y="592714"/>
                  <a:pt x="1147665" y="575029"/>
                </a:cubicBezTo>
                <a:cubicBezTo>
                  <a:pt x="1161387" y="567711"/>
                  <a:pt x="1171336" y="554484"/>
                  <a:pt x="1184988" y="547037"/>
                </a:cubicBezTo>
                <a:cubicBezTo>
                  <a:pt x="1306467" y="480776"/>
                  <a:pt x="1348543" y="464013"/>
                  <a:pt x="1464906" y="416409"/>
                </a:cubicBezTo>
                <a:cubicBezTo>
                  <a:pt x="1485467" y="407998"/>
                  <a:pt x="1660409" y="338947"/>
                  <a:pt x="1670180" y="332433"/>
                </a:cubicBezTo>
                <a:cubicBezTo>
                  <a:pt x="1716821" y="301339"/>
                  <a:pt x="1744285" y="278013"/>
                  <a:pt x="1791478" y="257788"/>
                </a:cubicBezTo>
                <a:cubicBezTo>
                  <a:pt x="1822267" y="244593"/>
                  <a:pt x="1854823" y="235447"/>
                  <a:pt x="1884784" y="220466"/>
                </a:cubicBezTo>
                <a:cubicBezTo>
                  <a:pt x="1911028" y="207344"/>
                  <a:pt x="1932840" y="186221"/>
                  <a:pt x="1959429" y="173813"/>
                </a:cubicBezTo>
                <a:cubicBezTo>
                  <a:pt x="1997984" y="155821"/>
                  <a:pt x="2039966" y="153973"/>
                  <a:pt x="2080727" y="145821"/>
                </a:cubicBezTo>
                <a:cubicBezTo>
                  <a:pt x="2227175" y="116531"/>
                  <a:pt x="2104867" y="135708"/>
                  <a:pt x="2230016" y="117829"/>
                </a:cubicBezTo>
                <a:cubicBezTo>
                  <a:pt x="2406763" y="0"/>
                  <a:pt x="2269819" y="84209"/>
                  <a:pt x="2799184" y="80507"/>
                </a:cubicBezTo>
                <a:lnTo>
                  <a:pt x="4133461" y="71176"/>
                </a:lnTo>
                <a:cubicBezTo>
                  <a:pt x="4419600" y="74286"/>
                  <a:pt x="4705886" y="70812"/>
                  <a:pt x="4991878" y="80507"/>
                </a:cubicBezTo>
                <a:cubicBezTo>
                  <a:pt x="5073233" y="83265"/>
                  <a:pt x="5153497" y="100193"/>
                  <a:pt x="5234474" y="108498"/>
                </a:cubicBezTo>
                <a:cubicBezTo>
                  <a:pt x="5274814" y="112635"/>
                  <a:pt x="5315339" y="114719"/>
                  <a:pt x="5355771" y="117829"/>
                </a:cubicBezTo>
                <a:cubicBezTo>
                  <a:pt x="5387626" y="124200"/>
                  <a:pt x="5429659" y="130601"/>
                  <a:pt x="5458408" y="145821"/>
                </a:cubicBezTo>
                <a:cubicBezTo>
                  <a:pt x="5556092" y="197536"/>
                  <a:pt x="5540063" y="197731"/>
                  <a:pt x="5607698" y="248458"/>
                </a:cubicBezTo>
                <a:cubicBezTo>
                  <a:pt x="5638094" y="271255"/>
                  <a:pt x="5676611" y="291741"/>
                  <a:pt x="5701004" y="323103"/>
                </a:cubicBezTo>
                <a:cubicBezTo>
                  <a:pt x="5714774" y="340806"/>
                  <a:pt x="5723323" y="362416"/>
                  <a:pt x="5738327" y="379086"/>
                </a:cubicBezTo>
                <a:cubicBezTo>
                  <a:pt x="5751650" y="393889"/>
                  <a:pt x="5770244" y="403013"/>
                  <a:pt x="5784980" y="416409"/>
                </a:cubicBezTo>
                <a:cubicBezTo>
                  <a:pt x="5804507" y="434161"/>
                  <a:pt x="5822302" y="453731"/>
                  <a:pt x="5840963" y="472392"/>
                </a:cubicBezTo>
                <a:cubicBezTo>
                  <a:pt x="5859361" y="564376"/>
                  <a:pt x="5838912" y="495951"/>
                  <a:pt x="5924939" y="621682"/>
                </a:cubicBezTo>
                <a:cubicBezTo>
                  <a:pt x="5941508" y="645898"/>
                  <a:pt x="5953768" y="673019"/>
                  <a:pt x="5971592" y="696327"/>
                </a:cubicBezTo>
                <a:cubicBezTo>
                  <a:pt x="5994342" y="726077"/>
                  <a:pt x="6023766" y="750341"/>
                  <a:pt x="6046237" y="780303"/>
                </a:cubicBezTo>
                <a:cubicBezTo>
                  <a:pt x="6120402" y="879190"/>
                  <a:pt x="6050450" y="813109"/>
                  <a:pt x="6111551" y="882939"/>
                </a:cubicBezTo>
                <a:cubicBezTo>
                  <a:pt x="6149091" y="925841"/>
                  <a:pt x="6144030" y="907121"/>
                  <a:pt x="6167535" y="948254"/>
                </a:cubicBezTo>
                <a:cubicBezTo>
                  <a:pt x="6174436" y="960330"/>
                  <a:pt x="6181312" y="972553"/>
                  <a:pt x="6186196" y="985576"/>
                </a:cubicBezTo>
                <a:cubicBezTo>
                  <a:pt x="6205707" y="1037603"/>
                  <a:pt x="6182775" y="1013008"/>
                  <a:pt x="6214188" y="1069552"/>
                </a:cubicBezTo>
                <a:cubicBezTo>
                  <a:pt x="6221740" y="1083146"/>
                  <a:pt x="6232849" y="1094433"/>
                  <a:pt x="6242180" y="1106874"/>
                </a:cubicBezTo>
                <a:cubicBezTo>
                  <a:pt x="6263791" y="1171710"/>
                  <a:pt x="6260841" y="1143187"/>
                  <a:pt x="6260841" y="1190849"/>
                </a:cubicBezTo>
              </a:path>
            </a:pathLst>
          </a:custGeom>
          <a:noFill/>
          <a:ln w="12600">
            <a:solidFill>
              <a:srgbClr val="d9f62a"/>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637" name="フリーフォーム 18"/>
          <p:cNvSpPr/>
          <p:nvPr/>
        </p:nvSpPr>
        <p:spPr>
          <a:xfrm>
            <a:off x="7891560" y="3191040"/>
            <a:ext cx="58680" cy="403200"/>
          </a:xfrm>
          <a:custGeom>
            <a:avLst/>
            <a:gdLst/>
            <a:ahLst/>
            <a:rect l="l" t="t" r="r" b="b"/>
            <a:pathLst>
              <a:path w="59419" h="402302">
                <a:moveTo>
                  <a:pt x="0" y="0"/>
                </a:moveTo>
                <a:cubicBezTo>
                  <a:pt x="12192" y="57912"/>
                  <a:pt x="25400" y="115619"/>
                  <a:pt x="36576" y="173736"/>
                </a:cubicBezTo>
                <a:cubicBezTo>
                  <a:pt x="40646" y="194901"/>
                  <a:pt x="42177" y="216485"/>
                  <a:pt x="45720" y="237744"/>
                </a:cubicBezTo>
                <a:cubicBezTo>
                  <a:pt x="48275" y="253074"/>
                  <a:pt x="51816" y="268224"/>
                  <a:pt x="54864" y="283464"/>
                </a:cubicBezTo>
                <a:cubicBezTo>
                  <a:pt x="45042" y="381686"/>
                  <a:pt x="59419" y="402302"/>
                  <a:pt x="36576" y="356616"/>
                </a:cubicBezTo>
              </a:path>
            </a:pathLst>
          </a:custGeom>
          <a:noFill/>
          <a:ln w="1260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638" name="フリーフォーム 19"/>
          <p:cNvSpPr/>
          <p:nvPr/>
        </p:nvSpPr>
        <p:spPr>
          <a:xfrm>
            <a:off x="7788240" y="3319560"/>
            <a:ext cx="249120" cy="237960"/>
          </a:xfrm>
          <a:custGeom>
            <a:avLst/>
            <a:gdLst/>
            <a:ahLst/>
            <a:rect l="l" t="t" r="r" b="b"/>
            <a:pathLst>
              <a:path w="248579" h="237744">
                <a:moveTo>
                  <a:pt x="248579" y="0"/>
                </a:moveTo>
                <a:cubicBezTo>
                  <a:pt x="239435" y="9144"/>
                  <a:pt x="229032" y="17182"/>
                  <a:pt x="221147" y="27432"/>
                </a:cubicBezTo>
                <a:cubicBezTo>
                  <a:pt x="198462" y="56922"/>
                  <a:pt x="192435" y="107107"/>
                  <a:pt x="157139" y="118872"/>
                </a:cubicBezTo>
                <a:cubicBezTo>
                  <a:pt x="138851" y="124968"/>
                  <a:pt x="118315" y="126467"/>
                  <a:pt x="102275" y="137160"/>
                </a:cubicBezTo>
                <a:cubicBezTo>
                  <a:pt x="64042" y="162649"/>
                  <a:pt x="46838" y="168938"/>
                  <a:pt x="19979" y="201168"/>
                </a:cubicBezTo>
                <a:cubicBezTo>
                  <a:pt x="0" y="225142"/>
                  <a:pt x="1691" y="219273"/>
                  <a:pt x="1691" y="237744"/>
                </a:cubicBezTo>
              </a:path>
            </a:pathLst>
          </a:custGeom>
          <a:noFill/>
          <a:ln w="1260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639" name="フリーフォーム 20"/>
          <p:cNvSpPr/>
          <p:nvPr/>
        </p:nvSpPr>
        <p:spPr>
          <a:xfrm>
            <a:off x="7854840" y="3373560"/>
            <a:ext cx="282600" cy="137880"/>
          </a:xfrm>
          <a:custGeom>
            <a:avLst/>
            <a:gdLst/>
            <a:ahLst/>
            <a:rect l="l" t="t" r="r" b="b"/>
            <a:pathLst>
              <a:path w="283464" h="137160">
                <a:moveTo>
                  <a:pt x="0" y="0"/>
                </a:moveTo>
                <a:cubicBezTo>
                  <a:pt x="51917" y="38938"/>
                  <a:pt x="34516" y="29295"/>
                  <a:pt x="109728" y="64008"/>
                </a:cubicBezTo>
                <a:cubicBezTo>
                  <a:pt x="124631" y="70886"/>
                  <a:pt x="140767" y="74955"/>
                  <a:pt x="155448" y="82296"/>
                </a:cubicBezTo>
                <a:cubicBezTo>
                  <a:pt x="165278" y="87211"/>
                  <a:pt x="173338" y="95132"/>
                  <a:pt x="182880" y="100584"/>
                </a:cubicBezTo>
                <a:cubicBezTo>
                  <a:pt x="207264" y="114518"/>
                  <a:pt x="221241" y="120688"/>
                  <a:pt x="246888" y="128016"/>
                </a:cubicBezTo>
                <a:cubicBezTo>
                  <a:pt x="258972" y="131468"/>
                  <a:pt x="283464" y="137160"/>
                  <a:pt x="283464" y="137160"/>
                </a:cubicBezTo>
              </a:path>
            </a:pathLst>
          </a:custGeom>
          <a:noFill/>
          <a:ln w="1260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640" name="フリーフォーム 21"/>
          <p:cNvSpPr/>
          <p:nvPr/>
        </p:nvSpPr>
        <p:spPr>
          <a:xfrm flipV="1">
            <a:off x="8001000" y="3143160"/>
            <a:ext cx="71280" cy="108000"/>
          </a:xfrm>
          <a:custGeom>
            <a:avLst/>
            <a:gdLst/>
            <a:ahLst/>
            <a:rect l="l" t="t" r="r" b="b"/>
            <a:pathLst>
              <a:path w="113307" h="133637">
                <a:moveTo>
                  <a:pt x="40155" y="112793"/>
                </a:moveTo>
                <a:cubicBezTo>
                  <a:pt x="23391" y="117365"/>
                  <a:pt x="18819" y="103649"/>
                  <a:pt x="12723" y="94505"/>
                </a:cubicBezTo>
                <a:cubicBezTo>
                  <a:pt x="0" y="75420"/>
                  <a:pt x="879" y="29975"/>
                  <a:pt x="12723" y="12209"/>
                </a:cubicBezTo>
                <a:cubicBezTo>
                  <a:pt x="18070" y="4189"/>
                  <a:pt x="31011" y="6113"/>
                  <a:pt x="40155" y="3065"/>
                </a:cubicBezTo>
                <a:cubicBezTo>
                  <a:pt x="58443" y="6113"/>
                  <a:pt x="81066" y="0"/>
                  <a:pt x="95019" y="12209"/>
                </a:cubicBezTo>
                <a:cubicBezTo>
                  <a:pt x="109527" y="24903"/>
                  <a:pt x="113307" y="67073"/>
                  <a:pt x="113307" y="67073"/>
                </a:cubicBezTo>
                <a:cubicBezTo>
                  <a:pt x="80025" y="133637"/>
                  <a:pt x="56919" y="108221"/>
                  <a:pt x="40155" y="112793"/>
                </a:cubicBezTo>
                <a:close/>
              </a:path>
            </a:pathLst>
          </a:custGeom>
          <a:solidFill>
            <a:srgbClr val="ffffff"/>
          </a:solidFill>
          <a:ln w="12600">
            <a:solidFill>
              <a:srgbClr val="777c84"/>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641" name="フリーフォーム 23"/>
          <p:cNvSpPr/>
          <p:nvPr/>
        </p:nvSpPr>
        <p:spPr>
          <a:xfrm>
            <a:off x="714240" y="757080"/>
            <a:ext cx="5859720" cy="3797280"/>
          </a:xfrm>
          <a:custGeom>
            <a:avLst/>
            <a:gdLst/>
            <a:ahLst/>
            <a:rect l="l" t="t" r="r" b="b"/>
            <a:pathLst>
              <a:path w="5859637" h="3797700">
                <a:moveTo>
                  <a:pt x="3226165" y="3797046"/>
                </a:moveTo>
                <a:lnTo>
                  <a:pt x="2567797" y="3787902"/>
                </a:lnTo>
                <a:cubicBezTo>
                  <a:pt x="2494597" y="3786377"/>
                  <a:pt x="2421341" y="3784373"/>
                  <a:pt x="2348341" y="3778758"/>
                </a:cubicBezTo>
                <a:cubicBezTo>
                  <a:pt x="2302352" y="3775220"/>
                  <a:pt x="2256534" y="3768869"/>
                  <a:pt x="2211181" y="3760470"/>
                </a:cubicBezTo>
                <a:cubicBezTo>
                  <a:pt x="1893165" y="3701578"/>
                  <a:pt x="2330409" y="3765101"/>
                  <a:pt x="1973437" y="3705606"/>
                </a:cubicBezTo>
                <a:cubicBezTo>
                  <a:pt x="1943222" y="3700570"/>
                  <a:pt x="1912477" y="3699510"/>
                  <a:pt x="1881997" y="3696462"/>
                </a:cubicBezTo>
                <a:cubicBezTo>
                  <a:pt x="1869805" y="3693414"/>
                  <a:pt x="1857343" y="3691292"/>
                  <a:pt x="1845421" y="3687318"/>
                </a:cubicBezTo>
                <a:cubicBezTo>
                  <a:pt x="1829849" y="3682127"/>
                  <a:pt x="1815625" y="3673011"/>
                  <a:pt x="1799701" y="3669030"/>
                </a:cubicBezTo>
                <a:cubicBezTo>
                  <a:pt x="1778792" y="3663803"/>
                  <a:pt x="1757029" y="3662934"/>
                  <a:pt x="1735693" y="3659886"/>
                </a:cubicBezTo>
                <a:cubicBezTo>
                  <a:pt x="1723501" y="3647694"/>
                  <a:pt x="1714254" y="3631566"/>
                  <a:pt x="1699117" y="3623310"/>
                </a:cubicBezTo>
                <a:cubicBezTo>
                  <a:pt x="1679637" y="3612684"/>
                  <a:pt x="1656289" y="3611641"/>
                  <a:pt x="1635109" y="3605022"/>
                </a:cubicBezTo>
                <a:cubicBezTo>
                  <a:pt x="1607509" y="3596397"/>
                  <a:pt x="1579801" y="3587970"/>
                  <a:pt x="1552813" y="3577590"/>
                </a:cubicBezTo>
                <a:cubicBezTo>
                  <a:pt x="1540091" y="3572697"/>
                  <a:pt x="1528959" y="3564195"/>
                  <a:pt x="1516237" y="3559302"/>
                </a:cubicBezTo>
                <a:cubicBezTo>
                  <a:pt x="1489249" y="3548922"/>
                  <a:pt x="1460929" y="3542250"/>
                  <a:pt x="1433941" y="3531870"/>
                </a:cubicBezTo>
                <a:cubicBezTo>
                  <a:pt x="1421219" y="3526977"/>
                  <a:pt x="1409948" y="3518825"/>
                  <a:pt x="1397365" y="3513582"/>
                </a:cubicBezTo>
                <a:cubicBezTo>
                  <a:pt x="1373326" y="3503566"/>
                  <a:pt x="1347506" y="3497796"/>
                  <a:pt x="1324213" y="3486150"/>
                </a:cubicBezTo>
                <a:cubicBezTo>
                  <a:pt x="1298494" y="3473290"/>
                  <a:pt x="1274986" y="3456380"/>
                  <a:pt x="1251061" y="3440430"/>
                </a:cubicBezTo>
                <a:cubicBezTo>
                  <a:pt x="1207219" y="3411202"/>
                  <a:pt x="1186295" y="3385522"/>
                  <a:pt x="1141333" y="3348990"/>
                </a:cubicBezTo>
                <a:cubicBezTo>
                  <a:pt x="1117677" y="3329770"/>
                  <a:pt x="1093542" y="3311033"/>
                  <a:pt x="1068181" y="3294126"/>
                </a:cubicBezTo>
                <a:cubicBezTo>
                  <a:pt x="1056839" y="3286565"/>
                  <a:pt x="1042409" y="3284149"/>
                  <a:pt x="1031605" y="3275838"/>
                </a:cubicBezTo>
                <a:cubicBezTo>
                  <a:pt x="1002513" y="3253460"/>
                  <a:pt x="977715" y="3225928"/>
                  <a:pt x="949309" y="3202686"/>
                </a:cubicBezTo>
                <a:cubicBezTo>
                  <a:pt x="910618" y="3171030"/>
                  <a:pt x="869292" y="3142700"/>
                  <a:pt x="830437" y="3111246"/>
                </a:cubicBezTo>
                <a:cubicBezTo>
                  <a:pt x="743468" y="3040843"/>
                  <a:pt x="755420" y="3040894"/>
                  <a:pt x="665845" y="2955798"/>
                </a:cubicBezTo>
                <a:cubicBezTo>
                  <a:pt x="636115" y="2927555"/>
                  <a:pt x="596138" y="2908276"/>
                  <a:pt x="574405" y="2873502"/>
                </a:cubicBezTo>
                <a:cubicBezTo>
                  <a:pt x="559165" y="2849118"/>
                  <a:pt x="545487" y="2823685"/>
                  <a:pt x="528685" y="2800350"/>
                </a:cubicBezTo>
                <a:cubicBezTo>
                  <a:pt x="490571" y="2747414"/>
                  <a:pt x="438985" y="2703246"/>
                  <a:pt x="409813" y="2644902"/>
                </a:cubicBezTo>
                <a:cubicBezTo>
                  <a:pt x="394573" y="2614422"/>
                  <a:pt x="381000" y="2583050"/>
                  <a:pt x="364093" y="2553462"/>
                </a:cubicBezTo>
                <a:cubicBezTo>
                  <a:pt x="351901" y="2532126"/>
                  <a:pt x="337815" y="2511766"/>
                  <a:pt x="327517" y="2489454"/>
                </a:cubicBezTo>
                <a:cubicBezTo>
                  <a:pt x="319439" y="2471951"/>
                  <a:pt x="317206" y="2452139"/>
                  <a:pt x="309229" y="2434590"/>
                </a:cubicBezTo>
                <a:cubicBezTo>
                  <a:pt x="301875" y="2418410"/>
                  <a:pt x="290075" y="2404597"/>
                  <a:pt x="281797" y="2388870"/>
                </a:cubicBezTo>
                <a:cubicBezTo>
                  <a:pt x="219689" y="2270865"/>
                  <a:pt x="231621" y="2302350"/>
                  <a:pt x="208645" y="2233422"/>
                </a:cubicBezTo>
                <a:cubicBezTo>
                  <a:pt x="205597" y="2199894"/>
                  <a:pt x="203512" y="2166264"/>
                  <a:pt x="199501" y="2132838"/>
                </a:cubicBezTo>
                <a:cubicBezTo>
                  <a:pt x="194365" y="2090040"/>
                  <a:pt x="181213" y="2004822"/>
                  <a:pt x="181213" y="2004822"/>
                </a:cubicBezTo>
                <a:cubicBezTo>
                  <a:pt x="187309" y="1791462"/>
                  <a:pt x="190855" y="1578014"/>
                  <a:pt x="199501" y="1364742"/>
                </a:cubicBezTo>
                <a:cubicBezTo>
                  <a:pt x="201058" y="1326344"/>
                  <a:pt x="210793" y="1326018"/>
                  <a:pt x="236077" y="1300734"/>
                </a:cubicBezTo>
                <a:cubicBezTo>
                  <a:pt x="242173" y="1282446"/>
                  <a:pt x="245744" y="1263112"/>
                  <a:pt x="254365" y="1245870"/>
                </a:cubicBezTo>
                <a:cubicBezTo>
                  <a:pt x="267225" y="1220151"/>
                  <a:pt x="283795" y="1196413"/>
                  <a:pt x="300085" y="1172718"/>
                </a:cubicBezTo>
                <a:cubicBezTo>
                  <a:pt x="321035" y="1142245"/>
                  <a:pt x="351077" y="1098622"/>
                  <a:pt x="382381" y="1072134"/>
                </a:cubicBezTo>
                <a:cubicBezTo>
                  <a:pt x="412179" y="1046921"/>
                  <a:pt x="446220" y="1026583"/>
                  <a:pt x="473821" y="998982"/>
                </a:cubicBezTo>
                <a:cubicBezTo>
                  <a:pt x="492361" y="980442"/>
                  <a:pt x="502193" y="954635"/>
                  <a:pt x="519541" y="934974"/>
                </a:cubicBezTo>
                <a:cubicBezTo>
                  <a:pt x="548060" y="902652"/>
                  <a:pt x="578407" y="871765"/>
                  <a:pt x="610981" y="843534"/>
                </a:cubicBezTo>
                <a:cubicBezTo>
                  <a:pt x="624412" y="831894"/>
                  <a:pt x="642328" y="826555"/>
                  <a:pt x="656701" y="816102"/>
                </a:cubicBezTo>
                <a:cubicBezTo>
                  <a:pt x="754328" y="745101"/>
                  <a:pt x="667279" y="793576"/>
                  <a:pt x="775573" y="724662"/>
                </a:cubicBezTo>
                <a:cubicBezTo>
                  <a:pt x="787073" y="717344"/>
                  <a:pt x="801175" y="714460"/>
                  <a:pt x="812149" y="706374"/>
                </a:cubicBezTo>
                <a:cubicBezTo>
                  <a:pt x="859285" y="671642"/>
                  <a:pt x="899444" y="627332"/>
                  <a:pt x="949309" y="596646"/>
                </a:cubicBezTo>
                <a:cubicBezTo>
                  <a:pt x="988933" y="572262"/>
                  <a:pt x="1030960" y="551409"/>
                  <a:pt x="1068181" y="523494"/>
                </a:cubicBezTo>
                <a:cubicBezTo>
                  <a:pt x="1092565" y="505206"/>
                  <a:pt x="1115374" y="484604"/>
                  <a:pt x="1141333" y="468630"/>
                </a:cubicBezTo>
                <a:cubicBezTo>
                  <a:pt x="1155312" y="460027"/>
                  <a:pt x="1172601" y="458124"/>
                  <a:pt x="1187053" y="450342"/>
                </a:cubicBezTo>
                <a:cubicBezTo>
                  <a:pt x="1212371" y="436709"/>
                  <a:pt x="1234486" y="417482"/>
                  <a:pt x="1260205" y="404622"/>
                </a:cubicBezTo>
                <a:cubicBezTo>
                  <a:pt x="1277447" y="396001"/>
                  <a:pt x="1296952" y="392922"/>
                  <a:pt x="1315069" y="386334"/>
                </a:cubicBezTo>
                <a:cubicBezTo>
                  <a:pt x="1330495" y="380725"/>
                  <a:pt x="1346108" y="375387"/>
                  <a:pt x="1360789" y="368046"/>
                </a:cubicBezTo>
                <a:cubicBezTo>
                  <a:pt x="1382768" y="357056"/>
                  <a:pt x="1402818" y="342460"/>
                  <a:pt x="1424797" y="331470"/>
                </a:cubicBezTo>
                <a:cubicBezTo>
                  <a:pt x="1439478" y="324129"/>
                  <a:pt x="1455574" y="319974"/>
                  <a:pt x="1470517" y="313182"/>
                </a:cubicBezTo>
                <a:cubicBezTo>
                  <a:pt x="1489131" y="304721"/>
                  <a:pt x="1506649" y="293945"/>
                  <a:pt x="1525381" y="285750"/>
                </a:cubicBezTo>
                <a:cubicBezTo>
                  <a:pt x="1555457" y="272592"/>
                  <a:pt x="1589506" y="267384"/>
                  <a:pt x="1616821" y="249174"/>
                </a:cubicBezTo>
                <a:cubicBezTo>
                  <a:pt x="1664015" y="217712"/>
                  <a:pt x="1627298" y="238714"/>
                  <a:pt x="1699117" y="212598"/>
                </a:cubicBezTo>
                <a:cubicBezTo>
                  <a:pt x="1714543" y="206989"/>
                  <a:pt x="1729468" y="200073"/>
                  <a:pt x="1744837" y="194310"/>
                </a:cubicBezTo>
                <a:cubicBezTo>
                  <a:pt x="1753862" y="190926"/>
                  <a:pt x="1763244" y="188550"/>
                  <a:pt x="1772269" y="185166"/>
                </a:cubicBezTo>
                <a:cubicBezTo>
                  <a:pt x="1787638" y="179403"/>
                  <a:pt x="1802267" y="171595"/>
                  <a:pt x="1817989" y="166878"/>
                </a:cubicBezTo>
                <a:cubicBezTo>
                  <a:pt x="1832875" y="162412"/>
                  <a:pt x="1848469" y="160782"/>
                  <a:pt x="1863709" y="157734"/>
                </a:cubicBezTo>
                <a:cubicBezTo>
                  <a:pt x="1907230" y="128720"/>
                  <a:pt x="1874038" y="146406"/>
                  <a:pt x="1927717" y="130302"/>
                </a:cubicBezTo>
                <a:cubicBezTo>
                  <a:pt x="1946181" y="124763"/>
                  <a:pt x="1964156" y="117683"/>
                  <a:pt x="1982581" y="112014"/>
                </a:cubicBezTo>
                <a:cubicBezTo>
                  <a:pt x="2003790" y="105488"/>
                  <a:pt x="2025253" y="99822"/>
                  <a:pt x="2046589" y="93726"/>
                </a:cubicBezTo>
                <a:cubicBezTo>
                  <a:pt x="2102932" y="56164"/>
                  <a:pt x="2040646" y="92659"/>
                  <a:pt x="2119741" y="66294"/>
                </a:cubicBezTo>
                <a:cubicBezTo>
                  <a:pt x="2255144" y="21160"/>
                  <a:pt x="1943171" y="62642"/>
                  <a:pt x="2311765" y="38862"/>
                </a:cubicBezTo>
                <a:cubicBezTo>
                  <a:pt x="2583943" y="21302"/>
                  <a:pt x="2290209" y="34392"/>
                  <a:pt x="2732389" y="20574"/>
                </a:cubicBezTo>
                <a:lnTo>
                  <a:pt x="4039981" y="29718"/>
                </a:lnTo>
                <a:cubicBezTo>
                  <a:pt x="4055521" y="29928"/>
                  <a:pt x="4070671" y="34907"/>
                  <a:pt x="4085701" y="38862"/>
                </a:cubicBezTo>
                <a:cubicBezTo>
                  <a:pt x="4128619" y="50156"/>
                  <a:pt x="4170199" y="66734"/>
                  <a:pt x="4213717" y="75438"/>
                </a:cubicBezTo>
                <a:cubicBezTo>
                  <a:pt x="4228957" y="78486"/>
                  <a:pt x="4244693" y="79667"/>
                  <a:pt x="4259437" y="84582"/>
                </a:cubicBezTo>
                <a:cubicBezTo>
                  <a:pt x="4290580" y="94963"/>
                  <a:pt x="4319029" y="113196"/>
                  <a:pt x="4350877" y="121158"/>
                </a:cubicBezTo>
                <a:cubicBezTo>
                  <a:pt x="4485668" y="154856"/>
                  <a:pt x="4178667" y="75947"/>
                  <a:pt x="4533757" y="194310"/>
                </a:cubicBezTo>
                <a:cubicBezTo>
                  <a:pt x="4570333" y="206502"/>
                  <a:pt x="4608253" y="215228"/>
                  <a:pt x="4643485" y="230886"/>
                </a:cubicBezTo>
                <a:cubicBezTo>
                  <a:pt x="4913226" y="350771"/>
                  <a:pt x="4521496" y="175177"/>
                  <a:pt x="4817221" y="313182"/>
                </a:cubicBezTo>
                <a:cubicBezTo>
                  <a:pt x="4832095" y="320123"/>
                  <a:pt x="4848260" y="324129"/>
                  <a:pt x="4862941" y="331470"/>
                </a:cubicBezTo>
                <a:cubicBezTo>
                  <a:pt x="4884920" y="342460"/>
                  <a:pt x="4904578" y="357877"/>
                  <a:pt x="4926949" y="368046"/>
                </a:cubicBezTo>
                <a:cubicBezTo>
                  <a:pt x="4938390" y="373246"/>
                  <a:pt x="4951488" y="373579"/>
                  <a:pt x="4963525" y="377190"/>
                </a:cubicBezTo>
                <a:cubicBezTo>
                  <a:pt x="4981989" y="382729"/>
                  <a:pt x="5000101" y="389382"/>
                  <a:pt x="5018389" y="395478"/>
                </a:cubicBezTo>
                <a:cubicBezTo>
                  <a:pt x="5099723" y="476812"/>
                  <a:pt x="4982359" y="355013"/>
                  <a:pt x="5073253" y="468630"/>
                </a:cubicBezTo>
                <a:cubicBezTo>
                  <a:pt x="5086717" y="485460"/>
                  <a:pt x="5105509" y="497520"/>
                  <a:pt x="5118973" y="514350"/>
                </a:cubicBezTo>
                <a:cubicBezTo>
                  <a:pt x="5130076" y="528228"/>
                  <a:pt x="5133838" y="547503"/>
                  <a:pt x="5146405" y="560070"/>
                </a:cubicBezTo>
                <a:cubicBezTo>
                  <a:pt x="5170979" y="584644"/>
                  <a:pt x="5203165" y="600506"/>
                  <a:pt x="5228701" y="624078"/>
                </a:cubicBezTo>
                <a:cubicBezTo>
                  <a:pt x="5243042" y="637316"/>
                  <a:pt x="5250690" y="656832"/>
                  <a:pt x="5265277" y="669798"/>
                </a:cubicBezTo>
                <a:cubicBezTo>
                  <a:pt x="5359366" y="753433"/>
                  <a:pt x="5259125" y="619659"/>
                  <a:pt x="5375005" y="752094"/>
                </a:cubicBezTo>
                <a:cubicBezTo>
                  <a:pt x="5399505" y="780094"/>
                  <a:pt x="5409960" y="820292"/>
                  <a:pt x="5439013" y="843534"/>
                </a:cubicBezTo>
                <a:cubicBezTo>
                  <a:pt x="5454253" y="855726"/>
                  <a:pt x="5471605" y="865669"/>
                  <a:pt x="5484733" y="880110"/>
                </a:cubicBezTo>
                <a:cubicBezTo>
                  <a:pt x="5502370" y="899511"/>
                  <a:pt x="5514254" y="923501"/>
                  <a:pt x="5530453" y="944118"/>
                </a:cubicBezTo>
                <a:cubicBezTo>
                  <a:pt x="5547815" y="966214"/>
                  <a:pt x="5567029" y="986790"/>
                  <a:pt x="5585317" y="1008126"/>
                </a:cubicBezTo>
                <a:cubicBezTo>
                  <a:pt x="5588365" y="1023366"/>
                  <a:pt x="5588689" y="1039416"/>
                  <a:pt x="5594461" y="1053846"/>
                </a:cubicBezTo>
                <a:cubicBezTo>
                  <a:pt x="5617360" y="1111094"/>
                  <a:pt x="5621840" y="1086669"/>
                  <a:pt x="5649325" y="1136142"/>
                </a:cubicBezTo>
                <a:cubicBezTo>
                  <a:pt x="5692620" y="1214073"/>
                  <a:pt x="5640089" y="1154338"/>
                  <a:pt x="5695045" y="1209294"/>
                </a:cubicBezTo>
                <a:cubicBezTo>
                  <a:pt x="5742023" y="1326739"/>
                  <a:pt x="5680970" y="1181144"/>
                  <a:pt x="5740765" y="1300734"/>
                </a:cubicBezTo>
                <a:cubicBezTo>
                  <a:pt x="5748106" y="1315415"/>
                  <a:pt x="5752957" y="1331214"/>
                  <a:pt x="5759053" y="1346454"/>
                </a:cubicBezTo>
                <a:cubicBezTo>
                  <a:pt x="5780600" y="1475738"/>
                  <a:pt x="5750142" y="1319768"/>
                  <a:pt x="5795629" y="1465326"/>
                </a:cubicBezTo>
                <a:cubicBezTo>
                  <a:pt x="5821596" y="1548421"/>
                  <a:pt x="5808378" y="1540016"/>
                  <a:pt x="5823061" y="1620774"/>
                </a:cubicBezTo>
                <a:cubicBezTo>
                  <a:pt x="5824785" y="1630257"/>
                  <a:pt x="5829867" y="1638855"/>
                  <a:pt x="5832205" y="1648206"/>
                </a:cubicBezTo>
                <a:cubicBezTo>
                  <a:pt x="5835974" y="1663284"/>
                  <a:pt x="5838648" y="1678621"/>
                  <a:pt x="5841349" y="1693926"/>
                </a:cubicBezTo>
                <a:cubicBezTo>
                  <a:pt x="5847793" y="1730442"/>
                  <a:pt x="5859637" y="1803654"/>
                  <a:pt x="5859637" y="1803654"/>
                </a:cubicBezTo>
                <a:cubicBezTo>
                  <a:pt x="5856589" y="1919478"/>
                  <a:pt x="5856478" y="2035417"/>
                  <a:pt x="5850493" y="2151126"/>
                </a:cubicBezTo>
                <a:cubicBezTo>
                  <a:pt x="5847328" y="2212308"/>
                  <a:pt x="5832205" y="2334006"/>
                  <a:pt x="5832205" y="2334006"/>
                </a:cubicBezTo>
                <a:cubicBezTo>
                  <a:pt x="5820268" y="2727921"/>
                  <a:pt x="5837751" y="2521014"/>
                  <a:pt x="5813917" y="2699766"/>
                </a:cubicBezTo>
                <a:cubicBezTo>
                  <a:pt x="5810669" y="2724124"/>
                  <a:pt x="5811105" y="2749174"/>
                  <a:pt x="5804773" y="2772918"/>
                </a:cubicBezTo>
                <a:cubicBezTo>
                  <a:pt x="5788419" y="2834247"/>
                  <a:pt x="5775442" y="2831580"/>
                  <a:pt x="5749909" y="2882646"/>
                </a:cubicBezTo>
                <a:cubicBezTo>
                  <a:pt x="5742568" y="2897327"/>
                  <a:pt x="5739765" y="2914115"/>
                  <a:pt x="5731621" y="2928366"/>
                </a:cubicBezTo>
                <a:cubicBezTo>
                  <a:pt x="5715264" y="2956991"/>
                  <a:pt x="5693473" y="2982245"/>
                  <a:pt x="5676757" y="3010662"/>
                </a:cubicBezTo>
                <a:cubicBezTo>
                  <a:pt x="5662935" y="3034160"/>
                  <a:pt x="5655303" y="3061131"/>
                  <a:pt x="5640181" y="3083814"/>
                </a:cubicBezTo>
                <a:cubicBezTo>
                  <a:pt x="5630617" y="3098160"/>
                  <a:pt x="5615139" y="3107574"/>
                  <a:pt x="5603605" y="3120390"/>
                </a:cubicBezTo>
                <a:cubicBezTo>
                  <a:pt x="5587680" y="3138085"/>
                  <a:pt x="5572593" y="3156535"/>
                  <a:pt x="5557885" y="3175254"/>
                </a:cubicBezTo>
                <a:cubicBezTo>
                  <a:pt x="5539054" y="3199221"/>
                  <a:pt x="5523761" y="3226070"/>
                  <a:pt x="5503021" y="3248406"/>
                </a:cubicBezTo>
                <a:cubicBezTo>
                  <a:pt x="5452213" y="3303122"/>
                  <a:pt x="5422230" y="3312594"/>
                  <a:pt x="5356717" y="3348990"/>
                </a:cubicBezTo>
                <a:cubicBezTo>
                  <a:pt x="5317093" y="3394710"/>
                  <a:pt x="5288185" y="3452590"/>
                  <a:pt x="5237845" y="3486150"/>
                </a:cubicBezTo>
                <a:lnTo>
                  <a:pt x="5128117" y="3559302"/>
                </a:lnTo>
                <a:cubicBezTo>
                  <a:pt x="5118973" y="3565398"/>
                  <a:pt x="5111111" y="3574115"/>
                  <a:pt x="5100685" y="3577590"/>
                </a:cubicBezTo>
                <a:cubicBezTo>
                  <a:pt x="5082397" y="3583686"/>
                  <a:pt x="5063063" y="3587257"/>
                  <a:pt x="5045821" y="3595878"/>
                </a:cubicBezTo>
                <a:cubicBezTo>
                  <a:pt x="4905122" y="3666228"/>
                  <a:pt x="5008231" y="3643049"/>
                  <a:pt x="4890373" y="3659886"/>
                </a:cubicBezTo>
                <a:cubicBezTo>
                  <a:pt x="4849824" y="3673402"/>
                  <a:pt x="4827960" y="3679497"/>
                  <a:pt x="4789789" y="3696462"/>
                </a:cubicBezTo>
                <a:cubicBezTo>
                  <a:pt x="4777333" y="3701998"/>
                  <a:pt x="4764713" y="3707432"/>
                  <a:pt x="4753213" y="3714750"/>
                </a:cubicBezTo>
                <a:cubicBezTo>
                  <a:pt x="4660996" y="3773433"/>
                  <a:pt x="4724347" y="3754613"/>
                  <a:pt x="4634341" y="3769614"/>
                </a:cubicBezTo>
                <a:cubicBezTo>
                  <a:pt x="4606655" y="3788071"/>
                  <a:pt x="4599756" y="3797700"/>
                  <a:pt x="4561189" y="3797046"/>
                </a:cubicBezTo>
                <a:lnTo>
                  <a:pt x="3527917" y="3769614"/>
                </a:lnTo>
                <a:lnTo>
                  <a:pt x="2046589" y="3760470"/>
                </a:lnTo>
                <a:cubicBezTo>
                  <a:pt x="2028301" y="3754374"/>
                  <a:pt x="2010299" y="3747341"/>
                  <a:pt x="1991725" y="3742182"/>
                </a:cubicBezTo>
                <a:cubicBezTo>
                  <a:pt x="1955399" y="3732091"/>
                  <a:pt x="1917924" y="3726181"/>
                  <a:pt x="1881997" y="3714750"/>
                </a:cubicBezTo>
                <a:cubicBezTo>
                  <a:pt x="1850714" y="3704796"/>
                  <a:pt x="1790557" y="3678174"/>
                  <a:pt x="1790557" y="3678174"/>
                </a:cubicBezTo>
                <a:cubicBezTo>
                  <a:pt x="1723101" y="3610718"/>
                  <a:pt x="1818751" y="3698801"/>
                  <a:pt x="1689973" y="3623310"/>
                </a:cubicBezTo>
                <a:cubicBezTo>
                  <a:pt x="1623607" y="3584406"/>
                  <a:pt x="1562335" y="3537393"/>
                  <a:pt x="1497949" y="3495294"/>
                </a:cubicBezTo>
                <a:cubicBezTo>
                  <a:pt x="1483074" y="3485568"/>
                  <a:pt x="1466107" y="3478965"/>
                  <a:pt x="1452229" y="3467862"/>
                </a:cubicBezTo>
                <a:cubicBezTo>
                  <a:pt x="1421749" y="3443478"/>
                  <a:pt x="1393623" y="3415818"/>
                  <a:pt x="1360789" y="3394710"/>
                </a:cubicBezTo>
                <a:cubicBezTo>
                  <a:pt x="1307995" y="3360771"/>
                  <a:pt x="1250835" y="3334153"/>
                  <a:pt x="1196197" y="3303270"/>
                </a:cubicBezTo>
                <a:cubicBezTo>
                  <a:pt x="1180725" y="3294525"/>
                  <a:pt x="1163044" y="3288405"/>
                  <a:pt x="1150477" y="3275838"/>
                </a:cubicBezTo>
                <a:cubicBezTo>
                  <a:pt x="1123045" y="3248406"/>
                  <a:pt x="1097856" y="3218531"/>
                  <a:pt x="1068181" y="3193542"/>
                </a:cubicBezTo>
                <a:cubicBezTo>
                  <a:pt x="1039722" y="3169577"/>
                  <a:pt x="1006335" y="3152082"/>
                  <a:pt x="976741" y="3129534"/>
                </a:cubicBezTo>
                <a:cubicBezTo>
                  <a:pt x="942283" y="3103280"/>
                  <a:pt x="908640" y="3075900"/>
                  <a:pt x="876157" y="3047238"/>
                </a:cubicBezTo>
                <a:cubicBezTo>
                  <a:pt x="842352" y="3017410"/>
                  <a:pt x="759230" y="2925928"/>
                  <a:pt x="738997" y="2900934"/>
                </a:cubicBezTo>
                <a:cubicBezTo>
                  <a:pt x="677242" y="2824648"/>
                  <a:pt x="645290" y="2753803"/>
                  <a:pt x="565261" y="2690622"/>
                </a:cubicBezTo>
                <a:cubicBezTo>
                  <a:pt x="544821" y="2674485"/>
                  <a:pt x="516493" y="2672334"/>
                  <a:pt x="492109" y="2663190"/>
                </a:cubicBezTo>
                <a:cubicBezTo>
                  <a:pt x="455377" y="2631705"/>
                  <a:pt x="320492" y="2521767"/>
                  <a:pt x="281797" y="2471166"/>
                </a:cubicBezTo>
                <a:cubicBezTo>
                  <a:pt x="265237" y="2449510"/>
                  <a:pt x="258359" y="2421902"/>
                  <a:pt x="245221" y="2398014"/>
                </a:cubicBezTo>
                <a:cubicBezTo>
                  <a:pt x="224815" y="2360911"/>
                  <a:pt x="181213" y="2288286"/>
                  <a:pt x="181213" y="2288286"/>
                </a:cubicBezTo>
                <a:cubicBezTo>
                  <a:pt x="175117" y="2266950"/>
                  <a:pt x="172309" y="2244386"/>
                  <a:pt x="162925" y="2224278"/>
                </a:cubicBezTo>
                <a:cubicBezTo>
                  <a:pt x="145204" y="2186304"/>
                  <a:pt x="115338" y="2148636"/>
                  <a:pt x="89773" y="2114550"/>
                </a:cubicBezTo>
                <a:cubicBezTo>
                  <a:pt x="86725" y="2102358"/>
                  <a:pt x="84081" y="2090058"/>
                  <a:pt x="80629" y="2077974"/>
                </a:cubicBezTo>
                <a:cubicBezTo>
                  <a:pt x="73491" y="2052991"/>
                  <a:pt x="47199" y="1986199"/>
                  <a:pt x="44053" y="1977390"/>
                </a:cubicBezTo>
                <a:cubicBezTo>
                  <a:pt x="37569" y="1959236"/>
                  <a:pt x="31861" y="1940814"/>
                  <a:pt x="25765" y="1922526"/>
                </a:cubicBezTo>
                <a:cubicBezTo>
                  <a:pt x="0" y="1742172"/>
                  <a:pt x="1502" y="1777662"/>
                  <a:pt x="25765" y="1456182"/>
                </a:cubicBezTo>
                <a:cubicBezTo>
                  <a:pt x="29711" y="1403903"/>
                  <a:pt x="47404" y="1382575"/>
                  <a:pt x="71485" y="1346454"/>
                </a:cubicBezTo>
                <a:cubicBezTo>
                  <a:pt x="107213" y="1185678"/>
                  <a:pt x="64252" y="1342153"/>
                  <a:pt x="135493" y="1181862"/>
                </a:cubicBezTo>
                <a:cubicBezTo>
                  <a:pt x="163711" y="1118370"/>
                  <a:pt x="154686" y="1106900"/>
                  <a:pt x="181213" y="1053846"/>
                </a:cubicBezTo>
                <a:cubicBezTo>
                  <a:pt x="235551" y="945170"/>
                  <a:pt x="216813" y="991892"/>
                  <a:pt x="290941" y="889254"/>
                </a:cubicBezTo>
                <a:cubicBezTo>
                  <a:pt x="365182" y="786459"/>
                  <a:pt x="312403" y="826999"/>
                  <a:pt x="391525" y="779526"/>
                </a:cubicBezTo>
                <a:cubicBezTo>
                  <a:pt x="406765" y="755142"/>
                  <a:pt x="420955" y="730069"/>
                  <a:pt x="437245" y="706374"/>
                </a:cubicBezTo>
                <a:cubicBezTo>
                  <a:pt x="454513" y="681257"/>
                  <a:pt x="475551" y="658812"/>
                  <a:pt x="492109" y="633222"/>
                </a:cubicBezTo>
                <a:cubicBezTo>
                  <a:pt x="509157" y="606875"/>
                  <a:pt x="519000" y="576031"/>
                  <a:pt x="537829" y="550926"/>
                </a:cubicBezTo>
                <a:cubicBezTo>
                  <a:pt x="555933" y="526787"/>
                  <a:pt x="581448" y="509161"/>
                  <a:pt x="601837" y="486918"/>
                </a:cubicBezTo>
                <a:cubicBezTo>
                  <a:pt x="615025" y="472531"/>
                  <a:pt x="625175" y="455539"/>
                  <a:pt x="638413" y="441198"/>
                </a:cubicBezTo>
                <a:cubicBezTo>
                  <a:pt x="661803" y="415859"/>
                  <a:pt x="688857" y="393998"/>
                  <a:pt x="711565" y="368046"/>
                </a:cubicBezTo>
                <a:cubicBezTo>
                  <a:pt x="731636" y="345107"/>
                  <a:pt x="743287" y="314730"/>
                  <a:pt x="766429" y="294894"/>
                </a:cubicBezTo>
                <a:cubicBezTo>
                  <a:pt x="787128" y="277152"/>
                  <a:pt x="816649" y="273060"/>
                  <a:pt x="839581" y="258318"/>
                </a:cubicBezTo>
                <a:cubicBezTo>
                  <a:pt x="912641" y="211351"/>
                  <a:pt x="873428" y="213963"/>
                  <a:pt x="949309" y="176022"/>
                </a:cubicBezTo>
                <a:cubicBezTo>
                  <a:pt x="1166401" y="67476"/>
                  <a:pt x="1002763" y="147312"/>
                  <a:pt x="1132189" y="112014"/>
                </a:cubicBezTo>
                <a:cubicBezTo>
                  <a:pt x="1181482" y="98570"/>
                  <a:pt x="1227913" y="73520"/>
                  <a:pt x="1278493" y="66294"/>
                </a:cubicBezTo>
                <a:lnTo>
                  <a:pt x="1342501" y="57150"/>
                </a:lnTo>
                <a:cubicBezTo>
                  <a:pt x="1366859" y="53902"/>
                  <a:pt x="1391351" y="51651"/>
                  <a:pt x="1415653" y="48006"/>
                </a:cubicBezTo>
                <a:cubicBezTo>
                  <a:pt x="1452323" y="42505"/>
                  <a:pt x="1488453" y="33075"/>
                  <a:pt x="1525381" y="29718"/>
                </a:cubicBezTo>
                <a:cubicBezTo>
                  <a:pt x="1589198" y="23916"/>
                  <a:pt x="1653328" y="21245"/>
                  <a:pt x="1717405" y="20574"/>
                </a:cubicBezTo>
                <a:lnTo>
                  <a:pt x="3271885" y="11430"/>
                </a:lnTo>
                <a:cubicBezTo>
                  <a:pt x="3866223" y="0"/>
                  <a:pt x="3588848" y="2286"/>
                  <a:pt x="4103989" y="2286"/>
                </a:cubicBezTo>
              </a:path>
            </a:pathLst>
          </a:custGeom>
          <a:noFill/>
          <a:ln w="12600">
            <a:solidFill>
              <a:srgbClr val="fcccf5"/>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642" name="正方形/長方形 24"/>
          <p:cNvSpPr/>
          <p:nvPr/>
        </p:nvSpPr>
        <p:spPr>
          <a:xfrm>
            <a:off x="2219040" y="2214720"/>
            <a:ext cx="2954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entury Schoolbook"/>
              </a:rPr>
              <a:t>次に関与の側面から見ていく</a:t>
            </a:r>
            <a:endParaRPr b="0" lang="en-US" sz="2800" spc="-1" strike="noStrike">
              <a:solidFill>
                <a:srgbClr val="663300"/>
              </a:solidFill>
              <a:latin typeface="Century Schoolbook"/>
            </a:endParaRPr>
          </a:p>
        </p:txBody>
      </p:sp>
      <p:sp>
        <p:nvSpPr>
          <p:cNvPr id="643" name="テキスト ボックス 25"/>
          <p:cNvSpPr/>
          <p:nvPr/>
        </p:nvSpPr>
        <p:spPr>
          <a:xfrm>
            <a:off x="142920" y="142920"/>
            <a:ext cx="3071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丸ｺﾞｼｯｸM-PRO"/>
                <a:ea typeface="HG丸ｺﾞｼｯｸM-PRO"/>
              </a:rPr>
              <a:t>仮説の導出</a:t>
            </a:r>
            <a:endParaRPr b="0" lang="en-US" sz="4400" spc="-1" strike="noStrike">
              <a:solidFill>
                <a:srgbClr val="663300"/>
              </a:solidFill>
              <a:latin typeface="Century Schoolboo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357120" y="-360"/>
            <a:ext cx="7467840" cy="72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575f6d"/>
                </a:solidFill>
                <a:latin typeface="Century Schoolbook"/>
              </a:rPr>
              <a:t>最寄品・買回り品と関与</a:t>
            </a:r>
            <a:endParaRPr b="0" lang="en-US" sz="3000" spc="-1" strike="noStrike">
              <a:solidFill>
                <a:srgbClr val="575f6d"/>
              </a:solidFill>
              <a:latin typeface="Century Schoolbook"/>
            </a:endParaRPr>
          </a:p>
        </p:txBody>
      </p:sp>
      <p:sp>
        <p:nvSpPr>
          <p:cNvPr id="645" name=""/>
          <p:cNvSpPr txBox="1"/>
          <p:nvPr/>
        </p:nvSpPr>
        <p:spPr>
          <a:xfrm>
            <a:off x="394920" y="2276640"/>
            <a:ext cx="1614600" cy="290016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rPr>
              <a:t>最寄品</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rPr>
              <a:t>買回り品</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46" name="スライド番号プレースホル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8D7CA-6709-4C9A-9FDE-1EE299DAAE3D}" type="slidenum">
              <a:rPr b="1" lang="ja-JP" sz="1400" spc="-1" strike="noStrike">
                <a:solidFill>
                  <a:srgbClr val="ffffff"/>
                </a:solidFill>
                <a:latin typeface="Century Schoolbook"/>
              </a:rPr>
              <a:t>&lt;number&gt;</a:t>
            </a:fld>
            <a:endParaRPr b="0" lang="en-US" sz="1400" spc="-1" strike="noStrike">
              <a:solidFill>
                <a:srgbClr val="663300"/>
              </a:solidFill>
              <a:latin typeface="Century Schoolbook"/>
            </a:endParaRPr>
          </a:p>
        </p:txBody>
      </p:sp>
      <p:sp>
        <p:nvSpPr>
          <p:cNvPr id="647" name="円/楕円 5"/>
          <p:cNvSpPr/>
          <p:nvPr/>
        </p:nvSpPr>
        <p:spPr>
          <a:xfrm>
            <a:off x="611280" y="2781360"/>
            <a:ext cx="1785960" cy="857160"/>
          </a:xfrm>
          <a:prstGeom prst="ellipse">
            <a:avLst/>
          </a:prstGeom>
          <a:solidFill>
            <a:srgbClr val="ffff66"/>
          </a:solidFill>
          <a:ln w="25560">
            <a:solidFill>
              <a:srgbClr val="d9f62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663300"/>
                </a:solidFill>
                <a:latin typeface="Century Schoolbook"/>
              </a:rPr>
              <a:t>低関与</a:t>
            </a:r>
            <a:endParaRPr b="0" lang="en-US" sz="2000" spc="-1" strike="noStrike">
              <a:solidFill>
                <a:srgbClr val="663300"/>
              </a:solidFill>
              <a:latin typeface="Century Schoolbook"/>
            </a:endParaRPr>
          </a:p>
        </p:txBody>
      </p:sp>
      <p:sp>
        <p:nvSpPr>
          <p:cNvPr id="648" name="テキスト ボックス 6"/>
          <p:cNvSpPr/>
          <p:nvPr/>
        </p:nvSpPr>
        <p:spPr>
          <a:xfrm>
            <a:off x="2268360" y="2924280"/>
            <a:ext cx="5500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Schoolbook"/>
              </a:rPr>
              <a:t>　</a:t>
            </a:r>
            <a:r>
              <a:rPr b="0" lang="en-US" sz="1800" spc="-1" strike="noStrike">
                <a:solidFill>
                  <a:srgbClr val="000000"/>
                </a:solidFill>
                <a:latin typeface="Century Schoolbook"/>
              </a:rPr>
              <a:t>…</a:t>
            </a:r>
            <a:r>
              <a:rPr b="0" lang="ja-JP" sz="1800" spc="-1" strike="noStrike">
                <a:solidFill>
                  <a:srgbClr val="000000"/>
                </a:solidFill>
                <a:latin typeface="Century Schoolbook"/>
              </a:rPr>
              <a:t>広い受容域・狭い拒否域・広い非コミットメント域</a:t>
            </a:r>
            <a:endParaRPr b="0" lang="en-US" sz="1800" spc="-1" strike="noStrike">
              <a:solidFill>
                <a:srgbClr val="663300"/>
              </a:solidFill>
              <a:latin typeface="Century Schoolbook"/>
            </a:endParaRPr>
          </a:p>
        </p:txBody>
      </p:sp>
      <p:sp>
        <p:nvSpPr>
          <p:cNvPr id="649" name="円/楕円 8"/>
          <p:cNvSpPr/>
          <p:nvPr/>
        </p:nvSpPr>
        <p:spPr>
          <a:xfrm>
            <a:off x="539640" y="4581360"/>
            <a:ext cx="1785960" cy="857520"/>
          </a:xfrm>
          <a:prstGeom prst="ellipse">
            <a:avLst/>
          </a:prstGeom>
          <a:solidFill>
            <a:srgbClr val="ffff66"/>
          </a:solidFill>
          <a:ln w="25560">
            <a:solidFill>
              <a:srgbClr val="d9f62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663300"/>
                </a:solidFill>
                <a:latin typeface="Century Schoolbook"/>
              </a:rPr>
              <a:t>高関与</a:t>
            </a:r>
            <a:endParaRPr b="0" lang="en-US" sz="2000" spc="-1" strike="noStrike">
              <a:solidFill>
                <a:srgbClr val="663300"/>
              </a:solidFill>
              <a:latin typeface="Century Schoolbook"/>
            </a:endParaRPr>
          </a:p>
        </p:txBody>
      </p:sp>
      <p:sp>
        <p:nvSpPr>
          <p:cNvPr id="650" name="テキスト ボックス 9"/>
          <p:cNvSpPr/>
          <p:nvPr/>
        </p:nvSpPr>
        <p:spPr>
          <a:xfrm>
            <a:off x="2268360" y="4797360"/>
            <a:ext cx="5500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Schoolbook"/>
              </a:rPr>
              <a:t>　</a:t>
            </a:r>
            <a:r>
              <a:rPr b="0" lang="en-US" sz="1800" spc="-1" strike="noStrike">
                <a:solidFill>
                  <a:srgbClr val="000000"/>
                </a:solidFill>
                <a:latin typeface="Century Schoolbook"/>
              </a:rPr>
              <a:t>…</a:t>
            </a:r>
            <a:r>
              <a:rPr b="0" lang="ja-JP" sz="1800" spc="-1" strike="noStrike">
                <a:solidFill>
                  <a:srgbClr val="000000"/>
                </a:solidFill>
                <a:latin typeface="Century Schoolbook"/>
              </a:rPr>
              <a:t>狭い受容域・広い拒否域・狭い非コミットメント域</a:t>
            </a:r>
            <a:endParaRPr b="0" lang="en-US" sz="1800" spc="-1" strike="noStrike">
              <a:solidFill>
                <a:srgbClr val="663300"/>
              </a:solidFill>
              <a:latin typeface="Century Schoolbook"/>
            </a:endParaRPr>
          </a:p>
        </p:txBody>
      </p:sp>
      <p:sp>
        <p:nvSpPr>
          <p:cNvPr id="651" name="正方形/長方形 10"/>
          <p:cNvSpPr/>
          <p:nvPr/>
        </p:nvSpPr>
        <p:spPr>
          <a:xfrm>
            <a:off x="785880" y="928800"/>
            <a:ext cx="7215120" cy="1143000"/>
          </a:xfrm>
          <a:prstGeom prst="rect">
            <a:avLst/>
          </a:prstGeom>
          <a:solidFill>
            <a:srgbClr val="fcccf5"/>
          </a:solidFill>
          <a:ln w="3240">
            <a:solidFill>
              <a:srgbClr val="d9f62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663300"/>
                </a:solidFill>
                <a:latin typeface="Century Schoolbook"/>
              </a:rPr>
              <a:t>ある問題に関して関与が高い者は受容域は狭く、拒否域は広くなる。</a:t>
            </a:r>
            <a:endParaRPr b="0" lang="en-US" sz="18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663300"/>
                </a:solidFill>
                <a:latin typeface="Century Schoolbook"/>
              </a:rPr>
              <a:t>逆に関与が低い者は受容域が広く拒否域は狭くなる。（Ｓｈｅｒｉｆ　</a:t>
            </a:r>
            <a:r>
              <a:rPr b="0" lang="en-US" sz="1800" spc="-1" strike="noStrike">
                <a:solidFill>
                  <a:srgbClr val="663300"/>
                </a:solidFill>
                <a:latin typeface="Century Schoolbook"/>
              </a:rPr>
              <a:t>1947</a:t>
            </a:r>
            <a:r>
              <a:rPr b="0" lang="ja-JP" sz="1800" spc="-1" strike="noStrike">
                <a:solidFill>
                  <a:srgbClr val="663300"/>
                </a:solidFill>
                <a:latin typeface="Century Schoolbook"/>
              </a:rPr>
              <a:t>）</a:t>
            </a:r>
            <a:endParaRPr b="0" lang="en-US" sz="1800" spc="-1" strike="noStrike">
              <a:solidFill>
                <a:srgbClr val="663300"/>
              </a:solidFill>
              <a:latin typeface="Century Schoolbook"/>
            </a:endParaRPr>
          </a:p>
        </p:txBody>
      </p:sp>
      <p:sp>
        <p:nvSpPr>
          <p:cNvPr id="652" name="角丸四角形 13"/>
          <p:cNvSpPr/>
          <p:nvPr/>
        </p:nvSpPr>
        <p:spPr>
          <a:xfrm>
            <a:off x="1116000" y="5516640"/>
            <a:ext cx="6313680" cy="1211040"/>
          </a:xfrm>
          <a:prstGeom prst="roundRect">
            <a:avLst>
              <a:gd name="adj" fmla="val 16667"/>
            </a:avLst>
          </a:prstGeom>
          <a:solidFill>
            <a:srgbClr val="ffffff"/>
          </a:solidFill>
          <a:ln w="25560">
            <a:solidFill>
              <a:srgbClr val="fb9b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663300"/>
                </a:solidFill>
                <a:latin typeface="Century Schoolbook"/>
              </a:rPr>
              <a:t>この</a:t>
            </a:r>
            <a:r>
              <a:rPr b="0" lang="en-US" sz="2400" spc="-1" strike="noStrike">
                <a:solidFill>
                  <a:srgbClr val="663300"/>
                </a:solidFill>
                <a:latin typeface="Century Schoolbook"/>
              </a:rPr>
              <a:t>Sherif</a:t>
            </a:r>
            <a:r>
              <a:rPr b="0" lang="ja-JP" sz="2400" spc="-1" strike="noStrike">
                <a:solidFill>
                  <a:srgbClr val="663300"/>
                </a:solidFill>
                <a:latin typeface="Century Schoolbook"/>
              </a:rPr>
              <a:t>の理論は</a:t>
            </a:r>
            <a:endParaRPr b="0" lang="en-US" sz="24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663300"/>
                </a:solidFill>
                <a:latin typeface="Century Schoolbook"/>
              </a:rPr>
              <a:t>色彩に対する関与にも当てはまるのだろうか？</a:t>
            </a:r>
            <a:endParaRPr b="0" lang="en-US" sz="2400" spc="-1" strike="noStrike">
              <a:solidFill>
                <a:srgbClr val="663300"/>
              </a:solidFill>
              <a:latin typeface="Century Schoolbook"/>
            </a:endParaRPr>
          </a:p>
        </p:txBody>
      </p:sp>
      <p:sp>
        <p:nvSpPr>
          <p:cNvPr id="653" name="テキスト ボックス 12"/>
          <p:cNvSpPr/>
          <p:nvPr/>
        </p:nvSpPr>
        <p:spPr>
          <a:xfrm>
            <a:off x="4643280" y="5157720"/>
            <a:ext cx="4015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Schoolbook"/>
              </a:rPr>
              <a:t>[</a:t>
            </a:r>
            <a:r>
              <a:rPr b="1" lang="ja-JP" sz="1600" spc="-1" strike="noStrike">
                <a:solidFill>
                  <a:srgbClr val="000000"/>
                </a:solidFill>
                <a:latin typeface="Century Schoolbook"/>
              </a:rPr>
              <a:t>監訳：青木、池尾（</a:t>
            </a:r>
            <a:r>
              <a:rPr b="1" lang="en-US" sz="1600" spc="-1" strike="noStrike">
                <a:solidFill>
                  <a:srgbClr val="000000"/>
                </a:solidFill>
                <a:latin typeface="Century Schoolbook"/>
              </a:rPr>
              <a:t>1998</a:t>
            </a:r>
            <a:r>
              <a:rPr b="1" lang="ja-JP" sz="1600" spc="-1" strike="noStrike">
                <a:solidFill>
                  <a:srgbClr val="000000"/>
                </a:solidFill>
                <a:latin typeface="Century Schoolbook"/>
              </a:rPr>
              <a:t>年）ｐｐ</a:t>
            </a:r>
            <a:r>
              <a:rPr b="1" lang="en-US" sz="1600" spc="-1" strike="noStrike">
                <a:solidFill>
                  <a:srgbClr val="000000"/>
                </a:solidFill>
                <a:latin typeface="Century Schoolbook"/>
              </a:rPr>
              <a:t>.</a:t>
            </a:r>
            <a:r>
              <a:rPr b="1" lang="ja-JP" sz="1600" spc="-1" strike="noStrike">
                <a:solidFill>
                  <a:srgbClr val="000000"/>
                </a:solidFill>
                <a:latin typeface="Century Schoolbook"/>
              </a:rPr>
              <a:t>１２９</a:t>
            </a:r>
            <a:r>
              <a:rPr b="1" lang="en-US" sz="1600" spc="-1" strike="noStrike">
                <a:solidFill>
                  <a:srgbClr val="000000"/>
                </a:solidFill>
                <a:latin typeface="Century Schoolbook"/>
              </a:rPr>
              <a:t>-</a:t>
            </a:r>
            <a:r>
              <a:rPr b="1" lang="ja-JP" sz="1600" spc="-1" strike="noStrike">
                <a:solidFill>
                  <a:srgbClr val="000000"/>
                </a:solidFill>
                <a:latin typeface="Century Schoolbook"/>
              </a:rPr>
              <a:t>１３０</a:t>
            </a:r>
            <a:r>
              <a:rPr b="1" lang="en-US" sz="1600" spc="-1" strike="noStrike">
                <a:solidFill>
                  <a:srgbClr val="000000"/>
                </a:solidFill>
                <a:latin typeface="Century Schoolbook"/>
              </a:rPr>
              <a:t>]</a:t>
            </a:r>
            <a:endParaRPr b="0" lang="en-US" sz="1600" spc="-1" strike="noStrike">
              <a:solidFill>
                <a:srgbClr val="663300"/>
              </a:solidFill>
              <a:latin typeface="Century Schoolbook"/>
            </a:endParaRPr>
          </a:p>
        </p:txBody>
      </p:sp>
    </p:spTree>
  </p:cSld>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652"/>
                                        </p:tgtEl>
                                        <p:attrNameLst>
                                          <p:attrName>style.visibility</p:attrName>
                                        </p:attrNameLst>
                                      </p:cBhvr>
                                      <p:to>
                                        <p:strVal val="visible"/>
                                      </p:to>
                                    </p:set>
                                    <p:animEffect filter="blinds(horizontal)" transition="in">
                                      <p:cBhvr additive="repl">
                                        <p:cTn id="106" dur="500"/>
                                        <p:tgtEl>
                                          <p:spTgt spid="6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456840" y="274680"/>
            <a:ext cx="7467480" cy="58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575f6d"/>
                </a:solidFill>
                <a:latin typeface="Century Schoolbook"/>
              </a:rPr>
              <a:t>あてはめると</a:t>
            </a:r>
            <a:r>
              <a:rPr b="0" lang="en-US" sz="3000" spc="-1" strike="noStrike">
                <a:solidFill>
                  <a:srgbClr val="575f6d"/>
                </a:solidFill>
                <a:latin typeface="Century Schoolbook"/>
              </a:rPr>
              <a:t>…</a:t>
            </a:r>
            <a:endParaRPr b="0" lang="en-US" sz="3000" spc="-1" strike="noStrike">
              <a:solidFill>
                <a:srgbClr val="575f6d"/>
              </a:solidFill>
              <a:latin typeface="Century Schoolbook"/>
            </a:endParaRPr>
          </a:p>
        </p:txBody>
      </p:sp>
      <p:sp>
        <p:nvSpPr>
          <p:cNvPr id="655" name="スライド番号プレースホル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6E817-7841-463E-8DD1-B571B5B10CEC}" type="slidenum">
              <a:rPr b="1" lang="ja-JP" sz="1400" spc="-1" strike="noStrike">
                <a:solidFill>
                  <a:srgbClr val="ffffff"/>
                </a:solidFill>
                <a:latin typeface="Century Schoolbook"/>
              </a:rPr>
              <a:t>&lt;number&gt;</a:t>
            </a:fld>
            <a:endParaRPr b="0" lang="en-US" sz="1400" spc="-1" strike="noStrike">
              <a:solidFill>
                <a:srgbClr val="663300"/>
              </a:solidFill>
              <a:latin typeface="Century Schoolbook"/>
            </a:endParaRPr>
          </a:p>
        </p:txBody>
      </p:sp>
      <p:sp>
        <p:nvSpPr>
          <p:cNvPr id="656" name="正方形/長方形 4"/>
          <p:cNvSpPr/>
          <p:nvPr/>
        </p:nvSpPr>
        <p:spPr>
          <a:xfrm>
            <a:off x="428760" y="1214280"/>
            <a:ext cx="1428480" cy="571680"/>
          </a:xfrm>
          <a:prstGeom prst="rect">
            <a:avLst/>
          </a:prstGeom>
          <a:solidFill>
            <a:srgbClr val="d9f62a"/>
          </a:solidFill>
          <a:ln w="25560">
            <a:solidFill>
              <a:srgbClr val="fb9b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663300"/>
                </a:solidFill>
                <a:latin typeface="Century Schoolbook"/>
              </a:rPr>
              <a:t>最寄品</a:t>
            </a:r>
            <a:endParaRPr b="0" lang="en-US" sz="2400" spc="-1" strike="noStrike">
              <a:solidFill>
                <a:srgbClr val="663300"/>
              </a:solidFill>
              <a:latin typeface="Century Schoolbook"/>
            </a:endParaRPr>
          </a:p>
        </p:txBody>
      </p:sp>
      <p:sp>
        <p:nvSpPr>
          <p:cNvPr id="657" name="正方形/長方形 5"/>
          <p:cNvSpPr/>
          <p:nvPr/>
        </p:nvSpPr>
        <p:spPr>
          <a:xfrm>
            <a:off x="428760" y="3929040"/>
            <a:ext cx="1428480" cy="571680"/>
          </a:xfrm>
          <a:prstGeom prst="rect">
            <a:avLst/>
          </a:prstGeom>
          <a:solidFill>
            <a:srgbClr val="d9f62a"/>
          </a:solidFill>
          <a:ln w="25560">
            <a:solidFill>
              <a:srgbClr val="fb9b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663300"/>
                </a:solidFill>
                <a:latin typeface="Century Schoolbook"/>
              </a:rPr>
              <a:t>買回り品</a:t>
            </a:r>
            <a:endParaRPr b="0" lang="en-US" sz="2400" spc="-1" strike="noStrike">
              <a:solidFill>
                <a:srgbClr val="663300"/>
              </a:solidFill>
              <a:latin typeface="Century Schoolbook"/>
            </a:endParaRPr>
          </a:p>
        </p:txBody>
      </p:sp>
      <p:sp>
        <p:nvSpPr>
          <p:cNvPr id="658" name="テキスト ボックス 6"/>
          <p:cNvSpPr/>
          <p:nvPr/>
        </p:nvSpPr>
        <p:spPr>
          <a:xfrm>
            <a:off x="1857240" y="1285920"/>
            <a:ext cx="5929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Schoolbook"/>
              </a:rPr>
              <a:t>　</a:t>
            </a:r>
            <a:r>
              <a:rPr b="0" lang="ja-JP" sz="2000" spc="-1" strike="noStrike">
                <a:solidFill>
                  <a:srgbClr val="000000"/>
                </a:solidFill>
                <a:latin typeface="Century Schoolbook"/>
              </a:rPr>
              <a:t>広い受容域・狭い拒否域・広い非コミットメント域</a:t>
            </a:r>
            <a:endParaRPr b="0" lang="en-US" sz="2000" spc="-1" strike="noStrike">
              <a:solidFill>
                <a:srgbClr val="663300"/>
              </a:solidFill>
              <a:latin typeface="Century Schoolbook"/>
            </a:endParaRPr>
          </a:p>
        </p:txBody>
      </p:sp>
      <p:sp>
        <p:nvSpPr>
          <p:cNvPr id="659" name="右矢印 7"/>
          <p:cNvSpPr/>
          <p:nvPr/>
        </p:nvSpPr>
        <p:spPr>
          <a:xfrm>
            <a:off x="642960" y="2143080"/>
            <a:ext cx="571320" cy="285840"/>
          </a:xfrm>
          <a:prstGeom prst="rightArrow">
            <a:avLst>
              <a:gd name="adj1" fmla="val 50000"/>
              <a:gd name="adj2" fmla="val 49969"/>
            </a:avLst>
          </a:prstGeom>
          <a:solidFill>
            <a:srgbClr val="fb9b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660" name="テキスト ボックス 8"/>
          <p:cNvSpPr/>
          <p:nvPr/>
        </p:nvSpPr>
        <p:spPr>
          <a:xfrm>
            <a:off x="1285920" y="2071800"/>
            <a:ext cx="68580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Schoolbook"/>
              </a:rPr>
              <a:t>受容域が広く、拒否域が狭いため、</a:t>
            </a:r>
            <a:endParaRPr b="0" lang="en-US" sz="2000" spc="-1" strike="noStrike">
              <a:solidFill>
                <a:srgbClr val="6633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Schoolbook"/>
              </a:rPr>
              <a:t>拒否される色は少なく、受け入れられる色は多い。</a:t>
            </a:r>
            <a:endParaRPr b="0" lang="en-US" sz="2000" spc="-1" strike="noStrike">
              <a:solidFill>
                <a:srgbClr val="6633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Schoolbook"/>
              </a:rPr>
              <a:t>また、関与が低いことから色を必要としない場合も考えられる。</a:t>
            </a:r>
            <a:endParaRPr b="0" lang="en-US" sz="2000" spc="-1" strike="noStrike">
              <a:solidFill>
                <a:srgbClr val="663300"/>
              </a:solidFill>
              <a:latin typeface="Century Schoolbook"/>
            </a:endParaRPr>
          </a:p>
        </p:txBody>
      </p:sp>
      <p:sp>
        <p:nvSpPr>
          <p:cNvPr id="661" name="右矢印 9"/>
          <p:cNvSpPr/>
          <p:nvPr/>
        </p:nvSpPr>
        <p:spPr>
          <a:xfrm>
            <a:off x="642960" y="4857840"/>
            <a:ext cx="571320" cy="285840"/>
          </a:xfrm>
          <a:prstGeom prst="rightArrow">
            <a:avLst>
              <a:gd name="adj1" fmla="val 50000"/>
              <a:gd name="adj2" fmla="val 49969"/>
            </a:avLst>
          </a:prstGeom>
          <a:solidFill>
            <a:srgbClr val="fb9b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662" name="テキスト ボックス 11"/>
          <p:cNvSpPr/>
          <p:nvPr/>
        </p:nvSpPr>
        <p:spPr>
          <a:xfrm>
            <a:off x="1857240" y="4000680"/>
            <a:ext cx="5500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Schoolbook"/>
              </a:rPr>
              <a:t>　</a:t>
            </a:r>
            <a:r>
              <a:rPr b="0" lang="ja-JP" sz="2000" spc="-1" strike="noStrike">
                <a:solidFill>
                  <a:srgbClr val="000000"/>
                </a:solidFill>
                <a:latin typeface="Century Schoolbook"/>
              </a:rPr>
              <a:t>狭い受容域・広い拒否域・狭い非コミットメント域</a:t>
            </a:r>
            <a:endParaRPr b="0" lang="en-US" sz="2000" spc="-1" strike="noStrike">
              <a:solidFill>
                <a:srgbClr val="663300"/>
              </a:solidFill>
              <a:latin typeface="Century Schoolbook"/>
            </a:endParaRPr>
          </a:p>
        </p:txBody>
      </p:sp>
      <p:sp>
        <p:nvSpPr>
          <p:cNvPr id="663" name="テキスト ボックス 12"/>
          <p:cNvSpPr/>
          <p:nvPr/>
        </p:nvSpPr>
        <p:spPr>
          <a:xfrm>
            <a:off x="1285920" y="4786200"/>
            <a:ext cx="66438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Schoolbook"/>
              </a:rPr>
              <a:t>受容域が狭く、拒否域が広いことから、</a:t>
            </a:r>
            <a:endParaRPr b="0" lang="en-US" sz="2000" spc="-1" strike="noStrike">
              <a:solidFill>
                <a:srgbClr val="6633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Schoolbook"/>
              </a:rPr>
              <a:t>受け入れられる色は少ない。</a:t>
            </a:r>
            <a:endParaRPr b="0" lang="en-US" sz="2000" spc="-1" strike="noStrike">
              <a:solidFill>
                <a:srgbClr val="6633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Schoolbook"/>
              </a:rPr>
              <a:t>また、関与が高いことから消費者はこだわりを持って色を選び、</a:t>
            </a:r>
            <a:endParaRPr b="0" lang="en-US" sz="2000" spc="-1" strike="noStrike">
              <a:solidFill>
                <a:srgbClr val="6633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Schoolbook"/>
              </a:rPr>
              <a:t>色が製品を選ぶ際の１つのポイントになりうる。</a:t>
            </a:r>
            <a:endParaRPr b="0" lang="en-US" sz="2000" spc="-1" strike="noStrike">
              <a:solidFill>
                <a:srgbClr val="6633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357120" y="214200"/>
            <a:ext cx="7467840" cy="439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700" spc="-1" strike="noStrike">
                <a:solidFill>
                  <a:srgbClr val="575f6d"/>
                </a:solidFill>
                <a:latin typeface="Century Schoolbook"/>
              </a:rPr>
              <a:t>カラーバリエーション商品</a:t>
            </a:r>
            <a:endParaRPr b="0" lang="en-US" sz="2700" spc="-1" strike="noStrike">
              <a:solidFill>
                <a:srgbClr val="575f6d"/>
              </a:solidFill>
              <a:latin typeface="Century Schoolbook"/>
            </a:endParaRPr>
          </a:p>
        </p:txBody>
      </p:sp>
      <p:pic>
        <p:nvPicPr>
          <p:cNvPr id="366" name="コンテンツ プレースホルダ 3" descr="ipodnano_hero20080909.jpg"/>
          <p:cNvPicPr/>
          <p:nvPr/>
        </p:nvPicPr>
        <p:blipFill>
          <a:blip r:embed="rId1"/>
          <a:stretch/>
        </p:blipFill>
        <p:spPr>
          <a:xfrm>
            <a:off x="714240" y="811080"/>
            <a:ext cx="3857760" cy="1760760"/>
          </a:xfrm>
          <a:prstGeom prst="rect">
            <a:avLst/>
          </a:prstGeom>
          <a:ln w="0">
            <a:noFill/>
          </a:ln>
        </p:spPr>
      </p:pic>
      <p:pic>
        <p:nvPicPr>
          <p:cNvPr id="367" name="図 4" descr="phMain_blue.jpg"/>
          <p:cNvPicPr/>
          <p:nvPr/>
        </p:nvPicPr>
        <p:blipFill>
          <a:blip r:embed="rId2"/>
          <a:stretch/>
        </p:blipFill>
        <p:spPr>
          <a:xfrm rot="1084200">
            <a:off x="4460760" y="3604680"/>
            <a:ext cx="857520" cy="1136880"/>
          </a:xfrm>
          <a:prstGeom prst="rect">
            <a:avLst/>
          </a:prstGeom>
          <a:ln w="0">
            <a:noFill/>
          </a:ln>
        </p:spPr>
      </p:pic>
      <p:pic>
        <p:nvPicPr>
          <p:cNvPr id="368" name="図 5" descr="phMain_green.jpg"/>
          <p:cNvPicPr/>
          <p:nvPr/>
        </p:nvPicPr>
        <p:blipFill>
          <a:blip r:embed="rId3"/>
          <a:stretch/>
        </p:blipFill>
        <p:spPr>
          <a:xfrm rot="1095600">
            <a:off x="5584320" y="3675240"/>
            <a:ext cx="836640" cy="1125360"/>
          </a:xfrm>
          <a:prstGeom prst="rect">
            <a:avLst/>
          </a:prstGeom>
          <a:ln w="0">
            <a:noFill/>
          </a:ln>
        </p:spPr>
      </p:pic>
      <p:pic>
        <p:nvPicPr>
          <p:cNvPr id="369" name="図 6" descr="phMain_pink.jpg"/>
          <p:cNvPicPr/>
          <p:nvPr/>
        </p:nvPicPr>
        <p:blipFill>
          <a:blip r:embed="rId4"/>
          <a:stretch/>
        </p:blipFill>
        <p:spPr>
          <a:xfrm rot="1213800">
            <a:off x="6705360" y="3701520"/>
            <a:ext cx="823680" cy="1152720"/>
          </a:xfrm>
          <a:prstGeom prst="rect">
            <a:avLst/>
          </a:prstGeom>
          <a:ln w="0">
            <a:noFill/>
          </a:ln>
        </p:spPr>
      </p:pic>
      <p:sp>
        <p:nvSpPr>
          <p:cNvPr id="370" name="角丸四角形 8"/>
          <p:cNvSpPr/>
          <p:nvPr/>
        </p:nvSpPr>
        <p:spPr>
          <a:xfrm>
            <a:off x="357120" y="5072040"/>
            <a:ext cx="7715160" cy="1643040"/>
          </a:xfrm>
          <a:prstGeom prst="roundRect">
            <a:avLst>
              <a:gd name="adj" fmla="val 16667"/>
            </a:avLst>
          </a:prstGeom>
          <a:solidFill>
            <a:srgbClr val="ffffff"/>
          </a:solidFill>
          <a:ln w="25560">
            <a:solidFill>
              <a:srgbClr val="bb612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rPr>
              <a:t>今日では様々な商品で</a:t>
            </a:r>
            <a:endParaRPr b="0" lang="en-US" sz="24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rPr>
              <a:t>カラーバリエーションが展開されている。</a:t>
            </a:r>
            <a:endParaRPr b="0" lang="en-US" sz="2400" spc="-1" strike="noStrike">
              <a:solidFill>
                <a:srgbClr val="663300"/>
              </a:solidFill>
              <a:latin typeface="Century Schoolbook"/>
            </a:endParaRPr>
          </a:p>
        </p:txBody>
      </p:sp>
      <p:sp>
        <p:nvSpPr>
          <p:cNvPr id="371" name="スライド番号プレースホルダ 9"/>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B0F5D-CE1C-4FA4-B505-5EA164305E5E}" type="slidenum">
              <a:rPr b="1" lang="ja-JP" sz="2800" spc="-1" strike="noStrike">
                <a:solidFill>
                  <a:srgbClr val="ffffff"/>
                </a:solidFill>
                <a:latin typeface="Century Schoolbook"/>
              </a:rPr>
              <a:t>&lt;number&gt;</a:t>
            </a:fld>
            <a:endParaRPr b="0" lang="en-US" sz="2800" spc="-1" strike="noStrike">
              <a:solidFill>
                <a:srgbClr val="663300"/>
              </a:solidFill>
              <a:latin typeface="Century Schoolbook"/>
            </a:endParaRPr>
          </a:p>
        </p:txBody>
      </p:sp>
      <p:pic>
        <p:nvPicPr>
          <p:cNvPr id="372" name="図 10" descr="8ea9d455184d116f892d9b30a692461d_600x580.jpg"/>
          <p:cNvPicPr/>
          <p:nvPr/>
        </p:nvPicPr>
        <p:blipFill>
          <a:blip r:embed="rId5"/>
          <a:stretch/>
        </p:blipFill>
        <p:spPr>
          <a:xfrm>
            <a:off x="1643040" y="2571840"/>
            <a:ext cx="2357640" cy="2357280"/>
          </a:xfrm>
          <a:prstGeom prst="rect">
            <a:avLst/>
          </a:prstGeom>
          <a:ln w="0">
            <a:noFill/>
          </a:ln>
        </p:spPr>
      </p:pic>
      <p:pic>
        <p:nvPicPr>
          <p:cNvPr id="373" name="図 11" descr="812sh02.jpg"/>
          <p:cNvPicPr/>
          <p:nvPr/>
        </p:nvPicPr>
        <p:blipFill>
          <a:blip r:embed="rId6"/>
          <a:stretch/>
        </p:blipFill>
        <p:spPr>
          <a:xfrm>
            <a:off x="4857840" y="285840"/>
            <a:ext cx="2406600" cy="292896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8C8A7-68FF-4DA8-B759-D48B6A4EE0B8}" type="slidenum">
              <a:rPr b="1" lang="ja-JP" sz="1400" spc="-1" strike="noStrike">
                <a:solidFill>
                  <a:srgbClr val="ffffff"/>
                </a:solidFill>
                <a:latin typeface="Century Schoolbook"/>
              </a:rPr>
              <a:t>&lt;number&gt;</a:t>
            </a:fld>
            <a:endParaRPr b="0" lang="en-US" sz="1400" spc="-1" strike="noStrike">
              <a:solidFill>
                <a:srgbClr val="663300"/>
              </a:solidFill>
              <a:latin typeface="Century Schoolbook"/>
            </a:endParaRPr>
          </a:p>
        </p:txBody>
      </p:sp>
      <p:sp>
        <p:nvSpPr>
          <p:cNvPr id="665" name="正方形/長方形 4"/>
          <p:cNvSpPr/>
          <p:nvPr/>
        </p:nvSpPr>
        <p:spPr>
          <a:xfrm>
            <a:off x="357120" y="2428920"/>
            <a:ext cx="1357560" cy="500040"/>
          </a:xfrm>
          <a:prstGeom prst="rect">
            <a:avLst/>
          </a:prstGeom>
          <a:solidFill>
            <a:srgbClr val="fb9b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663300"/>
                </a:solidFill>
                <a:latin typeface="Century Schoolbook"/>
              </a:rPr>
              <a:t>最寄品</a:t>
            </a:r>
            <a:endParaRPr b="0" lang="en-US" sz="2400" spc="-1" strike="noStrike">
              <a:solidFill>
                <a:srgbClr val="663300"/>
              </a:solidFill>
              <a:latin typeface="Century Schoolbook"/>
            </a:endParaRPr>
          </a:p>
        </p:txBody>
      </p:sp>
      <p:sp>
        <p:nvSpPr>
          <p:cNvPr id="666" name="テキスト ボックス 5"/>
          <p:cNvSpPr/>
          <p:nvPr/>
        </p:nvSpPr>
        <p:spPr>
          <a:xfrm>
            <a:off x="357120" y="714240"/>
            <a:ext cx="2000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Century Schoolbook"/>
              </a:rPr>
              <a:t>仮説②</a:t>
            </a:r>
            <a:endParaRPr b="0" lang="en-US" sz="3200" spc="-1" strike="noStrike">
              <a:solidFill>
                <a:srgbClr val="663300"/>
              </a:solidFill>
              <a:latin typeface="Century Schoolbook"/>
            </a:endParaRPr>
          </a:p>
        </p:txBody>
      </p:sp>
      <p:sp>
        <p:nvSpPr>
          <p:cNvPr id="667" name="正方形/長方形 6"/>
          <p:cNvSpPr/>
          <p:nvPr/>
        </p:nvSpPr>
        <p:spPr>
          <a:xfrm>
            <a:off x="428760" y="4357800"/>
            <a:ext cx="1357200" cy="500040"/>
          </a:xfrm>
          <a:prstGeom prst="rect">
            <a:avLst/>
          </a:prstGeom>
          <a:solidFill>
            <a:srgbClr val="fb9b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663300"/>
                </a:solidFill>
                <a:latin typeface="Century Schoolbook"/>
              </a:rPr>
              <a:t>買回り品</a:t>
            </a:r>
            <a:endParaRPr b="0" lang="en-US" sz="2400" spc="-1" strike="noStrike">
              <a:solidFill>
                <a:srgbClr val="663300"/>
              </a:solidFill>
              <a:latin typeface="Century Schoolbook"/>
            </a:endParaRPr>
          </a:p>
        </p:txBody>
      </p:sp>
      <p:sp>
        <p:nvSpPr>
          <p:cNvPr id="668" name="テキスト ボックス 7"/>
          <p:cNvSpPr/>
          <p:nvPr/>
        </p:nvSpPr>
        <p:spPr>
          <a:xfrm>
            <a:off x="357120" y="1357200"/>
            <a:ext cx="8286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rPr>
              <a:t>製品に対する関与の強さは</a:t>
            </a:r>
            <a:endParaRPr b="0" lang="en-US" sz="2400" spc="-1" strike="noStrike">
              <a:solidFill>
                <a:srgbClr val="6633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rPr>
              <a:t>　　　　　　　　　　　色彩に対する関与の強さにも当てはまる。</a:t>
            </a:r>
            <a:endParaRPr b="0" lang="en-US" sz="2400" spc="-1" strike="noStrike">
              <a:solidFill>
                <a:srgbClr val="663300"/>
              </a:solidFill>
              <a:latin typeface="Century Schoolbook"/>
            </a:endParaRPr>
          </a:p>
        </p:txBody>
      </p:sp>
      <p:sp>
        <p:nvSpPr>
          <p:cNvPr id="669" name="正方形/長方形 9"/>
          <p:cNvSpPr/>
          <p:nvPr/>
        </p:nvSpPr>
        <p:spPr>
          <a:xfrm>
            <a:off x="1071720" y="5214960"/>
            <a:ext cx="4214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Schoolbook"/>
              </a:rPr>
              <a:t>製品関与が高い＝色彩関与が高い</a:t>
            </a:r>
            <a:endParaRPr b="0" lang="en-US" sz="2000" spc="-1" strike="noStrike">
              <a:solidFill>
                <a:srgbClr val="663300"/>
              </a:solidFill>
              <a:latin typeface="Century Schoolbook"/>
            </a:endParaRPr>
          </a:p>
        </p:txBody>
      </p:sp>
      <p:sp>
        <p:nvSpPr>
          <p:cNvPr id="670" name="テキスト ボックス 8"/>
          <p:cNvSpPr/>
          <p:nvPr/>
        </p:nvSpPr>
        <p:spPr>
          <a:xfrm>
            <a:off x="1071720" y="3286080"/>
            <a:ext cx="5929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Schoolbook"/>
              </a:rPr>
              <a:t>製品関与が低い＝色彩関与が低い</a:t>
            </a:r>
            <a:endParaRPr b="0" lang="en-US" sz="2000" spc="-1" strike="noStrike">
              <a:solidFill>
                <a:srgbClr val="663300"/>
              </a:solidFill>
              <a:latin typeface="Century Schoolbook"/>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1" name="Picture 5" descr="C:\Documents and Settings\bm0701469\Local Settings\Temporary Internet Files\Content.IE5\WJW90ZWR\MPj04395640000[1].jpg"/>
          <p:cNvPicPr/>
          <p:nvPr/>
        </p:nvPicPr>
        <p:blipFill>
          <a:blip r:embed="rId1"/>
          <a:stretch/>
        </p:blipFill>
        <p:spPr>
          <a:xfrm>
            <a:off x="4500720" y="4214880"/>
            <a:ext cx="3625560" cy="2428920"/>
          </a:xfrm>
          <a:prstGeom prst="rect">
            <a:avLst/>
          </a:prstGeom>
          <a:ln w="0">
            <a:noFill/>
          </a:ln>
        </p:spPr>
      </p:pic>
      <p:sp>
        <p:nvSpPr>
          <p:cNvPr id="672" name="スライド番号プレースホル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46006-2625-468E-B1C3-095A5A3C0FC9}" type="slidenum">
              <a:rPr b="1" lang="ja-JP" sz="1400" spc="-1" strike="noStrike">
                <a:solidFill>
                  <a:srgbClr val="ffffff"/>
                </a:solidFill>
                <a:latin typeface="Century Schoolbook"/>
              </a:rPr>
              <a:t>&lt;number&gt;</a:t>
            </a:fld>
            <a:endParaRPr b="0" lang="en-US" sz="1400" spc="-1" strike="noStrike">
              <a:solidFill>
                <a:srgbClr val="663300"/>
              </a:solidFill>
              <a:latin typeface="Century Schoolbook"/>
            </a:endParaRPr>
          </a:p>
        </p:txBody>
      </p:sp>
      <p:sp>
        <p:nvSpPr>
          <p:cNvPr id="673" name="フリーフォーム 7"/>
          <p:cNvSpPr/>
          <p:nvPr/>
        </p:nvSpPr>
        <p:spPr>
          <a:xfrm>
            <a:off x="344520" y="638280"/>
            <a:ext cx="6738840" cy="3914640"/>
          </a:xfrm>
          <a:custGeom>
            <a:avLst/>
            <a:gdLst/>
            <a:ahLst/>
            <a:rect l="l" t="t" r="r" b="b"/>
            <a:pathLst>
              <a:path w="6740003" h="3914508">
                <a:moveTo>
                  <a:pt x="3574928" y="3662581"/>
                </a:moveTo>
                <a:cubicBezTo>
                  <a:pt x="2933325" y="3693135"/>
                  <a:pt x="2862927" y="3700384"/>
                  <a:pt x="1820773" y="3653251"/>
                </a:cubicBezTo>
                <a:cubicBezTo>
                  <a:pt x="1666762" y="3646286"/>
                  <a:pt x="1542379" y="3589915"/>
                  <a:pt x="1400895" y="3550614"/>
                </a:cubicBezTo>
                <a:cubicBezTo>
                  <a:pt x="1385615" y="3546369"/>
                  <a:pt x="1369793" y="3544393"/>
                  <a:pt x="1354242" y="3541283"/>
                </a:cubicBezTo>
                <a:cubicBezTo>
                  <a:pt x="1316920" y="3525732"/>
                  <a:pt x="1279958" y="3509285"/>
                  <a:pt x="1242275" y="3494630"/>
                </a:cubicBezTo>
                <a:cubicBezTo>
                  <a:pt x="1110415" y="3443351"/>
                  <a:pt x="1281045" y="3523720"/>
                  <a:pt x="1083655" y="3429316"/>
                </a:cubicBezTo>
                <a:cubicBezTo>
                  <a:pt x="1046011" y="3411312"/>
                  <a:pt x="1003743" y="3400046"/>
                  <a:pt x="971687" y="3373332"/>
                </a:cubicBezTo>
                <a:cubicBezTo>
                  <a:pt x="893163" y="3307895"/>
                  <a:pt x="936303" y="3339553"/>
                  <a:pt x="841059" y="3280026"/>
                </a:cubicBezTo>
                <a:cubicBezTo>
                  <a:pt x="831728" y="3267585"/>
                  <a:pt x="821309" y="3255891"/>
                  <a:pt x="813067" y="3242704"/>
                </a:cubicBezTo>
                <a:cubicBezTo>
                  <a:pt x="795277" y="3214240"/>
                  <a:pt x="797376" y="3201725"/>
                  <a:pt x="775744" y="3177389"/>
                </a:cubicBezTo>
                <a:cubicBezTo>
                  <a:pt x="758211" y="3157664"/>
                  <a:pt x="737719" y="3140745"/>
                  <a:pt x="719761" y="3121406"/>
                </a:cubicBezTo>
                <a:cubicBezTo>
                  <a:pt x="697264" y="3097178"/>
                  <a:pt x="677825" y="3070139"/>
                  <a:pt x="654447" y="3046761"/>
                </a:cubicBezTo>
                <a:cubicBezTo>
                  <a:pt x="643451" y="3035765"/>
                  <a:pt x="627169" y="3030641"/>
                  <a:pt x="617124" y="3018769"/>
                </a:cubicBezTo>
                <a:cubicBezTo>
                  <a:pt x="552324" y="2942187"/>
                  <a:pt x="566872" y="2931194"/>
                  <a:pt x="505157" y="2869479"/>
                </a:cubicBezTo>
                <a:cubicBezTo>
                  <a:pt x="494161" y="2858483"/>
                  <a:pt x="480275" y="2850818"/>
                  <a:pt x="467834" y="2841487"/>
                </a:cubicBezTo>
                <a:cubicBezTo>
                  <a:pt x="439842" y="2794834"/>
                  <a:pt x="408190" y="2750190"/>
                  <a:pt x="383859" y="2701528"/>
                </a:cubicBezTo>
                <a:cubicBezTo>
                  <a:pt x="377639" y="2689087"/>
                  <a:pt x="369597" y="2677401"/>
                  <a:pt x="365198" y="2664206"/>
                </a:cubicBezTo>
                <a:cubicBezTo>
                  <a:pt x="321007" y="2531636"/>
                  <a:pt x="381193" y="2645013"/>
                  <a:pt x="299883" y="2514916"/>
                </a:cubicBezTo>
                <a:cubicBezTo>
                  <a:pt x="296773" y="2493145"/>
                  <a:pt x="294487" y="2471240"/>
                  <a:pt x="290553" y="2449602"/>
                </a:cubicBezTo>
                <a:cubicBezTo>
                  <a:pt x="288259" y="2436985"/>
                  <a:pt x="283330" y="2424928"/>
                  <a:pt x="281222" y="2412279"/>
                </a:cubicBezTo>
                <a:cubicBezTo>
                  <a:pt x="277100" y="2387545"/>
                  <a:pt x="275001" y="2362516"/>
                  <a:pt x="271891" y="2337634"/>
                </a:cubicBezTo>
                <a:cubicBezTo>
                  <a:pt x="284332" y="2188344"/>
                  <a:pt x="291264" y="2038493"/>
                  <a:pt x="309214" y="1889765"/>
                </a:cubicBezTo>
                <a:cubicBezTo>
                  <a:pt x="318271" y="1814718"/>
                  <a:pt x="337395" y="1808915"/>
                  <a:pt x="355867" y="1749806"/>
                </a:cubicBezTo>
                <a:cubicBezTo>
                  <a:pt x="366444" y="1715958"/>
                  <a:pt x="373669" y="1681135"/>
                  <a:pt x="383859" y="1647169"/>
                </a:cubicBezTo>
                <a:cubicBezTo>
                  <a:pt x="392338" y="1618907"/>
                  <a:pt x="403260" y="1591421"/>
                  <a:pt x="411851" y="1563193"/>
                </a:cubicBezTo>
                <a:cubicBezTo>
                  <a:pt x="425036" y="1519870"/>
                  <a:pt x="428921" y="1473069"/>
                  <a:pt x="449173" y="1432565"/>
                </a:cubicBezTo>
                <a:cubicBezTo>
                  <a:pt x="461614" y="1407683"/>
                  <a:pt x="472478" y="1381949"/>
                  <a:pt x="486495" y="1357920"/>
                </a:cubicBezTo>
                <a:cubicBezTo>
                  <a:pt x="494331" y="1344487"/>
                  <a:pt x="505635" y="1333384"/>
                  <a:pt x="514487" y="1320598"/>
                </a:cubicBezTo>
                <a:cubicBezTo>
                  <a:pt x="533637" y="1292938"/>
                  <a:pt x="551070" y="1264107"/>
                  <a:pt x="570471" y="1236622"/>
                </a:cubicBezTo>
                <a:cubicBezTo>
                  <a:pt x="588407" y="1211213"/>
                  <a:pt x="608751" y="1187549"/>
                  <a:pt x="626455" y="1161977"/>
                </a:cubicBezTo>
                <a:cubicBezTo>
                  <a:pt x="683718" y="1079264"/>
                  <a:pt x="619689" y="1147233"/>
                  <a:pt x="710430" y="1050010"/>
                </a:cubicBezTo>
                <a:cubicBezTo>
                  <a:pt x="755104" y="1002145"/>
                  <a:pt x="818861" y="942053"/>
                  <a:pt x="869051" y="900720"/>
                </a:cubicBezTo>
                <a:cubicBezTo>
                  <a:pt x="893059" y="880948"/>
                  <a:pt x="919802" y="864647"/>
                  <a:pt x="943695" y="844736"/>
                </a:cubicBezTo>
                <a:cubicBezTo>
                  <a:pt x="957211" y="833473"/>
                  <a:pt x="967279" y="818405"/>
                  <a:pt x="981018" y="807414"/>
                </a:cubicBezTo>
                <a:cubicBezTo>
                  <a:pt x="998532" y="793403"/>
                  <a:pt x="1018628" y="782953"/>
                  <a:pt x="1037002" y="770091"/>
                </a:cubicBezTo>
                <a:cubicBezTo>
                  <a:pt x="1049742" y="761173"/>
                  <a:pt x="1060730" y="749652"/>
                  <a:pt x="1074324" y="742100"/>
                </a:cubicBezTo>
                <a:cubicBezTo>
                  <a:pt x="1088965" y="733966"/>
                  <a:pt x="1106336" y="731572"/>
                  <a:pt x="1120977" y="723438"/>
                </a:cubicBezTo>
                <a:cubicBezTo>
                  <a:pt x="1134571" y="715886"/>
                  <a:pt x="1145646" y="704486"/>
                  <a:pt x="1158300" y="695447"/>
                </a:cubicBezTo>
                <a:cubicBezTo>
                  <a:pt x="1202932" y="663567"/>
                  <a:pt x="1220462" y="660229"/>
                  <a:pt x="1279598" y="620802"/>
                </a:cubicBezTo>
                <a:cubicBezTo>
                  <a:pt x="1288928" y="614581"/>
                  <a:pt x="1297407" y="606839"/>
                  <a:pt x="1307589" y="602140"/>
                </a:cubicBezTo>
                <a:cubicBezTo>
                  <a:pt x="1338004" y="588102"/>
                  <a:pt x="1370206" y="578244"/>
                  <a:pt x="1400895" y="564818"/>
                </a:cubicBezTo>
                <a:cubicBezTo>
                  <a:pt x="1504538" y="519474"/>
                  <a:pt x="1418766" y="549529"/>
                  <a:pt x="1484871" y="527496"/>
                </a:cubicBezTo>
                <a:cubicBezTo>
                  <a:pt x="1629118" y="431330"/>
                  <a:pt x="1436619" y="549933"/>
                  <a:pt x="1624830" y="471512"/>
                </a:cubicBezTo>
                <a:cubicBezTo>
                  <a:pt x="1637011" y="466437"/>
                  <a:pt x="1641973" y="451031"/>
                  <a:pt x="1652822" y="443520"/>
                </a:cubicBezTo>
                <a:cubicBezTo>
                  <a:pt x="1682644" y="422874"/>
                  <a:pt x="1711870" y="399452"/>
                  <a:pt x="1746128" y="387536"/>
                </a:cubicBezTo>
                <a:cubicBezTo>
                  <a:pt x="1784766" y="374097"/>
                  <a:pt x="1827123" y="375884"/>
                  <a:pt x="1867426" y="368875"/>
                </a:cubicBezTo>
                <a:cubicBezTo>
                  <a:pt x="1898675" y="363440"/>
                  <a:pt x="1930171" y="358703"/>
                  <a:pt x="1960732" y="350214"/>
                </a:cubicBezTo>
                <a:cubicBezTo>
                  <a:pt x="1986336" y="343102"/>
                  <a:pt x="2009678" y="328985"/>
                  <a:pt x="2035377" y="322222"/>
                </a:cubicBezTo>
                <a:cubicBezTo>
                  <a:pt x="2069005" y="313372"/>
                  <a:pt x="2104069" y="311104"/>
                  <a:pt x="2138014" y="303561"/>
                </a:cubicBezTo>
                <a:cubicBezTo>
                  <a:pt x="2160117" y="298649"/>
                  <a:pt x="2181051" y="288950"/>
                  <a:pt x="2203328" y="284900"/>
                </a:cubicBezTo>
                <a:cubicBezTo>
                  <a:pt x="2249635" y="276480"/>
                  <a:pt x="2296768" y="273395"/>
                  <a:pt x="2343287" y="266238"/>
                </a:cubicBezTo>
                <a:cubicBezTo>
                  <a:pt x="2377656" y="260950"/>
                  <a:pt x="2411284" y="250616"/>
                  <a:pt x="2445924" y="247577"/>
                </a:cubicBezTo>
                <a:cubicBezTo>
                  <a:pt x="2588749" y="235049"/>
                  <a:pt x="2732145" y="230099"/>
                  <a:pt x="2875132" y="219585"/>
                </a:cubicBezTo>
                <a:cubicBezTo>
                  <a:pt x="3388745" y="181819"/>
                  <a:pt x="2805746" y="216183"/>
                  <a:pt x="3248357" y="191593"/>
                </a:cubicBezTo>
                <a:cubicBezTo>
                  <a:pt x="3874793" y="108069"/>
                  <a:pt x="4549050" y="0"/>
                  <a:pt x="5151802" y="200924"/>
                </a:cubicBezTo>
                <a:cubicBezTo>
                  <a:pt x="5214006" y="197814"/>
                  <a:pt x="5276463" y="185184"/>
                  <a:pt x="5338414" y="191593"/>
                </a:cubicBezTo>
                <a:cubicBezTo>
                  <a:pt x="5368883" y="194745"/>
                  <a:pt x="5393179" y="219692"/>
                  <a:pt x="5422389" y="228916"/>
                </a:cubicBezTo>
                <a:cubicBezTo>
                  <a:pt x="5509118" y="256304"/>
                  <a:pt x="5545343" y="234361"/>
                  <a:pt x="5627663" y="294230"/>
                </a:cubicBezTo>
                <a:cubicBezTo>
                  <a:pt x="5661875" y="319112"/>
                  <a:pt x="5696457" y="343493"/>
                  <a:pt x="5730300" y="368875"/>
                </a:cubicBezTo>
                <a:cubicBezTo>
                  <a:pt x="5778104" y="404728"/>
                  <a:pt x="5869055" y="483400"/>
                  <a:pt x="5888920" y="518165"/>
                </a:cubicBezTo>
                <a:cubicBezTo>
                  <a:pt x="5888971" y="518255"/>
                  <a:pt x="5931489" y="596140"/>
                  <a:pt x="5944904" y="611471"/>
                </a:cubicBezTo>
                <a:cubicBezTo>
                  <a:pt x="5959386" y="628022"/>
                  <a:pt x="5978362" y="640530"/>
                  <a:pt x="5991557" y="658124"/>
                </a:cubicBezTo>
                <a:cubicBezTo>
                  <a:pt x="6006602" y="678184"/>
                  <a:pt x="6017147" y="701277"/>
                  <a:pt x="6028879" y="723438"/>
                </a:cubicBezTo>
                <a:cubicBezTo>
                  <a:pt x="6045149" y="754170"/>
                  <a:pt x="6054183" y="789297"/>
                  <a:pt x="6075532" y="816745"/>
                </a:cubicBezTo>
                <a:cubicBezTo>
                  <a:pt x="6176629" y="946725"/>
                  <a:pt x="6115633" y="852310"/>
                  <a:pt x="6159508" y="947373"/>
                </a:cubicBezTo>
                <a:cubicBezTo>
                  <a:pt x="6171165" y="972631"/>
                  <a:pt x="6184985" y="996847"/>
                  <a:pt x="6196830" y="1022018"/>
                </a:cubicBezTo>
                <a:cubicBezTo>
                  <a:pt x="6209873" y="1049734"/>
                  <a:pt x="6220454" y="1078595"/>
                  <a:pt x="6234153" y="1105993"/>
                </a:cubicBezTo>
                <a:cubicBezTo>
                  <a:pt x="6239168" y="1116023"/>
                  <a:pt x="6248501" y="1123634"/>
                  <a:pt x="6252814" y="1133985"/>
                </a:cubicBezTo>
                <a:cubicBezTo>
                  <a:pt x="6264162" y="1161221"/>
                  <a:pt x="6268979" y="1190929"/>
                  <a:pt x="6280806" y="1217961"/>
                </a:cubicBezTo>
                <a:cubicBezTo>
                  <a:pt x="6290857" y="1240934"/>
                  <a:pt x="6305227" y="1261773"/>
                  <a:pt x="6318128" y="1283275"/>
                </a:cubicBezTo>
                <a:cubicBezTo>
                  <a:pt x="6323898" y="1292891"/>
                  <a:pt x="6332294" y="1300993"/>
                  <a:pt x="6336789" y="1311267"/>
                </a:cubicBezTo>
                <a:cubicBezTo>
                  <a:pt x="6354152" y="1350955"/>
                  <a:pt x="6374365" y="1390206"/>
                  <a:pt x="6383442" y="1432565"/>
                </a:cubicBezTo>
                <a:lnTo>
                  <a:pt x="6411434" y="1563193"/>
                </a:lnTo>
                <a:cubicBezTo>
                  <a:pt x="6414544" y="1625397"/>
                  <a:pt x="6422010" y="1687536"/>
                  <a:pt x="6420765" y="1749806"/>
                </a:cubicBezTo>
                <a:cubicBezTo>
                  <a:pt x="6418895" y="1843300"/>
                  <a:pt x="6410090" y="1936553"/>
                  <a:pt x="6402104" y="2029724"/>
                </a:cubicBezTo>
                <a:cubicBezTo>
                  <a:pt x="6400750" y="2045525"/>
                  <a:pt x="6395016" y="2060677"/>
                  <a:pt x="6392773" y="2076377"/>
                </a:cubicBezTo>
                <a:cubicBezTo>
                  <a:pt x="6388790" y="2104258"/>
                  <a:pt x="6393650" y="2134104"/>
                  <a:pt x="6383442" y="2160353"/>
                </a:cubicBezTo>
                <a:cubicBezTo>
                  <a:pt x="6371249" y="2191707"/>
                  <a:pt x="6343896" y="2214975"/>
                  <a:pt x="6327459" y="2244328"/>
                </a:cubicBezTo>
                <a:cubicBezTo>
                  <a:pt x="6300275" y="2292872"/>
                  <a:pt x="6281439" y="2345910"/>
                  <a:pt x="6252814" y="2393618"/>
                </a:cubicBezTo>
                <a:cubicBezTo>
                  <a:pt x="6234153" y="2424720"/>
                  <a:pt x="6213899" y="2454920"/>
                  <a:pt x="6196830" y="2486924"/>
                </a:cubicBezTo>
                <a:cubicBezTo>
                  <a:pt x="6188948" y="2501702"/>
                  <a:pt x="6187460" y="2519641"/>
                  <a:pt x="6178169" y="2533577"/>
                </a:cubicBezTo>
                <a:cubicBezTo>
                  <a:pt x="6156075" y="2566718"/>
                  <a:pt x="6124793" y="2593207"/>
                  <a:pt x="6103524" y="2626883"/>
                </a:cubicBezTo>
                <a:cubicBezTo>
                  <a:pt x="6087167" y="2652782"/>
                  <a:pt x="6083427" y="2685529"/>
                  <a:pt x="6066202" y="2710859"/>
                </a:cubicBezTo>
                <a:cubicBezTo>
                  <a:pt x="6030148" y="2763880"/>
                  <a:pt x="5985740" y="2810716"/>
                  <a:pt x="5944904" y="2860149"/>
                </a:cubicBezTo>
                <a:cubicBezTo>
                  <a:pt x="5926642" y="2882256"/>
                  <a:pt x="5901744" y="2899816"/>
                  <a:pt x="5888920" y="2925463"/>
                </a:cubicBezTo>
                <a:cubicBezTo>
                  <a:pt x="5849700" y="3003903"/>
                  <a:pt x="5895124" y="2922890"/>
                  <a:pt x="5804944" y="3028100"/>
                </a:cubicBezTo>
                <a:cubicBezTo>
                  <a:pt x="5787532" y="3048414"/>
                  <a:pt x="5776496" y="3073808"/>
                  <a:pt x="5758291" y="3093414"/>
                </a:cubicBezTo>
                <a:cubicBezTo>
                  <a:pt x="5735794" y="3117641"/>
                  <a:pt x="5705988" y="3134356"/>
                  <a:pt x="5683647" y="3158728"/>
                </a:cubicBezTo>
                <a:cubicBezTo>
                  <a:pt x="5613001" y="3235796"/>
                  <a:pt x="5713539" y="3184366"/>
                  <a:pt x="5590340" y="3261365"/>
                </a:cubicBezTo>
                <a:cubicBezTo>
                  <a:pt x="5564364" y="3277600"/>
                  <a:pt x="5534357" y="3286246"/>
                  <a:pt x="5506365" y="3298687"/>
                </a:cubicBezTo>
                <a:cubicBezTo>
                  <a:pt x="5449100" y="3355952"/>
                  <a:pt x="5511763" y="3298199"/>
                  <a:pt x="5413059" y="3364002"/>
                </a:cubicBezTo>
                <a:cubicBezTo>
                  <a:pt x="5317807" y="3427504"/>
                  <a:pt x="5405862" y="3375357"/>
                  <a:pt x="5338414" y="3429316"/>
                </a:cubicBezTo>
                <a:cubicBezTo>
                  <a:pt x="5303315" y="3457395"/>
                  <a:pt x="5173720" y="3543870"/>
                  <a:pt x="5151802" y="3550614"/>
                </a:cubicBezTo>
                <a:lnTo>
                  <a:pt x="5030504" y="3587936"/>
                </a:lnTo>
                <a:cubicBezTo>
                  <a:pt x="4880748" y="3687773"/>
                  <a:pt x="5013045" y="3613174"/>
                  <a:pt x="4871883" y="3662581"/>
                </a:cubicBezTo>
                <a:cubicBezTo>
                  <a:pt x="4833720" y="3675938"/>
                  <a:pt x="4798561" y="3697343"/>
                  <a:pt x="4759916" y="3709234"/>
                </a:cubicBezTo>
                <a:cubicBezTo>
                  <a:pt x="4717354" y="3722330"/>
                  <a:pt x="4672608" y="3726912"/>
                  <a:pt x="4629287" y="3737226"/>
                </a:cubicBezTo>
                <a:cubicBezTo>
                  <a:pt x="4607260" y="3742470"/>
                  <a:pt x="4586176" y="3751446"/>
                  <a:pt x="4563973" y="3755887"/>
                </a:cubicBezTo>
                <a:cubicBezTo>
                  <a:pt x="4512321" y="3766218"/>
                  <a:pt x="4349575" y="3786962"/>
                  <a:pt x="4302716" y="3793210"/>
                </a:cubicBezTo>
                <a:cubicBezTo>
                  <a:pt x="4268504" y="3805651"/>
                  <a:pt x="4233741" y="3816671"/>
                  <a:pt x="4200079" y="3830532"/>
                </a:cubicBezTo>
                <a:cubicBezTo>
                  <a:pt x="4180786" y="3838476"/>
                  <a:pt x="4163991" y="3852241"/>
                  <a:pt x="4144095" y="3858524"/>
                </a:cubicBezTo>
                <a:cubicBezTo>
                  <a:pt x="4104526" y="3871020"/>
                  <a:pt x="4063054" y="3876452"/>
                  <a:pt x="4022798" y="3886516"/>
                </a:cubicBezTo>
                <a:cubicBezTo>
                  <a:pt x="4000831" y="3892008"/>
                  <a:pt x="3980120" y="3904651"/>
                  <a:pt x="3957483" y="3905177"/>
                </a:cubicBezTo>
                <a:cubicBezTo>
                  <a:pt x="3578128" y="3913999"/>
                  <a:pt x="3198594" y="3911398"/>
                  <a:pt x="2819149" y="3914508"/>
                </a:cubicBezTo>
                <a:cubicBezTo>
                  <a:pt x="2504879" y="3891229"/>
                  <a:pt x="2651010" y="3904226"/>
                  <a:pt x="2380610" y="3877185"/>
                </a:cubicBezTo>
                <a:cubicBezTo>
                  <a:pt x="2281083" y="3849193"/>
                  <a:pt x="2184274" y="3808547"/>
                  <a:pt x="2082030" y="3793210"/>
                </a:cubicBezTo>
                <a:cubicBezTo>
                  <a:pt x="1980739" y="3778016"/>
                  <a:pt x="1888227" y="3771587"/>
                  <a:pt x="1792781" y="3737226"/>
                </a:cubicBezTo>
                <a:cubicBezTo>
                  <a:pt x="1748208" y="3721180"/>
                  <a:pt x="1704525" y="3702428"/>
                  <a:pt x="1662153" y="3681242"/>
                </a:cubicBezTo>
                <a:cubicBezTo>
                  <a:pt x="1642093" y="3671212"/>
                  <a:pt x="1625478" y="3655330"/>
                  <a:pt x="1606169" y="3643920"/>
                </a:cubicBezTo>
                <a:cubicBezTo>
                  <a:pt x="1557014" y="3614874"/>
                  <a:pt x="1508274" y="3584814"/>
                  <a:pt x="1456879" y="3559945"/>
                </a:cubicBezTo>
                <a:cubicBezTo>
                  <a:pt x="1411649" y="3538059"/>
                  <a:pt x="1362771" y="3524515"/>
                  <a:pt x="1316920" y="3503961"/>
                </a:cubicBezTo>
                <a:cubicBezTo>
                  <a:pt x="1272497" y="3484047"/>
                  <a:pt x="1229834" y="3460418"/>
                  <a:pt x="1186291" y="3438647"/>
                </a:cubicBezTo>
                <a:cubicBezTo>
                  <a:pt x="1093400" y="3345754"/>
                  <a:pt x="1221560" y="3467370"/>
                  <a:pt x="1018340" y="3326679"/>
                </a:cubicBezTo>
                <a:cubicBezTo>
                  <a:pt x="978396" y="3299025"/>
                  <a:pt x="946469" y="3260807"/>
                  <a:pt x="906373" y="3233373"/>
                </a:cubicBezTo>
                <a:cubicBezTo>
                  <a:pt x="886824" y="3219998"/>
                  <a:pt x="859665" y="3220040"/>
                  <a:pt x="841059" y="3205381"/>
                </a:cubicBezTo>
                <a:cubicBezTo>
                  <a:pt x="756254" y="3138565"/>
                  <a:pt x="679715" y="3061872"/>
                  <a:pt x="598463" y="2990777"/>
                </a:cubicBezTo>
                <a:cubicBezTo>
                  <a:pt x="584390" y="2978463"/>
                  <a:pt x="485446" y="2897729"/>
                  <a:pt x="477165" y="2888140"/>
                </a:cubicBezTo>
                <a:lnTo>
                  <a:pt x="299883" y="2682867"/>
                </a:lnTo>
                <a:cubicBezTo>
                  <a:pt x="213714" y="2481809"/>
                  <a:pt x="348836" y="2786140"/>
                  <a:pt x="215908" y="2533577"/>
                </a:cubicBezTo>
                <a:cubicBezTo>
                  <a:pt x="154949" y="2417754"/>
                  <a:pt x="218395" y="2456195"/>
                  <a:pt x="131932" y="2421610"/>
                </a:cubicBezTo>
                <a:cubicBezTo>
                  <a:pt x="119491" y="2387398"/>
                  <a:pt x="103799" y="2354198"/>
                  <a:pt x="94610" y="2318973"/>
                </a:cubicBezTo>
                <a:cubicBezTo>
                  <a:pt x="89333" y="2298746"/>
                  <a:pt x="67779" y="2140978"/>
                  <a:pt x="57287" y="2113700"/>
                </a:cubicBezTo>
                <a:cubicBezTo>
                  <a:pt x="52550" y="2101384"/>
                  <a:pt x="38626" y="2095039"/>
                  <a:pt x="29295" y="2085708"/>
                </a:cubicBezTo>
                <a:cubicBezTo>
                  <a:pt x="2341" y="1816148"/>
                  <a:pt x="0" y="1838162"/>
                  <a:pt x="47957" y="1376581"/>
                </a:cubicBezTo>
                <a:cubicBezTo>
                  <a:pt x="51841" y="1339202"/>
                  <a:pt x="77027" y="1307158"/>
                  <a:pt x="94610" y="1273945"/>
                </a:cubicBezTo>
                <a:cubicBezTo>
                  <a:pt x="136704" y="1194433"/>
                  <a:pt x="159880" y="1203749"/>
                  <a:pt x="225238" y="1115324"/>
                </a:cubicBezTo>
                <a:cubicBezTo>
                  <a:pt x="250921" y="1080577"/>
                  <a:pt x="264208" y="1037605"/>
                  <a:pt x="290553" y="1003357"/>
                </a:cubicBezTo>
                <a:cubicBezTo>
                  <a:pt x="326782" y="956259"/>
                  <a:pt x="373367" y="918003"/>
                  <a:pt x="411851" y="872728"/>
                </a:cubicBezTo>
                <a:cubicBezTo>
                  <a:pt x="426376" y="855639"/>
                  <a:pt x="433314" y="832604"/>
                  <a:pt x="449173" y="816745"/>
                </a:cubicBezTo>
                <a:cubicBezTo>
                  <a:pt x="523523" y="742395"/>
                  <a:pt x="563731" y="715663"/>
                  <a:pt x="654447" y="676785"/>
                </a:cubicBezTo>
                <a:cubicBezTo>
                  <a:pt x="666234" y="671734"/>
                  <a:pt x="679328" y="670565"/>
                  <a:pt x="691769" y="667455"/>
                </a:cubicBezTo>
                <a:cubicBezTo>
                  <a:pt x="745547" y="617814"/>
                  <a:pt x="878698" y="488960"/>
                  <a:pt x="943695" y="452851"/>
                </a:cubicBezTo>
                <a:cubicBezTo>
                  <a:pt x="980675" y="432307"/>
                  <a:pt x="1025461" y="430588"/>
                  <a:pt x="1064993" y="415528"/>
                </a:cubicBezTo>
                <a:cubicBezTo>
                  <a:pt x="1090989" y="405625"/>
                  <a:pt x="1114270" y="389622"/>
                  <a:pt x="1139638" y="378206"/>
                </a:cubicBezTo>
                <a:cubicBezTo>
                  <a:pt x="1201209" y="350500"/>
                  <a:pt x="1294121" y="309254"/>
                  <a:pt x="1363573" y="303561"/>
                </a:cubicBezTo>
                <a:cubicBezTo>
                  <a:pt x="1515590" y="291101"/>
                  <a:pt x="1668392" y="291574"/>
                  <a:pt x="1820773" y="284900"/>
                </a:cubicBezTo>
                <a:lnTo>
                  <a:pt x="2641867" y="247577"/>
                </a:lnTo>
                <a:cubicBezTo>
                  <a:pt x="3611950" y="53559"/>
                  <a:pt x="2778475" y="210566"/>
                  <a:pt x="5329083" y="228916"/>
                </a:cubicBezTo>
                <a:cubicBezTo>
                  <a:pt x="5339881" y="228994"/>
                  <a:pt x="5388908" y="240167"/>
                  <a:pt x="5403728" y="247577"/>
                </a:cubicBezTo>
                <a:cubicBezTo>
                  <a:pt x="5419949" y="255687"/>
                  <a:pt x="5434528" y="266762"/>
                  <a:pt x="5450381" y="275569"/>
                </a:cubicBezTo>
                <a:cubicBezTo>
                  <a:pt x="5462540" y="282324"/>
                  <a:pt x="5475263" y="288010"/>
                  <a:pt x="5487704" y="294230"/>
                </a:cubicBezTo>
                <a:cubicBezTo>
                  <a:pt x="5545284" y="351812"/>
                  <a:pt x="5481592" y="295840"/>
                  <a:pt x="5590340" y="350214"/>
                </a:cubicBezTo>
                <a:cubicBezTo>
                  <a:pt x="5616584" y="363336"/>
                  <a:pt x="5641728" y="378977"/>
                  <a:pt x="5664985" y="396867"/>
                </a:cubicBezTo>
                <a:cubicBezTo>
                  <a:pt x="5682417" y="410276"/>
                  <a:pt x="5694278" y="430018"/>
                  <a:pt x="5711638" y="443520"/>
                </a:cubicBezTo>
                <a:cubicBezTo>
                  <a:pt x="5722617" y="452059"/>
                  <a:pt x="5737566" y="454204"/>
                  <a:pt x="5748961" y="462181"/>
                </a:cubicBezTo>
                <a:cubicBezTo>
                  <a:pt x="5799921" y="497853"/>
                  <a:pt x="5858071" y="526663"/>
                  <a:pt x="5898251" y="574149"/>
                </a:cubicBezTo>
                <a:cubicBezTo>
                  <a:pt x="5932463" y="614582"/>
                  <a:pt x="5960198" y="661540"/>
                  <a:pt x="6000887" y="695447"/>
                </a:cubicBezTo>
                <a:cubicBezTo>
                  <a:pt x="6019548" y="710998"/>
                  <a:pt x="6039694" y="724923"/>
                  <a:pt x="6056871" y="742100"/>
                </a:cubicBezTo>
                <a:cubicBezTo>
                  <a:pt x="6076641" y="761870"/>
                  <a:pt x="6128128" y="827216"/>
                  <a:pt x="6140847" y="854067"/>
                </a:cubicBezTo>
                <a:cubicBezTo>
                  <a:pt x="6159392" y="893217"/>
                  <a:pt x="6171799" y="934990"/>
                  <a:pt x="6187500" y="975365"/>
                </a:cubicBezTo>
                <a:cubicBezTo>
                  <a:pt x="6193571" y="990975"/>
                  <a:pt x="6206161" y="1022018"/>
                  <a:pt x="6206161" y="1022018"/>
                </a:cubicBezTo>
                <a:cubicBezTo>
                  <a:pt x="6227311" y="1148929"/>
                  <a:pt x="6200437" y="1012271"/>
                  <a:pt x="6234153" y="1124655"/>
                </a:cubicBezTo>
                <a:cubicBezTo>
                  <a:pt x="6238710" y="1139845"/>
                  <a:pt x="6236391" y="1157123"/>
                  <a:pt x="6243483" y="1171308"/>
                </a:cubicBezTo>
                <a:cubicBezTo>
                  <a:pt x="6255448" y="1195238"/>
                  <a:pt x="6274585" y="1214851"/>
                  <a:pt x="6290136" y="1236622"/>
                </a:cubicBezTo>
                <a:cubicBezTo>
                  <a:pt x="6296357" y="1264614"/>
                  <a:pt x="6300769" y="1293070"/>
                  <a:pt x="6308798" y="1320598"/>
                </a:cubicBezTo>
                <a:cubicBezTo>
                  <a:pt x="6322568" y="1367807"/>
                  <a:pt x="6355451" y="1460557"/>
                  <a:pt x="6355451" y="1460557"/>
                </a:cubicBezTo>
                <a:cubicBezTo>
                  <a:pt x="6352341" y="1731145"/>
                  <a:pt x="6352132" y="2001781"/>
                  <a:pt x="6346120" y="2272320"/>
                </a:cubicBezTo>
                <a:cubicBezTo>
                  <a:pt x="6345901" y="2282153"/>
                  <a:pt x="6338602" y="2290645"/>
                  <a:pt x="6336789" y="2300312"/>
                </a:cubicBezTo>
                <a:cubicBezTo>
                  <a:pt x="6329250" y="2340520"/>
                  <a:pt x="6325137" y="2381307"/>
                  <a:pt x="6318128" y="2421610"/>
                </a:cubicBezTo>
                <a:cubicBezTo>
                  <a:pt x="6312693" y="2452859"/>
                  <a:pt x="6308581" y="2484536"/>
                  <a:pt x="6299467" y="2514916"/>
                </a:cubicBezTo>
                <a:cubicBezTo>
                  <a:pt x="6270078" y="2612878"/>
                  <a:pt x="6276675" y="2582277"/>
                  <a:pt x="6243483" y="2636214"/>
                </a:cubicBezTo>
                <a:cubicBezTo>
                  <a:pt x="6224474" y="2667104"/>
                  <a:pt x="6208582" y="2700005"/>
                  <a:pt x="6187500" y="2729520"/>
                </a:cubicBezTo>
                <a:cubicBezTo>
                  <a:pt x="6143346" y="2791335"/>
                  <a:pt x="6067442" y="2875392"/>
                  <a:pt x="6010218" y="2925463"/>
                </a:cubicBezTo>
                <a:cubicBezTo>
                  <a:pt x="5968543" y="2961928"/>
                  <a:pt x="5921990" y="2992483"/>
                  <a:pt x="5879589" y="3028100"/>
                </a:cubicBezTo>
                <a:cubicBezTo>
                  <a:pt x="5844186" y="3057839"/>
                  <a:pt x="5809647" y="3088712"/>
                  <a:pt x="5776953" y="3121406"/>
                </a:cubicBezTo>
                <a:cubicBezTo>
                  <a:pt x="5765957" y="3132402"/>
                  <a:pt x="5760635" y="3148455"/>
                  <a:pt x="5748961" y="3158728"/>
                </a:cubicBezTo>
                <a:cubicBezTo>
                  <a:pt x="5682591" y="3217133"/>
                  <a:pt x="5615628" y="3275292"/>
                  <a:pt x="5543687" y="3326679"/>
                </a:cubicBezTo>
                <a:cubicBezTo>
                  <a:pt x="5521916" y="3342230"/>
                  <a:pt x="5501980" y="3360741"/>
                  <a:pt x="5478373" y="3373332"/>
                </a:cubicBezTo>
                <a:cubicBezTo>
                  <a:pt x="5236715" y="3502217"/>
                  <a:pt x="5592080" y="3280391"/>
                  <a:pt x="5319753" y="3447977"/>
                </a:cubicBezTo>
                <a:cubicBezTo>
                  <a:pt x="5254668" y="3488029"/>
                  <a:pt x="5308920" y="3463498"/>
                  <a:pt x="5254438" y="3494630"/>
                </a:cubicBezTo>
                <a:cubicBezTo>
                  <a:pt x="5210953" y="3519479"/>
                  <a:pt x="5225717" y="3509500"/>
                  <a:pt x="5179793" y="3522622"/>
                </a:cubicBezTo>
                <a:cubicBezTo>
                  <a:pt x="5157267" y="3529058"/>
                  <a:pt x="5138355" y="3538630"/>
                  <a:pt x="5114479" y="3541283"/>
                </a:cubicBezTo>
                <a:cubicBezTo>
                  <a:pt x="4993020" y="3554778"/>
                  <a:pt x="4749533" y="3557506"/>
                  <a:pt x="4666610" y="3559945"/>
                </a:cubicBezTo>
                <a:cubicBezTo>
                  <a:pt x="4584231" y="3587403"/>
                  <a:pt x="4670729" y="3561267"/>
                  <a:pt x="4479998" y="3578606"/>
                </a:cubicBezTo>
                <a:cubicBezTo>
                  <a:pt x="4464204" y="3580042"/>
                  <a:pt x="4449154" y="3586688"/>
                  <a:pt x="4433344" y="3587936"/>
                </a:cubicBezTo>
                <a:cubicBezTo>
                  <a:pt x="4330838" y="3596029"/>
                  <a:pt x="4125434" y="3606598"/>
                  <a:pt x="4125434" y="3606598"/>
                </a:cubicBezTo>
                <a:cubicBezTo>
                  <a:pt x="4100552" y="3609708"/>
                  <a:pt x="4075377" y="3611010"/>
                  <a:pt x="4050789" y="3615928"/>
                </a:cubicBezTo>
                <a:cubicBezTo>
                  <a:pt x="4013065" y="3623473"/>
                  <a:pt x="3976270" y="3635108"/>
                  <a:pt x="3938822" y="3643920"/>
                </a:cubicBezTo>
                <a:cubicBezTo>
                  <a:pt x="3923385" y="3647552"/>
                  <a:pt x="3907622" y="3649685"/>
                  <a:pt x="3892169" y="3653251"/>
                </a:cubicBezTo>
                <a:cubicBezTo>
                  <a:pt x="3867178" y="3659018"/>
                  <a:pt x="3842561" y="3666348"/>
                  <a:pt x="3817524" y="3671912"/>
                </a:cubicBezTo>
                <a:cubicBezTo>
                  <a:pt x="3786561" y="3678793"/>
                  <a:pt x="3754892" y="3682501"/>
                  <a:pt x="3724218" y="3690573"/>
                </a:cubicBezTo>
                <a:cubicBezTo>
                  <a:pt x="3515155" y="3745589"/>
                  <a:pt x="3728320" y="3700949"/>
                  <a:pt x="3593589" y="3727896"/>
                </a:cubicBezTo>
                <a:cubicBezTo>
                  <a:pt x="3565597" y="3740337"/>
                  <a:pt x="3539166" y="3757158"/>
                  <a:pt x="3509614" y="3765218"/>
                </a:cubicBezTo>
                <a:cubicBezTo>
                  <a:pt x="3347950" y="3809308"/>
                  <a:pt x="3018244" y="3776327"/>
                  <a:pt x="2931116" y="3774549"/>
                </a:cubicBezTo>
                <a:lnTo>
                  <a:pt x="2501908" y="3755887"/>
                </a:lnTo>
                <a:cubicBezTo>
                  <a:pt x="2479950" y="3754644"/>
                  <a:pt x="2457929" y="3751891"/>
                  <a:pt x="2436593" y="3746557"/>
                </a:cubicBezTo>
                <a:cubicBezTo>
                  <a:pt x="2371950" y="3730396"/>
                  <a:pt x="2276357" y="3696267"/>
                  <a:pt x="2212659" y="3671912"/>
                </a:cubicBezTo>
                <a:cubicBezTo>
                  <a:pt x="2140909" y="3644478"/>
                  <a:pt x="2067477" y="3620820"/>
                  <a:pt x="1998055" y="3587936"/>
                </a:cubicBezTo>
                <a:cubicBezTo>
                  <a:pt x="1938961" y="3559944"/>
                  <a:pt x="1882165" y="3526471"/>
                  <a:pt x="1820773" y="3503961"/>
                </a:cubicBezTo>
                <a:cubicBezTo>
                  <a:pt x="1367388" y="3337719"/>
                  <a:pt x="1688590" y="3470526"/>
                  <a:pt x="1419557" y="3336010"/>
                </a:cubicBezTo>
                <a:cubicBezTo>
                  <a:pt x="1398371" y="3325417"/>
                  <a:pt x="1374553" y="3320205"/>
                  <a:pt x="1354242" y="3308018"/>
                </a:cubicBezTo>
                <a:cubicBezTo>
                  <a:pt x="1265467" y="3254753"/>
                  <a:pt x="1170898" y="3208241"/>
                  <a:pt x="1092985" y="3140067"/>
                </a:cubicBezTo>
                <a:cubicBezTo>
                  <a:pt x="1043222" y="3096524"/>
                  <a:pt x="1000396" y="3043458"/>
                  <a:pt x="943695" y="3009438"/>
                </a:cubicBezTo>
                <a:cubicBezTo>
                  <a:pt x="928144" y="3000108"/>
                  <a:pt x="909866" y="2994271"/>
                  <a:pt x="897042" y="2981447"/>
                </a:cubicBezTo>
                <a:cubicBezTo>
                  <a:pt x="859590" y="2943995"/>
                  <a:pt x="830266" y="2899127"/>
                  <a:pt x="794406" y="2860149"/>
                </a:cubicBezTo>
                <a:cubicBezTo>
                  <a:pt x="758670" y="2821305"/>
                  <a:pt x="718299" y="2786910"/>
                  <a:pt x="682438" y="2748181"/>
                </a:cubicBezTo>
                <a:cubicBezTo>
                  <a:pt x="640494" y="2702882"/>
                  <a:pt x="603660" y="2652980"/>
                  <a:pt x="561140" y="2608222"/>
                </a:cubicBezTo>
                <a:cubicBezTo>
                  <a:pt x="455555" y="2497080"/>
                  <a:pt x="453880" y="2609088"/>
                  <a:pt x="337206" y="2356296"/>
                </a:cubicBezTo>
                <a:cubicBezTo>
                  <a:pt x="318545" y="2315863"/>
                  <a:pt x="299308" y="2275691"/>
                  <a:pt x="281222" y="2234998"/>
                </a:cubicBezTo>
                <a:cubicBezTo>
                  <a:pt x="262633" y="2193172"/>
                  <a:pt x="233370" y="2107096"/>
                  <a:pt x="225238" y="2076377"/>
                </a:cubicBezTo>
                <a:cubicBezTo>
                  <a:pt x="150346" y="1793453"/>
                  <a:pt x="210499" y="1950891"/>
                  <a:pt x="159924" y="1824451"/>
                </a:cubicBezTo>
                <a:cubicBezTo>
                  <a:pt x="166144" y="1622288"/>
                  <a:pt x="166124" y="1419836"/>
                  <a:pt x="178585" y="1217961"/>
                </a:cubicBezTo>
                <a:cubicBezTo>
                  <a:pt x="181704" y="1167427"/>
                  <a:pt x="190566" y="1116703"/>
                  <a:pt x="206577" y="1068671"/>
                </a:cubicBezTo>
                <a:cubicBezTo>
                  <a:pt x="215856" y="1040835"/>
                  <a:pt x="238672" y="1019502"/>
                  <a:pt x="253230" y="994026"/>
                </a:cubicBezTo>
                <a:cubicBezTo>
                  <a:pt x="300103" y="911999"/>
                  <a:pt x="266928" y="930722"/>
                  <a:pt x="365198" y="844736"/>
                </a:cubicBezTo>
                <a:cubicBezTo>
                  <a:pt x="433560" y="784919"/>
                  <a:pt x="507132" y="731287"/>
                  <a:pt x="579802" y="676785"/>
                </a:cubicBezTo>
                <a:cubicBezTo>
                  <a:pt x="619143" y="647279"/>
                  <a:pt x="655055" y="610077"/>
                  <a:pt x="701100" y="592810"/>
                </a:cubicBezTo>
                <a:cubicBezTo>
                  <a:pt x="725981" y="583479"/>
                  <a:pt x="751976" y="576702"/>
                  <a:pt x="775744" y="564818"/>
                </a:cubicBezTo>
                <a:cubicBezTo>
                  <a:pt x="820600" y="542390"/>
                  <a:pt x="860717" y="510925"/>
                  <a:pt x="906373" y="490173"/>
                </a:cubicBezTo>
                <a:cubicBezTo>
                  <a:pt x="1015629" y="440512"/>
                  <a:pt x="1239583" y="373589"/>
                  <a:pt x="1344912" y="359545"/>
                </a:cubicBezTo>
                <a:cubicBezTo>
                  <a:pt x="1391565" y="353324"/>
                  <a:pt x="1438652" y="349771"/>
                  <a:pt x="1484871" y="340883"/>
                </a:cubicBezTo>
                <a:cubicBezTo>
                  <a:pt x="1600489" y="318649"/>
                  <a:pt x="1714653" y="289328"/>
                  <a:pt x="1830104" y="266238"/>
                </a:cubicBezTo>
                <a:cubicBezTo>
                  <a:pt x="1938912" y="244477"/>
                  <a:pt x="1948912" y="244015"/>
                  <a:pt x="2072700" y="210255"/>
                </a:cubicBezTo>
                <a:cubicBezTo>
                  <a:pt x="2211725" y="172339"/>
                  <a:pt x="2233595" y="155279"/>
                  <a:pt x="2371279" y="135610"/>
                </a:cubicBezTo>
                <a:cubicBezTo>
                  <a:pt x="2433165" y="126769"/>
                  <a:pt x="2495860" y="124703"/>
                  <a:pt x="2557891" y="116949"/>
                </a:cubicBezTo>
                <a:cubicBezTo>
                  <a:pt x="2770180" y="90413"/>
                  <a:pt x="2568809" y="99799"/>
                  <a:pt x="2856471" y="70296"/>
                </a:cubicBezTo>
                <a:cubicBezTo>
                  <a:pt x="2915338" y="64258"/>
                  <a:pt x="2974636" y="63612"/>
                  <a:pt x="3033753" y="60965"/>
                </a:cubicBezTo>
                <a:lnTo>
                  <a:pt x="3481622" y="42304"/>
                </a:lnTo>
                <a:lnTo>
                  <a:pt x="4591965" y="51634"/>
                </a:lnTo>
                <a:cubicBezTo>
                  <a:pt x="4697874" y="53711"/>
                  <a:pt x="4803392" y="65336"/>
                  <a:pt x="4909206" y="70296"/>
                </a:cubicBezTo>
                <a:lnTo>
                  <a:pt x="5506365" y="98287"/>
                </a:lnTo>
                <a:cubicBezTo>
                  <a:pt x="5553018" y="113838"/>
                  <a:pt x="5601386" y="124967"/>
                  <a:pt x="5646324" y="144940"/>
                </a:cubicBezTo>
                <a:cubicBezTo>
                  <a:pt x="5674316" y="157381"/>
                  <a:pt x="5701341" y="172277"/>
                  <a:pt x="5730300" y="182263"/>
                </a:cubicBezTo>
                <a:cubicBezTo>
                  <a:pt x="5898500" y="240263"/>
                  <a:pt x="5878126" y="211764"/>
                  <a:pt x="5991557" y="275569"/>
                </a:cubicBezTo>
                <a:cubicBezTo>
                  <a:pt x="6068399" y="318792"/>
                  <a:pt x="6157445" y="385474"/>
                  <a:pt x="6215491" y="443520"/>
                </a:cubicBezTo>
                <a:cubicBezTo>
                  <a:pt x="6249703" y="477732"/>
                  <a:pt x="6285582" y="510356"/>
                  <a:pt x="6318128" y="546157"/>
                </a:cubicBezTo>
                <a:cubicBezTo>
                  <a:pt x="6347863" y="578865"/>
                  <a:pt x="6374965" y="613900"/>
                  <a:pt x="6402104" y="648793"/>
                </a:cubicBezTo>
                <a:cubicBezTo>
                  <a:pt x="6440294" y="697894"/>
                  <a:pt x="6490969" y="740328"/>
                  <a:pt x="6514071" y="798083"/>
                </a:cubicBezTo>
                <a:cubicBezTo>
                  <a:pt x="6526512" y="829185"/>
                  <a:pt x="6540327" y="859772"/>
                  <a:pt x="6551393" y="891389"/>
                </a:cubicBezTo>
                <a:cubicBezTo>
                  <a:pt x="6562120" y="922038"/>
                  <a:pt x="6566827" y="954751"/>
                  <a:pt x="6579385" y="984696"/>
                </a:cubicBezTo>
                <a:cubicBezTo>
                  <a:pt x="6607361" y="1051409"/>
                  <a:pt x="6655145" y="1110457"/>
                  <a:pt x="6672691" y="1180638"/>
                </a:cubicBezTo>
                <a:cubicBezTo>
                  <a:pt x="6690851" y="1253278"/>
                  <a:pt x="6677640" y="1205909"/>
                  <a:pt x="6719344" y="1320598"/>
                </a:cubicBezTo>
                <a:cubicBezTo>
                  <a:pt x="6727621" y="1395088"/>
                  <a:pt x="6740003" y="1493291"/>
                  <a:pt x="6738006" y="1563193"/>
                </a:cubicBezTo>
                <a:cubicBezTo>
                  <a:pt x="6733291" y="1728231"/>
                  <a:pt x="6723502" y="1893163"/>
                  <a:pt x="6710014" y="2057716"/>
                </a:cubicBezTo>
                <a:cubicBezTo>
                  <a:pt x="6707919" y="2083278"/>
                  <a:pt x="6699170" y="2107934"/>
                  <a:pt x="6691353" y="2132361"/>
                </a:cubicBezTo>
                <a:cubicBezTo>
                  <a:pt x="6653409" y="2250935"/>
                  <a:pt x="6630713" y="2315459"/>
                  <a:pt x="6570055" y="2421610"/>
                </a:cubicBezTo>
                <a:cubicBezTo>
                  <a:pt x="6525599" y="2499407"/>
                  <a:pt x="6435513" y="2630798"/>
                  <a:pt x="6374112" y="2692198"/>
                </a:cubicBezTo>
                <a:cubicBezTo>
                  <a:pt x="6346120" y="2720190"/>
                  <a:pt x="6317211" y="2747293"/>
                  <a:pt x="6290136" y="2776173"/>
                </a:cubicBezTo>
                <a:cubicBezTo>
                  <a:pt x="6270524" y="2797092"/>
                  <a:pt x="6256700" y="2823771"/>
                  <a:pt x="6234153" y="2841487"/>
                </a:cubicBezTo>
                <a:cubicBezTo>
                  <a:pt x="6212279" y="2858674"/>
                  <a:pt x="6183362" y="2864497"/>
                  <a:pt x="6159508" y="2878810"/>
                </a:cubicBezTo>
                <a:cubicBezTo>
                  <a:pt x="6105506" y="2911211"/>
                  <a:pt x="6060632" y="2961532"/>
                  <a:pt x="6000887" y="2981447"/>
                </a:cubicBezTo>
                <a:cubicBezTo>
                  <a:pt x="5926956" y="3006091"/>
                  <a:pt x="5941863" y="2997301"/>
                  <a:pt x="5860928" y="3046761"/>
                </a:cubicBezTo>
                <a:cubicBezTo>
                  <a:pt x="5832222" y="3064304"/>
                  <a:pt x="5803063" y="3081531"/>
                  <a:pt x="5776953" y="3102745"/>
                </a:cubicBezTo>
                <a:cubicBezTo>
                  <a:pt x="5753057" y="3122161"/>
                  <a:pt x="5737049" y="3150673"/>
                  <a:pt x="5711638" y="3168059"/>
                </a:cubicBezTo>
                <a:cubicBezTo>
                  <a:pt x="5566125" y="3267619"/>
                  <a:pt x="5644968" y="3189207"/>
                  <a:pt x="5525026" y="3252034"/>
                </a:cubicBezTo>
                <a:cubicBezTo>
                  <a:pt x="5345329" y="3346161"/>
                  <a:pt x="5458182" y="3293227"/>
                  <a:pt x="5357075" y="3364002"/>
                </a:cubicBezTo>
                <a:cubicBezTo>
                  <a:pt x="5342218" y="3374402"/>
                  <a:pt x="5325801" y="3382381"/>
                  <a:pt x="5310422" y="3391993"/>
                </a:cubicBezTo>
                <a:cubicBezTo>
                  <a:pt x="5300912" y="3397936"/>
                  <a:pt x="5291940" y="3404711"/>
                  <a:pt x="5282430" y="3410655"/>
                </a:cubicBezTo>
                <a:cubicBezTo>
                  <a:pt x="5242521" y="3435599"/>
                  <a:pt x="5223657" y="3446393"/>
                  <a:pt x="5179793" y="3466638"/>
                </a:cubicBezTo>
                <a:cubicBezTo>
                  <a:pt x="5158024" y="3476685"/>
                  <a:pt x="5085773" y="3508477"/>
                  <a:pt x="5058495" y="3513291"/>
                </a:cubicBezTo>
                <a:cubicBezTo>
                  <a:pt x="5024665" y="3519261"/>
                  <a:pt x="4990208" y="3522124"/>
                  <a:pt x="4955859" y="3522622"/>
                </a:cubicBezTo>
                <a:lnTo>
                  <a:pt x="3770871" y="3531953"/>
                </a:lnTo>
                <a:cubicBezTo>
                  <a:pt x="3670930" y="3565264"/>
                  <a:pt x="3781979" y="3531953"/>
                  <a:pt x="3528275" y="3531953"/>
                </a:cubicBezTo>
                <a:cubicBezTo>
                  <a:pt x="3469099" y="3531953"/>
                  <a:pt x="3410087" y="3538173"/>
                  <a:pt x="3350993" y="3541283"/>
                </a:cubicBezTo>
                <a:cubicBezTo>
                  <a:pt x="3317215" y="3518764"/>
                  <a:pt x="3328017" y="3532652"/>
                  <a:pt x="3313671" y="3503961"/>
                </a:cubicBezTo>
              </a:path>
            </a:pathLst>
          </a:custGeom>
          <a:noFill/>
          <a:ln w="12600">
            <a:solidFill>
              <a:srgbClr val="4d7bc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674" name="フリーフォーム 8"/>
          <p:cNvSpPr/>
          <p:nvPr/>
        </p:nvSpPr>
        <p:spPr>
          <a:xfrm>
            <a:off x="2957400" y="4049640"/>
            <a:ext cx="1324080" cy="720720"/>
          </a:xfrm>
          <a:custGeom>
            <a:avLst/>
            <a:gdLst/>
            <a:ahLst/>
            <a:rect l="l" t="t" r="r" b="b"/>
            <a:pathLst>
              <a:path w="1324183" h="721517">
                <a:moveTo>
                  <a:pt x="503853" y="718457"/>
                </a:moveTo>
                <a:cubicBezTo>
                  <a:pt x="426098" y="715347"/>
                  <a:pt x="347412" y="721517"/>
                  <a:pt x="270588" y="709126"/>
                </a:cubicBezTo>
                <a:cubicBezTo>
                  <a:pt x="248446" y="705555"/>
                  <a:pt x="232308" y="685573"/>
                  <a:pt x="214604" y="671804"/>
                </a:cubicBezTo>
                <a:cubicBezTo>
                  <a:pt x="192329" y="654479"/>
                  <a:pt x="164974" y="616764"/>
                  <a:pt x="149290" y="597159"/>
                </a:cubicBezTo>
                <a:cubicBezTo>
                  <a:pt x="141939" y="567756"/>
                  <a:pt x="140666" y="558610"/>
                  <a:pt x="130629" y="531845"/>
                </a:cubicBezTo>
                <a:cubicBezTo>
                  <a:pt x="104276" y="461571"/>
                  <a:pt x="118271" y="510410"/>
                  <a:pt x="102637" y="447869"/>
                </a:cubicBezTo>
                <a:cubicBezTo>
                  <a:pt x="105747" y="388775"/>
                  <a:pt x="104627" y="329306"/>
                  <a:pt x="111967" y="270587"/>
                </a:cubicBezTo>
                <a:cubicBezTo>
                  <a:pt x="114044" y="253967"/>
                  <a:pt x="120778" y="237480"/>
                  <a:pt x="130629" y="223934"/>
                </a:cubicBezTo>
                <a:cubicBezTo>
                  <a:pt x="146151" y="202591"/>
                  <a:pt x="166004" y="184437"/>
                  <a:pt x="186612" y="167951"/>
                </a:cubicBezTo>
                <a:cubicBezTo>
                  <a:pt x="206223" y="152263"/>
                  <a:pt x="260669" y="137045"/>
                  <a:pt x="279918" y="130628"/>
                </a:cubicBezTo>
                <a:cubicBezTo>
                  <a:pt x="357813" y="134169"/>
                  <a:pt x="507038" y="138366"/>
                  <a:pt x="597159" y="149290"/>
                </a:cubicBezTo>
                <a:cubicBezTo>
                  <a:pt x="662657" y="157229"/>
                  <a:pt x="727788" y="167951"/>
                  <a:pt x="793102" y="177281"/>
                </a:cubicBezTo>
                <a:cubicBezTo>
                  <a:pt x="839755" y="199053"/>
                  <a:pt x="887013" y="219572"/>
                  <a:pt x="933061" y="242596"/>
                </a:cubicBezTo>
                <a:cubicBezTo>
                  <a:pt x="949282" y="250706"/>
                  <a:pt x="963493" y="262477"/>
                  <a:pt x="979714" y="270587"/>
                </a:cubicBezTo>
                <a:cubicBezTo>
                  <a:pt x="1000900" y="281180"/>
                  <a:pt x="1024234" y="287236"/>
                  <a:pt x="1045029" y="298579"/>
                </a:cubicBezTo>
                <a:cubicBezTo>
                  <a:pt x="1058681" y="306026"/>
                  <a:pt x="1070544" y="316451"/>
                  <a:pt x="1082351" y="326571"/>
                </a:cubicBezTo>
                <a:cubicBezTo>
                  <a:pt x="1092370" y="335159"/>
                  <a:pt x="1098285" y="349204"/>
                  <a:pt x="1110343" y="354563"/>
                </a:cubicBezTo>
                <a:cubicBezTo>
                  <a:pt x="1127631" y="362247"/>
                  <a:pt x="1147666" y="360784"/>
                  <a:pt x="1166327" y="363894"/>
                </a:cubicBezTo>
                <a:cubicBezTo>
                  <a:pt x="1181878" y="382555"/>
                  <a:pt x="1197805" y="400909"/>
                  <a:pt x="1212980" y="419877"/>
                </a:cubicBezTo>
                <a:cubicBezTo>
                  <a:pt x="1222695" y="432020"/>
                  <a:pt x="1239344" y="441734"/>
                  <a:pt x="1240972" y="457200"/>
                </a:cubicBezTo>
                <a:cubicBezTo>
                  <a:pt x="1254949" y="589988"/>
                  <a:pt x="1245681" y="572430"/>
                  <a:pt x="1194318" y="653143"/>
                </a:cubicBezTo>
                <a:cubicBezTo>
                  <a:pt x="1157003" y="711782"/>
                  <a:pt x="1183615" y="688271"/>
                  <a:pt x="1138335" y="718457"/>
                </a:cubicBezTo>
                <a:lnTo>
                  <a:pt x="326572" y="709126"/>
                </a:lnTo>
                <a:cubicBezTo>
                  <a:pt x="304584" y="708658"/>
                  <a:pt x="282778" y="704327"/>
                  <a:pt x="261257" y="699796"/>
                </a:cubicBezTo>
                <a:cubicBezTo>
                  <a:pt x="172337" y="681076"/>
                  <a:pt x="164245" y="676789"/>
                  <a:pt x="93306" y="653143"/>
                </a:cubicBezTo>
                <a:cubicBezTo>
                  <a:pt x="38363" y="598197"/>
                  <a:pt x="133018" y="687293"/>
                  <a:pt x="18661" y="615820"/>
                </a:cubicBezTo>
                <a:cubicBezTo>
                  <a:pt x="9152" y="609877"/>
                  <a:pt x="6220" y="597159"/>
                  <a:pt x="0" y="587828"/>
                </a:cubicBezTo>
                <a:cubicBezTo>
                  <a:pt x="6220" y="541175"/>
                  <a:pt x="10923" y="494294"/>
                  <a:pt x="18661" y="447869"/>
                </a:cubicBezTo>
                <a:cubicBezTo>
                  <a:pt x="20278" y="438167"/>
                  <a:pt x="21515" y="427279"/>
                  <a:pt x="27992" y="419877"/>
                </a:cubicBezTo>
                <a:cubicBezTo>
                  <a:pt x="43988" y="401596"/>
                  <a:pt x="67401" y="390982"/>
                  <a:pt x="83976" y="373224"/>
                </a:cubicBezTo>
                <a:cubicBezTo>
                  <a:pt x="189305" y="260371"/>
                  <a:pt x="148687" y="246874"/>
                  <a:pt x="317241" y="149290"/>
                </a:cubicBezTo>
                <a:cubicBezTo>
                  <a:pt x="376335" y="115078"/>
                  <a:pt x="427989" y="62007"/>
                  <a:pt x="494523" y="46653"/>
                </a:cubicBezTo>
                <a:cubicBezTo>
                  <a:pt x="649703" y="10842"/>
                  <a:pt x="574994" y="26084"/>
                  <a:pt x="718457" y="0"/>
                </a:cubicBezTo>
                <a:cubicBezTo>
                  <a:pt x="808653" y="9331"/>
                  <a:pt x="899068" y="16745"/>
                  <a:pt x="989045" y="27992"/>
                </a:cubicBezTo>
                <a:cubicBezTo>
                  <a:pt x="998804" y="29212"/>
                  <a:pt x="1008439" y="32546"/>
                  <a:pt x="1017037" y="37322"/>
                </a:cubicBezTo>
                <a:cubicBezTo>
                  <a:pt x="1036643" y="48214"/>
                  <a:pt x="1054934" y="61382"/>
                  <a:pt x="1073020" y="74645"/>
                </a:cubicBezTo>
                <a:cubicBezTo>
                  <a:pt x="1101617" y="95616"/>
                  <a:pt x="1129004" y="118188"/>
                  <a:pt x="1156996" y="139959"/>
                </a:cubicBezTo>
                <a:cubicBezTo>
                  <a:pt x="1226878" y="314667"/>
                  <a:pt x="1154712" y="157699"/>
                  <a:pt x="1250302" y="307910"/>
                </a:cubicBezTo>
                <a:cubicBezTo>
                  <a:pt x="1255582" y="316208"/>
                  <a:pt x="1255234" y="327105"/>
                  <a:pt x="1259633" y="335902"/>
                </a:cubicBezTo>
                <a:cubicBezTo>
                  <a:pt x="1270847" y="358330"/>
                  <a:pt x="1284514" y="379445"/>
                  <a:pt x="1296955" y="401216"/>
                </a:cubicBezTo>
                <a:cubicBezTo>
                  <a:pt x="1310688" y="469879"/>
                  <a:pt x="1324183" y="506248"/>
                  <a:pt x="1278294" y="587828"/>
                </a:cubicBezTo>
                <a:cubicBezTo>
                  <a:pt x="1269019" y="604317"/>
                  <a:pt x="1240971" y="594049"/>
                  <a:pt x="1222310" y="597159"/>
                </a:cubicBezTo>
                <a:cubicBezTo>
                  <a:pt x="981202" y="717715"/>
                  <a:pt x="1174411" y="631851"/>
                  <a:pt x="541176" y="615820"/>
                </a:cubicBezTo>
                <a:cubicBezTo>
                  <a:pt x="503736" y="614872"/>
                  <a:pt x="466550" y="609362"/>
                  <a:pt x="429208" y="606490"/>
                </a:cubicBezTo>
                <a:lnTo>
                  <a:pt x="298580" y="597159"/>
                </a:lnTo>
                <a:cubicBezTo>
                  <a:pt x="273291" y="592101"/>
                  <a:pt x="242240" y="592048"/>
                  <a:pt x="223935" y="569167"/>
                </a:cubicBezTo>
                <a:cubicBezTo>
                  <a:pt x="213621" y="556274"/>
                  <a:pt x="214604" y="545303"/>
                  <a:pt x="214604" y="531845"/>
                </a:cubicBezTo>
              </a:path>
            </a:pathLst>
          </a:custGeom>
          <a:noFill/>
          <a:ln w="12600">
            <a:solidFill>
              <a:srgbClr val="00b0f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675" name="フリーフォーム 9"/>
          <p:cNvSpPr/>
          <p:nvPr/>
        </p:nvSpPr>
        <p:spPr>
          <a:xfrm>
            <a:off x="3537000" y="4665600"/>
            <a:ext cx="709560" cy="457200"/>
          </a:xfrm>
          <a:custGeom>
            <a:avLst/>
            <a:gdLst/>
            <a:ahLst/>
            <a:rect l="l" t="t" r="r" b="b"/>
            <a:pathLst>
              <a:path w="709848" h="457200">
                <a:moveTo>
                  <a:pt x="158620" y="457200"/>
                </a:moveTo>
                <a:cubicBezTo>
                  <a:pt x="122517" y="421096"/>
                  <a:pt x="87257" y="386930"/>
                  <a:pt x="55984" y="345233"/>
                </a:cubicBezTo>
                <a:cubicBezTo>
                  <a:pt x="50083" y="337365"/>
                  <a:pt x="49763" y="326572"/>
                  <a:pt x="46653" y="317241"/>
                </a:cubicBezTo>
                <a:cubicBezTo>
                  <a:pt x="52873" y="283029"/>
                  <a:pt x="53890" y="247447"/>
                  <a:pt x="65314" y="214604"/>
                </a:cubicBezTo>
                <a:cubicBezTo>
                  <a:pt x="79022" y="175192"/>
                  <a:pt x="87916" y="127674"/>
                  <a:pt x="121298" y="102637"/>
                </a:cubicBezTo>
                <a:cubicBezTo>
                  <a:pt x="133739" y="93306"/>
                  <a:pt x="146813" y="84765"/>
                  <a:pt x="158620" y="74645"/>
                </a:cubicBezTo>
                <a:cubicBezTo>
                  <a:pt x="168639" y="66057"/>
                  <a:pt x="175874" y="54323"/>
                  <a:pt x="186612" y="46653"/>
                </a:cubicBezTo>
                <a:cubicBezTo>
                  <a:pt x="197931" y="38568"/>
                  <a:pt x="211224" y="33641"/>
                  <a:pt x="223935" y="27992"/>
                </a:cubicBezTo>
                <a:cubicBezTo>
                  <a:pt x="257404" y="13117"/>
                  <a:pt x="267803" y="10259"/>
                  <a:pt x="298580" y="0"/>
                </a:cubicBezTo>
                <a:cubicBezTo>
                  <a:pt x="351453" y="3110"/>
                  <a:pt x="404434" y="4743"/>
                  <a:pt x="457200" y="9331"/>
                </a:cubicBezTo>
                <a:cubicBezTo>
                  <a:pt x="476048" y="10970"/>
                  <a:pt x="495470" y="12018"/>
                  <a:pt x="513184" y="18661"/>
                </a:cubicBezTo>
                <a:cubicBezTo>
                  <a:pt x="545743" y="30871"/>
                  <a:pt x="576672" y="47423"/>
                  <a:pt x="606490" y="65314"/>
                </a:cubicBezTo>
                <a:cubicBezTo>
                  <a:pt x="662759" y="99076"/>
                  <a:pt x="638053" y="83246"/>
                  <a:pt x="681135" y="111967"/>
                </a:cubicBezTo>
                <a:cubicBezTo>
                  <a:pt x="684245" y="121298"/>
                  <a:pt x="687763" y="130502"/>
                  <a:pt x="690465" y="139959"/>
                </a:cubicBezTo>
                <a:cubicBezTo>
                  <a:pt x="709848" y="207802"/>
                  <a:pt x="703722" y="206266"/>
                  <a:pt x="681135" y="307910"/>
                </a:cubicBezTo>
                <a:cubicBezTo>
                  <a:pt x="678163" y="321284"/>
                  <a:pt x="645504" y="376432"/>
                  <a:pt x="634482" y="382555"/>
                </a:cubicBezTo>
                <a:cubicBezTo>
                  <a:pt x="617944" y="391743"/>
                  <a:pt x="597159" y="388776"/>
                  <a:pt x="578498" y="391886"/>
                </a:cubicBezTo>
                <a:cubicBezTo>
                  <a:pt x="475861" y="388776"/>
                  <a:pt x="373137" y="387814"/>
                  <a:pt x="270588" y="382555"/>
                </a:cubicBezTo>
                <a:cubicBezTo>
                  <a:pt x="234927" y="380726"/>
                  <a:pt x="210609" y="371300"/>
                  <a:pt x="177282" y="363894"/>
                </a:cubicBezTo>
                <a:cubicBezTo>
                  <a:pt x="161801" y="360454"/>
                  <a:pt x="146014" y="358409"/>
                  <a:pt x="130629" y="354563"/>
                </a:cubicBezTo>
                <a:cubicBezTo>
                  <a:pt x="103168" y="347698"/>
                  <a:pt x="92022" y="339926"/>
                  <a:pt x="65314" y="326572"/>
                </a:cubicBezTo>
                <a:cubicBezTo>
                  <a:pt x="59094" y="320351"/>
                  <a:pt x="53522" y="313406"/>
                  <a:pt x="46653" y="307910"/>
                </a:cubicBezTo>
                <a:cubicBezTo>
                  <a:pt x="37896" y="300905"/>
                  <a:pt x="24604" y="298758"/>
                  <a:pt x="18661" y="289249"/>
                </a:cubicBezTo>
                <a:cubicBezTo>
                  <a:pt x="8236" y="272568"/>
                  <a:pt x="0" y="233265"/>
                  <a:pt x="0" y="233265"/>
                </a:cubicBezTo>
                <a:cubicBezTo>
                  <a:pt x="2019" y="225191"/>
                  <a:pt x="12714" y="178358"/>
                  <a:pt x="18661" y="167951"/>
                </a:cubicBezTo>
                <a:cubicBezTo>
                  <a:pt x="30470" y="147285"/>
                  <a:pt x="65910" y="106855"/>
                  <a:pt x="83976" y="93306"/>
                </a:cubicBezTo>
                <a:cubicBezTo>
                  <a:pt x="95103" y="84961"/>
                  <a:pt x="108384" y="79811"/>
                  <a:pt x="121298" y="74645"/>
                </a:cubicBezTo>
                <a:cubicBezTo>
                  <a:pt x="168649" y="55705"/>
                  <a:pt x="177083" y="56024"/>
                  <a:pt x="223935" y="46653"/>
                </a:cubicBezTo>
                <a:cubicBezTo>
                  <a:pt x="329682" y="49763"/>
                  <a:pt x="435680" y="48072"/>
                  <a:pt x="541176" y="55984"/>
                </a:cubicBezTo>
                <a:cubicBezTo>
                  <a:pt x="560791" y="57455"/>
                  <a:pt x="580479" y="64220"/>
                  <a:pt x="597159" y="74645"/>
                </a:cubicBezTo>
                <a:cubicBezTo>
                  <a:pt x="606668" y="80588"/>
                  <a:pt x="610503" y="92763"/>
                  <a:pt x="615820" y="102637"/>
                </a:cubicBezTo>
                <a:cubicBezTo>
                  <a:pt x="632306" y="133254"/>
                  <a:pt x="662474" y="195943"/>
                  <a:pt x="662474" y="195943"/>
                </a:cubicBezTo>
                <a:cubicBezTo>
                  <a:pt x="659364" y="233265"/>
                  <a:pt x="662226" y="271577"/>
                  <a:pt x="653143" y="307910"/>
                </a:cubicBezTo>
                <a:cubicBezTo>
                  <a:pt x="645357" y="339053"/>
                  <a:pt x="602233" y="361358"/>
                  <a:pt x="578498" y="373225"/>
                </a:cubicBezTo>
                <a:cubicBezTo>
                  <a:pt x="571881" y="376533"/>
                  <a:pt x="507528" y="405583"/>
                  <a:pt x="485192" y="410547"/>
                </a:cubicBezTo>
                <a:cubicBezTo>
                  <a:pt x="461879" y="415728"/>
                  <a:pt x="384740" y="426230"/>
                  <a:pt x="363894" y="429208"/>
                </a:cubicBezTo>
                <a:lnTo>
                  <a:pt x="46653" y="410547"/>
                </a:lnTo>
              </a:path>
            </a:pathLst>
          </a:custGeom>
          <a:noFill/>
          <a:ln w="12600">
            <a:solidFill>
              <a:srgbClr val="acc1e8"/>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676" name="フリーフォーム 10"/>
          <p:cNvSpPr/>
          <p:nvPr/>
        </p:nvSpPr>
        <p:spPr>
          <a:xfrm>
            <a:off x="4130640" y="4879800"/>
            <a:ext cx="441360" cy="317520"/>
          </a:xfrm>
          <a:custGeom>
            <a:avLst/>
            <a:gdLst/>
            <a:ahLst/>
            <a:rect l="l" t="t" r="r" b="b"/>
            <a:pathLst>
              <a:path w="440762" h="317241">
                <a:moveTo>
                  <a:pt x="263480" y="298580"/>
                </a:moveTo>
                <a:cubicBezTo>
                  <a:pt x="207954" y="317088"/>
                  <a:pt x="214846" y="317241"/>
                  <a:pt x="123521" y="317241"/>
                </a:cubicBezTo>
                <a:cubicBezTo>
                  <a:pt x="104603" y="317241"/>
                  <a:pt x="86199" y="311020"/>
                  <a:pt x="67538" y="307910"/>
                </a:cubicBezTo>
                <a:cubicBezTo>
                  <a:pt x="61317" y="298580"/>
                  <a:pt x="55881" y="288676"/>
                  <a:pt x="48876" y="279919"/>
                </a:cubicBezTo>
                <a:cubicBezTo>
                  <a:pt x="43380" y="273050"/>
                  <a:pt x="34580" y="268895"/>
                  <a:pt x="30215" y="261257"/>
                </a:cubicBezTo>
                <a:cubicBezTo>
                  <a:pt x="14600" y="233930"/>
                  <a:pt x="9638" y="206940"/>
                  <a:pt x="2223" y="177282"/>
                </a:cubicBezTo>
                <a:cubicBezTo>
                  <a:pt x="5333" y="143070"/>
                  <a:pt x="0" y="106997"/>
                  <a:pt x="11554" y="74645"/>
                </a:cubicBezTo>
                <a:cubicBezTo>
                  <a:pt x="16784" y="60000"/>
                  <a:pt x="34756" y="53170"/>
                  <a:pt x="48876" y="46653"/>
                </a:cubicBezTo>
                <a:cubicBezTo>
                  <a:pt x="75666" y="34288"/>
                  <a:pt x="132852" y="18661"/>
                  <a:pt x="132852" y="18661"/>
                </a:cubicBezTo>
                <a:cubicBezTo>
                  <a:pt x="198166" y="21771"/>
                  <a:pt x="263872" y="20201"/>
                  <a:pt x="328795" y="27992"/>
                </a:cubicBezTo>
                <a:cubicBezTo>
                  <a:pt x="342605" y="29649"/>
                  <a:pt x="356282" y="36818"/>
                  <a:pt x="366117" y="46653"/>
                </a:cubicBezTo>
                <a:cubicBezTo>
                  <a:pt x="373072" y="53608"/>
                  <a:pt x="370568" y="66105"/>
                  <a:pt x="375448" y="74645"/>
                </a:cubicBezTo>
                <a:cubicBezTo>
                  <a:pt x="383164" y="88147"/>
                  <a:pt x="394109" y="99527"/>
                  <a:pt x="403440" y="111968"/>
                </a:cubicBezTo>
                <a:cubicBezTo>
                  <a:pt x="419136" y="190453"/>
                  <a:pt x="418043" y="163094"/>
                  <a:pt x="403440" y="279919"/>
                </a:cubicBezTo>
                <a:cubicBezTo>
                  <a:pt x="402220" y="289678"/>
                  <a:pt x="401064" y="300956"/>
                  <a:pt x="394109" y="307910"/>
                </a:cubicBezTo>
                <a:cubicBezTo>
                  <a:pt x="387154" y="314865"/>
                  <a:pt x="375448" y="314131"/>
                  <a:pt x="366117" y="317241"/>
                </a:cubicBezTo>
                <a:cubicBezTo>
                  <a:pt x="303913" y="314131"/>
                  <a:pt x="241572" y="313082"/>
                  <a:pt x="179505" y="307910"/>
                </a:cubicBezTo>
                <a:cubicBezTo>
                  <a:pt x="166725" y="306845"/>
                  <a:pt x="154757" y="301095"/>
                  <a:pt x="142182" y="298580"/>
                </a:cubicBezTo>
                <a:cubicBezTo>
                  <a:pt x="123631" y="294870"/>
                  <a:pt x="104860" y="292359"/>
                  <a:pt x="86199" y="289249"/>
                </a:cubicBezTo>
                <a:cubicBezTo>
                  <a:pt x="70648" y="279918"/>
                  <a:pt x="54925" y="270869"/>
                  <a:pt x="39546" y="261257"/>
                </a:cubicBezTo>
                <a:cubicBezTo>
                  <a:pt x="30037" y="255314"/>
                  <a:pt x="12414" y="253777"/>
                  <a:pt x="11554" y="242596"/>
                </a:cubicBezTo>
                <a:cubicBezTo>
                  <a:pt x="8887" y="207925"/>
                  <a:pt x="22929" y="173960"/>
                  <a:pt x="30215" y="139959"/>
                </a:cubicBezTo>
                <a:cubicBezTo>
                  <a:pt x="33524" y="124519"/>
                  <a:pt x="49886" y="84353"/>
                  <a:pt x="58207" y="74645"/>
                </a:cubicBezTo>
                <a:cubicBezTo>
                  <a:pt x="68327" y="62838"/>
                  <a:pt x="82342" y="54895"/>
                  <a:pt x="95529" y="46653"/>
                </a:cubicBezTo>
                <a:cubicBezTo>
                  <a:pt x="143622" y="16595"/>
                  <a:pt x="141798" y="31231"/>
                  <a:pt x="207497" y="9331"/>
                </a:cubicBezTo>
                <a:lnTo>
                  <a:pt x="235489" y="0"/>
                </a:lnTo>
                <a:cubicBezTo>
                  <a:pt x="266591" y="3110"/>
                  <a:pt x="298920" y="139"/>
                  <a:pt x="328795" y="9331"/>
                </a:cubicBezTo>
                <a:cubicBezTo>
                  <a:pt x="341407" y="13212"/>
                  <a:pt x="346649" y="28876"/>
                  <a:pt x="356786" y="37323"/>
                </a:cubicBezTo>
                <a:cubicBezTo>
                  <a:pt x="365401" y="44502"/>
                  <a:pt x="376848" y="48055"/>
                  <a:pt x="384778" y="55984"/>
                </a:cubicBezTo>
                <a:cubicBezTo>
                  <a:pt x="395774" y="66980"/>
                  <a:pt x="405218" y="79712"/>
                  <a:pt x="412770" y="93306"/>
                </a:cubicBezTo>
                <a:cubicBezTo>
                  <a:pt x="422066" y="110038"/>
                  <a:pt x="433779" y="147003"/>
                  <a:pt x="440762" y="167951"/>
                </a:cubicBezTo>
                <a:cubicBezTo>
                  <a:pt x="437652" y="180392"/>
                  <a:pt x="438228" y="194399"/>
                  <a:pt x="431431" y="205274"/>
                </a:cubicBezTo>
                <a:cubicBezTo>
                  <a:pt x="422106" y="220193"/>
                  <a:pt x="407467" y="231146"/>
                  <a:pt x="394109" y="242596"/>
                </a:cubicBezTo>
                <a:cubicBezTo>
                  <a:pt x="385595" y="249894"/>
                  <a:pt x="375853" y="255693"/>
                  <a:pt x="366117" y="261257"/>
                </a:cubicBezTo>
                <a:cubicBezTo>
                  <a:pt x="354040" y="268158"/>
                  <a:pt x="341819" y="275035"/>
                  <a:pt x="328795" y="279919"/>
                </a:cubicBezTo>
                <a:cubicBezTo>
                  <a:pt x="269721" y="302072"/>
                  <a:pt x="182483" y="289249"/>
                  <a:pt x="132852" y="289249"/>
                </a:cubicBezTo>
              </a:path>
            </a:pathLst>
          </a:custGeom>
          <a:noFill/>
          <a:ln w="12600">
            <a:solidFill>
              <a:srgbClr val="cdee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677" name="フリーフォーム 12"/>
          <p:cNvSpPr/>
          <p:nvPr/>
        </p:nvSpPr>
        <p:spPr>
          <a:xfrm>
            <a:off x="644400" y="733320"/>
            <a:ext cx="6527880" cy="3614760"/>
          </a:xfrm>
          <a:custGeom>
            <a:avLst/>
            <a:gdLst/>
            <a:ahLst/>
            <a:rect l="l" t="t" r="r" b="b"/>
            <a:pathLst>
              <a:path w="6528495" h="3614473">
                <a:moveTo>
                  <a:pt x="2911151" y="3614473"/>
                </a:moveTo>
                <a:lnTo>
                  <a:pt x="1539551" y="3586481"/>
                </a:lnTo>
                <a:cubicBezTo>
                  <a:pt x="1458648" y="3584610"/>
                  <a:pt x="1377712" y="3582361"/>
                  <a:pt x="1296955" y="3577151"/>
                </a:cubicBezTo>
                <a:cubicBezTo>
                  <a:pt x="1281129" y="3576130"/>
                  <a:pt x="1265739" y="3571452"/>
                  <a:pt x="1250302" y="3567820"/>
                </a:cubicBezTo>
                <a:cubicBezTo>
                  <a:pt x="1212854" y="3559008"/>
                  <a:pt x="1175077" y="3551231"/>
                  <a:pt x="1138335" y="3539828"/>
                </a:cubicBezTo>
                <a:cubicBezTo>
                  <a:pt x="1084785" y="3523209"/>
                  <a:pt x="1034696" y="3494841"/>
                  <a:pt x="979715" y="3483845"/>
                </a:cubicBezTo>
                <a:lnTo>
                  <a:pt x="886408" y="3465184"/>
                </a:lnTo>
                <a:cubicBezTo>
                  <a:pt x="855251" y="3458625"/>
                  <a:pt x="808227" y="3450706"/>
                  <a:pt x="774441" y="3437192"/>
                </a:cubicBezTo>
                <a:cubicBezTo>
                  <a:pt x="752449" y="3428395"/>
                  <a:pt x="729300" y="3421614"/>
                  <a:pt x="709127" y="3409200"/>
                </a:cubicBezTo>
                <a:cubicBezTo>
                  <a:pt x="570609" y="3323958"/>
                  <a:pt x="723732" y="3390782"/>
                  <a:pt x="606490" y="3343886"/>
                </a:cubicBezTo>
                <a:cubicBezTo>
                  <a:pt x="587829" y="3328335"/>
                  <a:pt x="570407" y="3311163"/>
                  <a:pt x="550506" y="3297232"/>
                </a:cubicBezTo>
                <a:cubicBezTo>
                  <a:pt x="539111" y="3289256"/>
                  <a:pt x="524382" y="3286822"/>
                  <a:pt x="513184" y="3278571"/>
                </a:cubicBezTo>
                <a:cubicBezTo>
                  <a:pt x="465086" y="3243130"/>
                  <a:pt x="373225" y="3166604"/>
                  <a:pt x="373225" y="3166604"/>
                </a:cubicBezTo>
                <a:cubicBezTo>
                  <a:pt x="367005" y="3154163"/>
                  <a:pt x="362541" y="3140676"/>
                  <a:pt x="354564" y="3129281"/>
                </a:cubicBezTo>
                <a:cubicBezTo>
                  <a:pt x="254945" y="2986970"/>
                  <a:pt x="361500" y="3165509"/>
                  <a:pt x="261257" y="3007984"/>
                </a:cubicBezTo>
                <a:cubicBezTo>
                  <a:pt x="253789" y="2996249"/>
                  <a:pt x="249256" y="2982872"/>
                  <a:pt x="242596" y="2970661"/>
                </a:cubicBezTo>
                <a:cubicBezTo>
                  <a:pt x="230589" y="2948648"/>
                  <a:pt x="218175" y="2926849"/>
                  <a:pt x="205274" y="2905347"/>
                </a:cubicBezTo>
                <a:cubicBezTo>
                  <a:pt x="199504" y="2895731"/>
                  <a:pt x="191627" y="2887385"/>
                  <a:pt x="186612" y="2877355"/>
                </a:cubicBezTo>
                <a:cubicBezTo>
                  <a:pt x="176019" y="2856169"/>
                  <a:pt x="169851" y="2832896"/>
                  <a:pt x="158621" y="2812041"/>
                </a:cubicBezTo>
                <a:cubicBezTo>
                  <a:pt x="147988" y="2792294"/>
                  <a:pt x="132837" y="2775289"/>
                  <a:pt x="121298" y="2756057"/>
                </a:cubicBezTo>
                <a:cubicBezTo>
                  <a:pt x="114142" y="2744130"/>
                  <a:pt x="108857" y="2731176"/>
                  <a:pt x="102637" y="2718735"/>
                </a:cubicBezTo>
                <a:cubicBezTo>
                  <a:pt x="96417" y="2693853"/>
                  <a:pt x="91022" y="2668751"/>
                  <a:pt x="83976" y="2644090"/>
                </a:cubicBezTo>
                <a:cubicBezTo>
                  <a:pt x="78572" y="2625176"/>
                  <a:pt x="68940" y="2607440"/>
                  <a:pt x="65315" y="2588106"/>
                </a:cubicBezTo>
                <a:cubicBezTo>
                  <a:pt x="24246" y="2369071"/>
                  <a:pt x="85930" y="2599611"/>
                  <a:pt x="37323" y="2429486"/>
                </a:cubicBezTo>
                <a:cubicBezTo>
                  <a:pt x="34213" y="2389053"/>
                  <a:pt x="32237" y="2348517"/>
                  <a:pt x="27992" y="2308188"/>
                </a:cubicBezTo>
                <a:cubicBezTo>
                  <a:pt x="26011" y="2289373"/>
                  <a:pt x="21008" y="2270977"/>
                  <a:pt x="18661" y="2252204"/>
                </a:cubicBezTo>
                <a:cubicBezTo>
                  <a:pt x="480" y="2106754"/>
                  <a:pt x="19151" y="2207998"/>
                  <a:pt x="0" y="2112245"/>
                </a:cubicBezTo>
                <a:cubicBezTo>
                  <a:pt x="3110" y="1966065"/>
                  <a:pt x="3487" y="1819802"/>
                  <a:pt x="9331" y="1673706"/>
                </a:cubicBezTo>
                <a:cubicBezTo>
                  <a:pt x="9724" y="1663879"/>
                  <a:pt x="16527" y="1655315"/>
                  <a:pt x="18661" y="1645714"/>
                </a:cubicBezTo>
                <a:cubicBezTo>
                  <a:pt x="22765" y="1627246"/>
                  <a:pt x="22009" y="1607678"/>
                  <a:pt x="27992" y="1589730"/>
                </a:cubicBezTo>
                <a:cubicBezTo>
                  <a:pt x="40778" y="1551372"/>
                  <a:pt x="52217" y="1511405"/>
                  <a:pt x="74645" y="1477763"/>
                </a:cubicBezTo>
                <a:cubicBezTo>
                  <a:pt x="87086" y="1459102"/>
                  <a:pt x="96109" y="1437638"/>
                  <a:pt x="111968" y="1421779"/>
                </a:cubicBezTo>
                <a:cubicBezTo>
                  <a:pt x="130887" y="1402860"/>
                  <a:pt x="157559" y="1393205"/>
                  <a:pt x="177282" y="1375126"/>
                </a:cubicBezTo>
                <a:cubicBezTo>
                  <a:pt x="210043" y="1345095"/>
                  <a:pt x="224979" y="1307733"/>
                  <a:pt x="261257" y="1281820"/>
                </a:cubicBezTo>
                <a:cubicBezTo>
                  <a:pt x="269260" y="1276103"/>
                  <a:pt x="279918" y="1275600"/>
                  <a:pt x="289249" y="1272490"/>
                </a:cubicBezTo>
                <a:cubicBezTo>
                  <a:pt x="357515" y="1181467"/>
                  <a:pt x="269628" y="1288872"/>
                  <a:pt x="363894" y="1207175"/>
                </a:cubicBezTo>
                <a:cubicBezTo>
                  <a:pt x="404027" y="1172393"/>
                  <a:pt x="453304" y="1108472"/>
                  <a:pt x="503853" y="1076547"/>
                </a:cubicBezTo>
                <a:cubicBezTo>
                  <a:pt x="546255" y="1049767"/>
                  <a:pt x="593397" y="1030661"/>
                  <a:pt x="634482" y="1001902"/>
                </a:cubicBezTo>
                <a:cubicBezTo>
                  <a:pt x="665584" y="980131"/>
                  <a:pt x="695393" y="956385"/>
                  <a:pt x="727788" y="936588"/>
                </a:cubicBezTo>
                <a:cubicBezTo>
                  <a:pt x="886222" y="839767"/>
                  <a:pt x="735176" y="940909"/>
                  <a:pt x="849086" y="880604"/>
                </a:cubicBezTo>
                <a:cubicBezTo>
                  <a:pt x="917918" y="844164"/>
                  <a:pt x="1022967" y="778821"/>
                  <a:pt x="1082351" y="731314"/>
                </a:cubicBezTo>
                <a:cubicBezTo>
                  <a:pt x="1097902" y="718873"/>
                  <a:pt x="1111647" y="703755"/>
                  <a:pt x="1129004" y="693992"/>
                </a:cubicBezTo>
                <a:cubicBezTo>
                  <a:pt x="1334977" y="578133"/>
                  <a:pt x="1140281" y="706853"/>
                  <a:pt x="1306286" y="610016"/>
                </a:cubicBezTo>
                <a:cubicBezTo>
                  <a:pt x="1319719" y="602180"/>
                  <a:pt x="1329488" y="588541"/>
                  <a:pt x="1343608" y="582024"/>
                </a:cubicBezTo>
                <a:cubicBezTo>
                  <a:pt x="1370398" y="569659"/>
                  <a:pt x="1401193" y="567227"/>
                  <a:pt x="1427584" y="554032"/>
                </a:cubicBezTo>
                <a:cubicBezTo>
                  <a:pt x="1519356" y="508146"/>
                  <a:pt x="1483030" y="505729"/>
                  <a:pt x="1548882" y="479388"/>
                </a:cubicBezTo>
                <a:cubicBezTo>
                  <a:pt x="1610136" y="454886"/>
                  <a:pt x="1607498" y="466487"/>
                  <a:pt x="1670180" y="432735"/>
                </a:cubicBezTo>
                <a:cubicBezTo>
                  <a:pt x="1689927" y="422102"/>
                  <a:pt x="1705119" y="403166"/>
                  <a:pt x="1726164" y="395412"/>
                </a:cubicBezTo>
                <a:cubicBezTo>
                  <a:pt x="1765100" y="381067"/>
                  <a:pt x="1807563" y="378820"/>
                  <a:pt x="1847461" y="367420"/>
                </a:cubicBezTo>
                <a:cubicBezTo>
                  <a:pt x="1873012" y="360120"/>
                  <a:pt x="1895832" y="343409"/>
                  <a:pt x="1922106" y="339428"/>
                </a:cubicBezTo>
                <a:cubicBezTo>
                  <a:pt x="1999230" y="327743"/>
                  <a:pt x="2077617" y="326987"/>
                  <a:pt x="2155372" y="320767"/>
                </a:cubicBezTo>
                <a:lnTo>
                  <a:pt x="2313992" y="292775"/>
                </a:lnTo>
                <a:cubicBezTo>
                  <a:pt x="2351279" y="286346"/>
                  <a:pt x="2389023" y="282322"/>
                  <a:pt x="2425959" y="274114"/>
                </a:cubicBezTo>
                <a:cubicBezTo>
                  <a:pt x="2453951" y="267894"/>
                  <a:pt x="2481501" y="259162"/>
                  <a:pt x="2509935" y="255453"/>
                </a:cubicBezTo>
                <a:cubicBezTo>
                  <a:pt x="2553222" y="249807"/>
                  <a:pt x="2597049" y="249603"/>
                  <a:pt x="2640564" y="246122"/>
                </a:cubicBezTo>
                <a:cubicBezTo>
                  <a:pt x="2674808" y="243383"/>
                  <a:pt x="2709082" y="240806"/>
                  <a:pt x="2743200" y="236792"/>
                </a:cubicBezTo>
                <a:cubicBezTo>
                  <a:pt x="2761989" y="234582"/>
                  <a:pt x="2780307" y="228720"/>
                  <a:pt x="2799184" y="227461"/>
                </a:cubicBezTo>
                <a:cubicBezTo>
                  <a:pt x="2873728" y="222491"/>
                  <a:pt x="2948474" y="221240"/>
                  <a:pt x="3023119" y="218130"/>
                </a:cubicBezTo>
                <a:cubicBezTo>
                  <a:pt x="3043940" y="215156"/>
                  <a:pt x="3110274" y="206913"/>
                  <a:pt x="3135086" y="199469"/>
                </a:cubicBezTo>
                <a:cubicBezTo>
                  <a:pt x="3183195" y="185036"/>
                  <a:pt x="3173491" y="177987"/>
                  <a:pt x="3219061" y="171477"/>
                </a:cubicBezTo>
                <a:cubicBezTo>
                  <a:pt x="3250004" y="167057"/>
                  <a:pt x="3281266" y="165257"/>
                  <a:pt x="3312368" y="162147"/>
                </a:cubicBezTo>
                <a:lnTo>
                  <a:pt x="4889241" y="171477"/>
                </a:lnTo>
                <a:cubicBezTo>
                  <a:pt x="4917912" y="171960"/>
                  <a:pt x="4945033" y="184855"/>
                  <a:pt x="4973217" y="190139"/>
                </a:cubicBezTo>
                <a:cubicBezTo>
                  <a:pt x="4994833" y="194192"/>
                  <a:pt x="5016624" y="197536"/>
                  <a:pt x="5038531" y="199469"/>
                </a:cubicBezTo>
                <a:cubicBezTo>
                  <a:pt x="5288081" y="221488"/>
                  <a:pt x="5334527" y="218211"/>
                  <a:pt x="5598368" y="236792"/>
                </a:cubicBezTo>
                <a:lnTo>
                  <a:pt x="5952931" y="264784"/>
                </a:lnTo>
                <a:cubicBezTo>
                  <a:pt x="6034930" y="281183"/>
                  <a:pt x="5965901" y="261938"/>
                  <a:pt x="6046237" y="302106"/>
                </a:cubicBezTo>
                <a:cubicBezTo>
                  <a:pt x="6061545" y="309760"/>
                  <a:pt x="6114665" y="326707"/>
                  <a:pt x="6130212" y="339428"/>
                </a:cubicBezTo>
                <a:cubicBezTo>
                  <a:pt x="6201576" y="397817"/>
                  <a:pt x="6179133" y="384535"/>
                  <a:pt x="6214188" y="432735"/>
                </a:cubicBezTo>
                <a:cubicBezTo>
                  <a:pt x="6232481" y="457888"/>
                  <a:pt x="6254170" y="480709"/>
                  <a:pt x="6270172" y="507379"/>
                </a:cubicBezTo>
                <a:cubicBezTo>
                  <a:pt x="6279503" y="522930"/>
                  <a:pt x="6290054" y="537811"/>
                  <a:pt x="6298164" y="554032"/>
                </a:cubicBezTo>
                <a:cubicBezTo>
                  <a:pt x="6302562" y="562829"/>
                  <a:pt x="6302718" y="573426"/>
                  <a:pt x="6307494" y="582024"/>
                </a:cubicBezTo>
                <a:cubicBezTo>
                  <a:pt x="6336919" y="634990"/>
                  <a:pt x="6342809" y="636000"/>
                  <a:pt x="6382139" y="675330"/>
                </a:cubicBezTo>
                <a:cubicBezTo>
                  <a:pt x="6389825" y="706075"/>
                  <a:pt x="6394161" y="730560"/>
                  <a:pt x="6410131" y="759306"/>
                </a:cubicBezTo>
                <a:cubicBezTo>
                  <a:pt x="6417683" y="772900"/>
                  <a:pt x="6428792" y="784187"/>
                  <a:pt x="6438123" y="796628"/>
                </a:cubicBezTo>
                <a:cubicBezTo>
                  <a:pt x="6463656" y="873233"/>
                  <a:pt x="6421478" y="752790"/>
                  <a:pt x="6484776" y="889935"/>
                </a:cubicBezTo>
                <a:cubicBezTo>
                  <a:pt x="6493019" y="907795"/>
                  <a:pt x="6497217" y="927257"/>
                  <a:pt x="6503437" y="945918"/>
                </a:cubicBezTo>
                <a:cubicBezTo>
                  <a:pt x="6509657" y="983241"/>
                  <a:pt x="6521370" y="1020056"/>
                  <a:pt x="6522098" y="1057886"/>
                </a:cubicBezTo>
                <a:cubicBezTo>
                  <a:pt x="6522818" y="1095328"/>
                  <a:pt x="6528495" y="1371139"/>
                  <a:pt x="6503437" y="1496424"/>
                </a:cubicBezTo>
                <a:cubicBezTo>
                  <a:pt x="6499273" y="1517242"/>
                  <a:pt x="6467497" y="1586769"/>
                  <a:pt x="6466115" y="1589730"/>
                </a:cubicBezTo>
                <a:cubicBezTo>
                  <a:pt x="6403373" y="1724177"/>
                  <a:pt x="6449918" y="1611560"/>
                  <a:pt x="6410131" y="1711028"/>
                </a:cubicBezTo>
                <a:cubicBezTo>
                  <a:pt x="6391778" y="1821141"/>
                  <a:pt x="6415801" y="1710847"/>
                  <a:pt x="6363478" y="1841657"/>
                </a:cubicBezTo>
                <a:cubicBezTo>
                  <a:pt x="6355069" y="1862680"/>
                  <a:pt x="6352432" y="1885648"/>
                  <a:pt x="6344817" y="1906971"/>
                </a:cubicBezTo>
                <a:cubicBezTo>
                  <a:pt x="6336850" y="1929278"/>
                  <a:pt x="6325622" y="1950293"/>
                  <a:pt x="6316825" y="1972286"/>
                </a:cubicBezTo>
                <a:cubicBezTo>
                  <a:pt x="6313172" y="1981418"/>
                  <a:pt x="6310947" y="1991068"/>
                  <a:pt x="6307494" y="2000277"/>
                </a:cubicBezTo>
                <a:cubicBezTo>
                  <a:pt x="6301613" y="2015959"/>
                  <a:pt x="6293646" y="2030887"/>
                  <a:pt x="6288833" y="2046930"/>
                </a:cubicBezTo>
                <a:cubicBezTo>
                  <a:pt x="6284276" y="2062120"/>
                  <a:pt x="6285392" y="2078859"/>
                  <a:pt x="6279502" y="2093584"/>
                </a:cubicBezTo>
                <a:cubicBezTo>
                  <a:pt x="6272767" y="2110422"/>
                  <a:pt x="6259620" y="2124016"/>
                  <a:pt x="6251510" y="2140237"/>
                </a:cubicBezTo>
                <a:cubicBezTo>
                  <a:pt x="6212878" y="2217502"/>
                  <a:pt x="6277003" y="2115992"/>
                  <a:pt x="6223519" y="2196220"/>
                </a:cubicBezTo>
                <a:cubicBezTo>
                  <a:pt x="6220409" y="2208661"/>
                  <a:pt x="6219240" y="2221756"/>
                  <a:pt x="6214188" y="2233543"/>
                </a:cubicBezTo>
                <a:cubicBezTo>
                  <a:pt x="6209771" y="2243850"/>
                  <a:pt x="6200542" y="2251505"/>
                  <a:pt x="6195527" y="2261535"/>
                </a:cubicBezTo>
                <a:cubicBezTo>
                  <a:pt x="6188037" y="2276516"/>
                  <a:pt x="6182747" y="2292506"/>
                  <a:pt x="6176866" y="2308188"/>
                </a:cubicBezTo>
                <a:cubicBezTo>
                  <a:pt x="6153042" y="2371717"/>
                  <a:pt x="6187440" y="2299065"/>
                  <a:pt x="6139543" y="2410824"/>
                </a:cubicBezTo>
                <a:cubicBezTo>
                  <a:pt x="6131324" y="2430001"/>
                  <a:pt x="6123516" y="2449716"/>
                  <a:pt x="6111551" y="2466808"/>
                </a:cubicBezTo>
                <a:cubicBezTo>
                  <a:pt x="6101462" y="2481221"/>
                  <a:pt x="6085679" y="2490772"/>
                  <a:pt x="6074229" y="2504130"/>
                </a:cubicBezTo>
                <a:cubicBezTo>
                  <a:pt x="5978610" y="2615686"/>
                  <a:pt x="6160799" y="2417715"/>
                  <a:pt x="6036906" y="2578775"/>
                </a:cubicBezTo>
                <a:cubicBezTo>
                  <a:pt x="6015451" y="2606666"/>
                  <a:pt x="5987143" y="2628538"/>
                  <a:pt x="5962261" y="2653420"/>
                </a:cubicBezTo>
                <a:cubicBezTo>
                  <a:pt x="5940490" y="2675192"/>
                  <a:pt x="5914026" y="2693117"/>
                  <a:pt x="5896947" y="2718735"/>
                </a:cubicBezTo>
                <a:cubicBezTo>
                  <a:pt x="5870157" y="2758919"/>
                  <a:pt x="5848670" y="2792624"/>
                  <a:pt x="5812972" y="2830702"/>
                </a:cubicBezTo>
                <a:cubicBezTo>
                  <a:pt x="5790360" y="2854822"/>
                  <a:pt x="5761098" y="2872046"/>
                  <a:pt x="5738327" y="2896016"/>
                </a:cubicBezTo>
                <a:cubicBezTo>
                  <a:pt x="5685322" y="2951811"/>
                  <a:pt x="5589706" y="3085292"/>
                  <a:pt x="5523723" y="3129281"/>
                </a:cubicBezTo>
                <a:cubicBezTo>
                  <a:pt x="5484683" y="3155308"/>
                  <a:pt x="5464961" y="3166960"/>
                  <a:pt x="5430417" y="3194596"/>
                </a:cubicBezTo>
                <a:cubicBezTo>
                  <a:pt x="5383972" y="3231752"/>
                  <a:pt x="5384580" y="3240922"/>
                  <a:pt x="5337110" y="3259910"/>
                </a:cubicBezTo>
                <a:cubicBezTo>
                  <a:pt x="5289605" y="3278912"/>
                  <a:pt x="5275114" y="3280763"/>
                  <a:pt x="5225143" y="3287902"/>
                </a:cubicBezTo>
                <a:lnTo>
                  <a:pt x="5085184" y="3306563"/>
                </a:lnTo>
                <a:cubicBezTo>
                  <a:pt x="5075853" y="3309673"/>
                  <a:pt x="5066836" y="3313965"/>
                  <a:pt x="5057192" y="3315894"/>
                </a:cubicBezTo>
                <a:cubicBezTo>
                  <a:pt x="5015949" y="3324143"/>
                  <a:pt x="4935571" y="3330855"/>
                  <a:pt x="4898572" y="3334555"/>
                </a:cubicBezTo>
                <a:cubicBezTo>
                  <a:pt x="4886131" y="3340775"/>
                  <a:pt x="4874445" y="3348818"/>
                  <a:pt x="4861249" y="3353216"/>
                </a:cubicBezTo>
                <a:cubicBezTo>
                  <a:pt x="4793769" y="3375709"/>
                  <a:pt x="4766435" y="3373894"/>
                  <a:pt x="4693298" y="3381208"/>
                </a:cubicBezTo>
                <a:cubicBezTo>
                  <a:pt x="4646645" y="3396759"/>
                  <a:pt x="4597324" y="3405869"/>
                  <a:pt x="4553339" y="3427861"/>
                </a:cubicBezTo>
                <a:cubicBezTo>
                  <a:pt x="4540898" y="3434081"/>
                  <a:pt x="4529772" y="3444459"/>
                  <a:pt x="4516017" y="3446522"/>
                </a:cubicBezTo>
                <a:cubicBezTo>
                  <a:pt x="4466708" y="3453918"/>
                  <a:pt x="4416490" y="3452743"/>
                  <a:pt x="4366727" y="3455853"/>
                </a:cubicBezTo>
                <a:cubicBezTo>
                  <a:pt x="4354286" y="3458963"/>
                  <a:pt x="4341661" y="3461413"/>
                  <a:pt x="4329404" y="3465184"/>
                </a:cubicBezTo>
                <a:cubicBezTo>
                  <a:pt x="4301203" y="3473861"/>
                  <a:pt x="4274232" y="3486774"/>
                  <a:pt x="4245429" y="3493175"/>
                </a:cubicBezTo>
                <a:cubicBezTo>
                  <a:pt x="4217935" y="3499285"/>
                  <a:pt x="4189400" y="3499013"/>
                  <a:pt x="4161453" y="3502506"/>
                </a:cubicBezTo>
                <a:cubicBezTo>
                  <a:pt x="4139630" y="3505234"/>
                  <a:pt x="4117777" y="3507903"/>
                  <a:pt x="4096139" y="3511837"/>
                </a:cubicBezTo>
                <a:cubicBezTo>
                  <a:pt x="4056384" y="3519065"/>
                  <a:pt x="4045442" y="3527654"/>
                  <a:pt x="4002833" y="3539828"/>
                </a:cubicBezTo>
                <a:cubicBezTo>
                  <a:pt x="3978172" y="3546874"/>
                  <a:pt x="3953814" y="3557437"/>
                  <a:pt x="3928188" y="3558490"/>
                </a:cubicBezTo>
                <a:cubicBezTo>
                  <a:pt x="3726171" y="3566792"/>
                  <a:pt x="3523861" y="3564710"/>
                  <a:pt x="3321698" y="3567820"/>
                </a:cubicBezTo>
                <a:lnTo>
                  <a:pt x="1520890" y="3558490"/>
                </a:lnTo>
                <a:cubicBezTo>
                  <a:pt x="1461717" y="3557932"/>
                  <a:pt x="1402362" y="3556210"/>
                  <a:pt x="1343608" y="3549159"/>
                </a:cubicBezTo>
                <a:cubicBezTo>
                  <a:pt x="1324078" y="3546815"/>
                  <a:pt x="1305958" y="3537627"/>
                  <a:pt x="1287625" y="3530498"/>
                </a:cubicBezTo>
                <a:cubicBezTo>
                  <a:pt x="1249941" y="3515843"/>
                  <a:pt x="1210328" y="3504648"/>
                  <a:pt x="1175657" y="3483845"/>
                </a:cubicBezTo>
                <a:cubicBezTo>
                  <a:pt x="1067294" y="3418827"/>
                  <a:pt x="1200955" y="3500711"/>
                  <a:pt x="1063690" y="3409200"/>
                </a:cubicBezTo>
                <a:cubicBezTo>
                  <a:pt x="1048600" y="3399140"/>
                  <a:pt x="1032588" y="3390539"/>
                  <a:pt x="1017037" y="3381208"/>
                </a:cubicBezTo>
                <a:cubicBezTo>
                  <a:pt x="1004596" y="3365657"/>
                  <a:pt x="994648" y="3347731"/>
                  <a:pt x="979715" y="3334555"/>
                </a:cubicBezTo>
                <a:cubicBezTo>
                  <a:pt x="921960" y="3283595"/>
                  <a:pt x="848652" y="3240815"/>
                  <a:pt x="793102" y="3185265"/>
                </a:cubicBezTo>
                <a:cubicBezTo>
                  <a:pt x="772826" y="3164989"/>
                  <a:pt x="755277" y="3142144"/>
                  <a:pt x="737119" y="3119951"/>
                </a:cubicBezTo>
                <a:cubicBezTo>
                  <a:pt x="727271" y="3107915"/>
                  <a:pt x="720634" y="3093089"/>
                  <a:pt x="709127" y="3082628"/>
                </a:cubicBezTo>
                <a:cubicBezTo>
                  <a:pt x="686113" y="3061707"/>
                  <a:pt x="657273" y="3047808"/>
                  <a:pt x="634482" y="3026645"/>
                </a:cubicBezTo>
                <a:cubicBezTo>
                  <a:pt x="613469" y="3007133"/>
                  <a:pt x="598774" y="2981606"/>
                  <a:pt x="578498" y="2961330"/>
                </a:cubicBezTo>
                <a:cubicBezTo>
                  <a:pt x="564416" y="2947248"/>
                  <a:pt x="545927" y="2938090"/>
                  <a:pt x="531845" y="2924008"/>
                </a:cubicBezTo>
                <a:cubicBezTo>
                  <a:pt x="520849" y="2913012"/>
                  <a:pt x="514849" y="2897682"/>
                  <a:pt x="503853" y="2886686"/>
                </a:cubicBezTo>
                <a:cubicBezTo>
                  <a:pt x="423233" y="2806066"/>
                  <a:pt x="556724" y="2994293"/>
                  <a:pt x="419878" y="2802710"/>
                </a:cubicBezTo>
                <a:cubicBezTo>
                  <a:pt x="405303" y="2782305"/>
                  <a:pt x="396464" y="2758260"/>
                  <a:pt x="382555" y="2737396"/>
                </a:cubicBezTo>
                <a:cubicBezTo>
                  <a:pt x="365303" y="2711518"/>
                  <a:pt x="345233" y="2687633"/>
                  <a:pt x="326572" y="2662751"/>
                </a:cubicBezTo>
                <a:cubicBezTo>
                  <a:pt x="312937" y="2608211"/>
                  <a:pt x="320128" y="2622662"/>
                  <a:pt x="279919" y="2560114"/>
                </a:cubicBezTo>
                <a:cubicBezTo>
                  <a:pt x="265451" y="2537608"/>
                  <a:pt x="245680" y="2518500"/>
                  <a:pt x="233266" y="2494800"/>
                </a:cubicBezTo>
                <a:cubicBezTo>
                  <a:pt x="211284" y="2452835"/>
                  <a:pt x="198468" y="2406543"/>
                  <a:pt x="177282" y="2364171"/>
                </a:cubicBezTo>
                <a:cubicBezTo>
                  <a:pt x="171062" y="2351730"/>
                  <a:pt x="163019" y="2340044"/>
                  <a:pt x="158621" y="2326849"/>
                </a:cubicBezTo>
                <a:cubicBezTo>
                  <a:pt x="144300" y="2283887"/>
                  <a:pt x="132281" y="2240153"/>
                  <a:pt x="121298" y="2196220"/>
                </a:cubicBezTo>
                <a:cubicBezTo>
                  <a:pt x="118188" y="2183779"/>
                  <a:pt x="117274" y="2170572"/>
                  <a:pt x="111968" y="2158898"/>
                </a:cubicBezTo>
                <a:cubicBezTo>
                  <a:pt x="101592" y="2136070"/>
                  <a:pt x="87086" y="2115355"/>
                  <a:pt x="74645" y="2093584"/>
                </a:cubicBezTo>
                <a:cubicBezTo>
                  <a:pt x="71535" y="2068702"/>
                  <a:pt x="70953" y="2043372"/>
                  <a:pt x="65315" y="2018939"/>
                </a:cubicBezTo>
                <a:cubicBezTo>
                  <a:pt x="61549" y="2002619"/>
                  <a:pt x="50715" y="1988535"/>
                  <a:pt x="46653" y="1972286"/>
                </a:cubicBezTo>
                <a:cubicBezTo>
                  <a:pt x="41319" y="1950950"/>
                  <a:pt x="41257" y="1928609"/>
                  <a:pt x="37323" y="1906971"/>
                </a:cubicBezTo>
                <a:cubicBezTo>
                  <a:pt x="35029" y="1894354"/>
                  <a:pt x="30507" y="1882224"/>
                  <a:pt x="27992" y="1869649"/>
                </a:cubicBezTo>
                <a:cubicBezTo>
                  <a:pt x="24282" y="1851098"/>
                  <a:pt x="21771" y="1832326"/>
                  <a:pt x="18661" y="1813665"/>
                </a:cubicBezTo>
                <a:cubicBezTo>
                  <a:pt x="15551" y="1704808"/>
                  <a:pt x="7454" y="1595979"/>
                  <a:pt x="9331" y="1487094"/>
                </a:cubicBezTo>
                <a:cubicBezTo>
                  <a:pt x="11038" y="1388120"/>
                  <a:pt x="7724" y="1323429"/>
                  <a:pt x="37323" y="1244498"/>
                </a:cubicBezTo>
                <a:cubicBezTo>
                  <a:pt x="43204" y="1228816"/>
                  <a:pt x="46693" y="1211781"/>
                  <a:pt x="55984" y="1197845"/>
                </a:cubicBezTo>
                <a:cubicBezTo>
                  <a:pt x="65743" y="1183206"/>
                  <a:pt x="82750" y="1174597"/>
                  <a:pt x="93306" y="1160522"/>
                </a:cubicBezTo>
                <a:cubicBezTo>
                  <a:pt x="101652" y="1149395"/>
                  <a:pt x="105067" y="1135277"/>
                  <a:pt x="111968" y="1123200"/>
                </a:cubicBezTo>
                <a:cubicBezTo>
                  <a:pt x="117532" y="1113464"/>
                  <a:pt x="123901" y="1104179"/>
                  <a:pt x="130629" y="1095208"/>
                </a:cubicBezTo>
                <a:cubicBezTo>
                  <a:pt x="156538" y="1060662"/>
                  <a:pt x="168517" y="1041567"/>
                  <a:pt x="205274" y="1020563"/>
                </a:cubicBezTo>
                <a:cubicBezTo>
                  <a:pt x="213814" y="1015683"/>
                  <a:pt x="223935" y="1014342"/>
                  <a:pt x="233266" y="1011232"/>
                </a:cubicBezTo>
                <a:cubicBezTo>
                  <a:pt x="273699" y="977020"/>
                  <a:pt x="307191" y="932283"/>
                  <a:pt x="354564" y="908596"/>
                </a:cubicBezTo>
                <a:cubicBezTo>
                  <a:pt x="379445" y="896155"/>
                  <a:pt x="403840" y="882689"/>
                  <a:pt x="429208" y="871273"/>
                </a:cubicBezTo>
                <a:cubicBezTo>
                  <a:pt x="466080" y="854681"/>
                  <a:pt x="505831" y="844256"/>
                  <a:pt x="541176" y="824620"/>
                </a:cubicBezTo>
                <a:cubicBezTo>
                  <a:pt x="610503" y="786105"/>
                  <a:pt x="635517" y="768956"/>
                  <a:pt x="709127" y="740645"/>
                </a:cubicBezTo>
                <a:cubicBezTo>
                  <a:pt x="721096" y="736042"/>
                  <a:pt x="734662" y="736366"/>
                  <a:pt x="746449" y="731314"/>
                </a:cubicBezTo>
                <a:cubicBezTo>
                  <a:pt x="778410" y="717616"/>
                  <a:pt x="807469" y="697575"/>
                  <a:pt x="839755" y="684661"/>
                </a:cubicBezTo>
                <a:cubicBezTo>
                  <a:pt x="916833" y="653830"/>
                  <a:pt x="916565" y="662198"/>
                  <a:pt x="979715" y="647339"/>
                </a:cubicBezTo>
                <a:cubicBezTo>
                  <a:pt x="1017163" y="638528"/>
                  <a:pt x="1054648" y="629763"/>
                  <a:pt x="1091682" y="619347"/>
                </a:cubicBezTo>
                <a:cubicBezTo>
                  <a:pt x="1154199" y="601764"/>
                  <a:pt x="1216027" y="581813"/>
                  <a:pt x="1278294" y="563363"/>
                </a:cubicBezTo>
                <a:cubicBezTo>
                  <a:pt x="1300004" y="556931"/>
                  <a:pt x="1321505" y="549614"/>
                  <a:pt x="1343608" y="544702"/>
                </a:cubicBezTo>
                <a:cubicBezTo>
                  <a:pt x="1371600" y="538482"/>
                  <a:pt x="1399765" y="532996"/>
                  <a:pt x="1427584" y="526041"/>
                </a:cubicBezTo>
                <a:cubicBezTo>
                  <a:pt x="1461987" y="517440"/>
                  <a:pt x="1496200" y="508055"/>
                  <a:pt x="1530221" y="498049"/>
                </a:cubicBezTo>
                <a:cubicBezTo>
                  <a:pt x="1549092" y="492499"/>
                  <a:pt x="1567121" y="484159"/>
                  <a:pt x="1586204" y="479388"/>
                </a:cubicBezTo>
                <a:cubicBezTo>
                  <a:pt x="1616975" y="471695"/>
                  <a:pt x="1648224" y="465940"/>
                  <a:pt x="1679510" y="460726"/>
                </a:cubicBezTo>
                <a:cubicBezTo>
                  <a:pt x="1704244" y="456604"/>
                  <a:pt x="1729233" y="454165"/>
                  <a:pt x="1754155" y="451396"/>
                </a:cubicBezTo>
                <a:cubicBezTo>
                  <a:pt x="1869154" y="438619"/>
                  <a:pt x="1868803" y="440810"/>
                  <a:pt x="2006082" y="432735"/>
                </a:cubicBezTo>
                <a:lnTo>
                  <a:pt x="2080727" y="423404"/>
                </a:lnTo>
                <a:cubicBezTo>
                  <a:pt x="2108698" y="420113"/>
                  <a:pt x="2136866" y="418355"/>
                  <a:pt x="2164702" y="414073"/>
                </a:cubicBezTo>
                <a:cubicBezTo>
                  <a:pt x="2177377" y="412123"/>
                  <a:pt x="2189259" y="405959"/>
                  <a:pt x="2202025" y="404743"/>
                </a:cubicBezTo>
                <a:cubicBezTo>
                  <a:pt x="2254751" y="399722"/>
                  <a:pt x="2307772" y="398522"/>
                  <a:pt x="2360645" y="395412"/>
                </a:cubicBezTo>
                <a:cubicBezTo>
                  <a:pt x="2379306" y="392302"/>
                  <a:pt x="2398508" y="391517"/>
                  <a:pt x="2416629" y="386081"/>
                </a:cubicBezTo>
                <a:cubicBezTo>
                  <a:pt x="2429951" y="382084"/>
                  <a:pt x="2440532" y="371080"/>
                  <a:pt x="2453951" y="367420"/>
                </a:cubicBezTo>
                <a:cubicBezTo>
                  <a:pt x="2475169" y="361634"/>
                  <a:pt x="2497529" y="361434"/>
                  <a:pt x="2519266" y="358090"/>
                </a:cubicBezTo>
                <a:cubicBezTo>
                  <a:pt x="2570984" y="350134"/>
                  <a:pt x="2573387" y="349131"/>
                  <a:pt x="2621902" y="339428"/>
                </a:cubicBezTo>
                <a:cubicBezTo>
                  <a:pt x="2646784" y="342538"/>
                  <a:pt x="2671724" y="352305"/>
                  <a:pt x="2696547" y="348759"/>
                </a:cubicBezTo>
                <a:cubicBezTo>
                  <a:pt x="2717201" y="345808"/>
                  <a:pt x="2732290" y="325827"/>
                  <a:pt x="2752531" y="320767"/>
                </a:cubicBezTo>
                <a:cubicBezTo>
                  <a:pt x="2782855" y="313186"/>
                  <a:pt x="2814611" y="312825"/>
                  <a:pt x="2845837" y="311437"/>
                </a:cubicBezTo>
                <a:cubicBezTo>
                  <a:pt x="2954631" y="306602"/>
                  <a:pt x="3063551" y="305216"/>
                  <a:pt x="3172408" y="302106"/>
                </a:cubicBezTo>
                <a:cubicBezTo>
                  <a:pt x="3368517" y="280315"/>
                  <a:pt x="3124880" y="306427"/>
                  <a:pt x="3377682" y="283445"/>
                </a:cubicBezTo>
                <a:cubicBezTo>
                  <a:pt x="3405730" y="280895"/>
                  <a:pt x="3433665" y="277224"/>
                  <a:pt x="3461657" y="274114"/>
                </a:cubicBezTo>
                <a:cubicBezTo>
                  <a:pt x="3483429" y="264783"/>
                  <a:pt x="3503512" y="249395"/>
                  <a:pt x="3526972" y="246122"/>
                </a:cubicBezTo>
                <a:cubicBezTo>
                  <a:pt x="3638249" y="230595"/>
                  <a:pt x="3862874" y="218130"/>
                  <a:pt x="3862874" y="218130"/>
                </a:cubicBezTo>
                <a:cubicBezTo>
                  <a:pt x="3928123" y="205081"/>
                  <a:pt x="3921457" y="207933"/>
                  <a:pt x="4002833" y="180808"/>
                </a:cubicBezTo>
                <a:cubicBezTo>
                  <a:pt x="4074685" y="156857"/>
                  <a:pt x="4149695" y="140034"/>
                  <a:pt x="4217437" y="106163"/>
                </a:cubicBezTo>
                <a:cubicBezTo>
                  <a:pt x="4236098" y="96832"/>
                  <a:pt x="4253628" y="84769"/>
                  <a:pt x="4273421" y="78171"/>
                </a:cubicBezTo>
                <a:cubicBezTo>
                  <a:pt x="4309918" y="66005"/>
                  <a:pt x="4348342" y="60552"/>
                  <a:pt x="4385388" y="50179"/>
                </a:cubicBezTo>
                <a:cubicBezTo>
                  <a:pt x="4564600" y="0"/>
                  <a:pt x="4444947" y="18002"/>
                  <a:pt x="4618653" y="3526"/>
                </a:cubicBezTo>
                <a:lnTo>
                  <a:pt x="5421086" y="12857"/>
                </a:lnTo>
                <a:cubicBezTo>
                  <a:pt x="5474041" y="13885"/>
                  <a:pt x="5527090" y="16117"/>
                  <a:pt x="5579706" y="22188"/>
                </a:cubicBezTo>
                <a:cubicBezTo>
                  <a:pt x="5600452" y="24582"/>
                  <a:pt x="5661459" y="38093"/>
                  <a:pt x="5691674" y="50179"/>
                </a:cubicBezTo>
                <a:cubicBezTo>
                  <a:pt x="5729215" y="65195"/>
                  <a:pt x="5765783" y="82635"/>
                  <a:pt x="5803641" y="96832"/>
                </a:cubicBezTo>
                <a:cubicBezTo>
                  <a:pt x="5828523" y="106163"/>
                  <a:pt x="5852419" y="118737"/>
                  <a:pt x="5878286" y="124824"/>
                </a:cubicBezTo>
                <a:cubicBezTo>
                  <a:pt x="5905701" y="131275"/>
                  <a:pt x="5934269" y="131045"/>
                  <a:pt x="5962261" y="134155"/>
                </a:cubicBezTo>
                <a:cubicBezTo>
                  <a:pt x="5987143" y="140375"/>
                  <a:pt x="6012753" y="144190"/>
                  <a:pt x="6036906" y="152816"/>
                </a:cubicBezTo>
                <a:cubicBezTo>
                  <a:pt x="6194312" y="209032"/>
                  <a:pt x="6017362" y="161925"/>
                  <a:pt x="6130212" y="190139"/>
                </a:cubicBezTo>
                <a:cubicBezTo>
                  <a:pt x="6145763" y="199469"/>
                  <a:pt x="6162108" y="207589"/>
                  <a:pt x="6176866" y="218130"/>
                </a:cubicBezTo>
                <a:cubicBezTo>
                  <a:pt x="6184025" y="223243"/>
                  <a:pt x="6188658" y="231296"/>
                  <a:pt x="6195527" y="236792"/>
                </a:cubicBezTo>
                <a:cubicBezTo>
                  <a:pt x="6204284" y="243797"/>
                  <a:pt x="6214188" y="249233"/>
                  <a:pt x="6223519" y="255453"/>
                </a:cubicBezTo>
                <a:cubicBezTo>
                  <a:pt x="6251511" y="292775"/>
                  <a:pt x="6283987" y="327122"/>
                  <a:pt x="6307494" y="367420"/>
                </a:cubicBezTo>
                <a:lnTo>
                  <a:pt x="6372808" y="479388"/>
                </a:lnTo>
                <a:cubicBezTo>
                  <a:pt x="6375918" y="494939"/>
                  <a:pt x="6378292" y="510656"/>
                  <a:pt x="6382139" y="526041"/>
                </a:cubicBezTo>
                <a:cubicBezTo>
                  <a:pt x="6384524" y="535582"/>
                  <a:pt x="6391470" y="544197"/>
                  <a:pt x="6391470" y="554032"/>
                </a:cubicBezTo>
                <a:cubicBezTo>
                  <a:pt x="6391470" y="920640"/>
                  <a:pt x="6386308" y="711260"/>
                  <a:pt x="6372808" y="927257"/>
                </a:cubicBezTo>
                <a:cubicBezTo>
                  <a:pt x="6368729" y="992518"/>
                  <a:pt x="6369776" y="1058116"/>
                  <a:pt x="6363478" y="1123200"/>
                </a:cubicBezTo>
                <a:cubicBezTo>
                  <a:pt x="6357336" y="1186665"/>
                  <a:pt x="6344691" y="1216885"/>
                  <a:pt x="6326155" y="1272490"/>
                </a:cubicBezTo>
                <a:cubicBezTo>
                  <a:pt x="6323045" y="1350245"/>
                  <a:pt x="6322001" y="1428110"/>
                  <a:pt x="6316825" y="1505755"/>
                </a:cubicBezTo>
                <a:cubicBezTo>
                  <a:pt x="6313891" y="1549763"/>
                  <a:pt x="6299789" y="1564568"/>
                  <a:pt x="6288833" y="1608392"/>
                </a:cubicBezTo>
                <a:cubicBezTo>
                  <a:pt x="6284245" y="1626746"/>
                  <a:pt x="6283606" y="1645907"/>
                  <a:pt x="6279502" y="1664375"/>
                </a:cubicBezTo>
                <a:cubicBezTo>
                  <a:pt x="6277368" y="1673976"/>
                  <a:pt x="6272306" y="1682766"/>
                  <a:pt x="6270172" y="1692367"/>
                </a:cubicBezTo>
                <a:cubicBezTo>
                  <a:pt x="6266068" y="1710835"/>
                  <a:pt x="6265904" y="1730122"/>
                  <a:pt x="6260841" y="1748351"/>
                </a:cubicBezTo>
                <a:cubicBezTo>
                  <a:pt x="6250312" y="1786257"/>
                  <a:pt x="6231235" y="1821741"/>
                  <a:pt x="6223519" y="1860318"/>
                </a:cubicBezTo>
                <a:cubicBezTo>
                  <a:pt x="6220409" y="1875869"/>
                  <a:pt x="6216284" y="1891251"/>
                  <a:pt x="6214188" y="1906971"/>
                </a:cubicBezTo>
                <a:cubicBezTo>
                  <a:pt x="6210057" y="1937954"/>
                  <a:pt x="6211886" y="1969820"/>
                  <a:pt x="6204857" y="2000277"/>
                </a:cubicBezTo>
                <a:cubicBezTo>
                  <a:pt x="6202335" y="2011204"/>
                  <a:pt x="6192416" y="2018938"/>
                  <a:pt x="6186196" y="2028269"/>
                </a:cubicBezTo>
                <a:cubicBezTo>
                  <a:pt x="6183086" y="2046930"/>
                  <a:pt x="6182849" y="2066305"/>
                  <a:pt x="6176866" y="2084253"/>
                </a:cubicBezTo>
                <a:cubicBezTo>
                  <a:pt x="6173320" y="2094892"/>
                  <a:pt x="6161426" y="2101504"/>
                  <a:pt x="6158204" y="2112245"/>
                </a:cubicBezTo>
                <a:cubicBezTo>
                  <a:pt x="6151885" y="2133310"/>
                  <a:pt x="6152489" y="2155866"/>
                  <a:pt x="6148874" y="2177559"/>
                </a:cubicBezTo>
                <a:cubicBezTo>
                  <a:pt x="6147101" y="2188200"/>
                  <a:pt x="6135245" y="2248115"/>
                  <a:pt x="6130212" y="2261535"/>
                </a:cubicBezTo>
                <a:cubicBezTo>
                  <a:pt x="6125328" y="2274558"/>
                  <a:pt x="6117771" y="2286416"/>
                  <a:pt x="6111551" y="2298857"/>
                </a:cubicBezTo>
                <a:cubicBezTo>
                  <a:pt x="6108441" y="2317518"/>
                  <a:pt x="6108204" y="2336893"/>
                  <a:pt x="6102221" y="2354841"/>
                </a:cubicBezTo>
                <a:cubicBezTo>
                  <a:pt x="6098675" y="2365479"/>
                  <a:pt x="6088574" y="2372802"/>
                  <a:pt x="6083559" y="2382832"/>
                </a:cubicBezTo>
                <a:cubicBezTo>
                  <a:pt x="6079160" y="2391629"/>
                  <a:pt x="6078103" y="2401784"/>
                  <a:pt x="6074229" y="2410824"/>
                </a:cubicBezTo>
                <a:cubicBezTo>
                  <a:pt x="6068750" y="2423609"/>
                  <a:pt x="6061047" y="2435362"/>
                  <a:pt x="6055568" y="2448147"/>
                </a:cubicBezTo>
                <a:cubicBezTo>
                  <a:pt x="6045642" y="2471309"/>
                  <a:pt x="6045257" y="2492833"/>
                  <a:pt x="6027576" y="2513461"/>
                </a:cubicBezTo>
                <a:cubicBezTo>
                  <a:pt x="6017455" y="2525268"/>
                  <a:pt x="6002694" y="2532122"/>
                  <a:pt x="5990253" y="2541453"/>
                </a:cubicBezTo>
                <a:cubicBezTo>
                  <a:pt x="5984033" y="2553894"/>
                  <a:pt x="5979677" y="2567457"/>
                  <a:pt x="5971592" y="2578775"/>
                </a:cubicBezTo>
                <a:cubicBezTo>
                  <a:pt x="5963922" y="2589513"/>
                  <a:pt x="5950919" y="2595788"/>
                  <a:pt x="5943600" y="2606767"/>
                </a:cubicBezTo>
                <a:cubicBezTo>
                  <a:pt x="5938144" y="2614951"/>
                  <a:pt x="5938144" y="2625719"/>
                  <a:pt x="5934270" y="2634759"/>
                </a:cubicBezTo>
                <a:cubicBezTo>
                  <a:pt x="5917324" y="2674298"/>
                  <a:pt x="5921869" y="2665820"/>
                  <a:pt x="5896947" y="2690743"/>
                </a:cubicBezTo>
                <a:cubicBezTo>
                  <a:pt x="5885650" y="2724636"/>
                  <a:pt x="5887617" y="2708900"/>
                  <a:pt x="5887617" y="2737396"/>
                </a:cubicBezTo>
              </a:path>
            </a:pathLst>
          </a:custGeom>
          <a:noFill/>
          <a:ln w="12600">
            <a:solidFill>
              <a:srgbClr val="ffff66"/>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678" name="フリーフォーム 13"/>
          <p:cNvSpPr/>
          <p:nvPr/>
        </p:nvSpPr>
        <p:spPr>
          <a:xfrm>
            <a:off x="3135240" y="3938760"/>
            <a:ext cx="961920" cy="828360"/>
          </a:xfrm>
          <a:custGeom>
            <a:avLst/>
            <a:gdLst/>
            <a:ahLst/>
            <a:rect l="l" t="t" r="r" b="b"/>
            <a:pathLst>
              <a:path w="961663" h="828864">
                <a:moveTo>
                  <a:pt x="793102" y="828864"/>
                </a:moveTo>
                <a:cubicBezTo>
                  <a:pt x="631371" y="822644"/>
                  <a:pt x="469377" y="821339"/>
                  <a:pt x="307910" y="810203"/>
                </a:cubicBezTo>
                <a:cubicBezTo>
                  <a:pt x="268196" y="807464"/>
                  <a:pt x="237932" y="781694"/>
                  <a:pt x="205273" y="763550"/>
                </a:cubicBezTo>
                <a:cubicBezTo>
                  <a:pt x="193114" y="756795"/>
                  <a:pt x="180110" y="751643"/>
                  <a:pt x="167951" y="744888"/>
                </a:cubicBezTo>
                <a:cubicBezTo>
                  <a:pt x="135693" y="726967"/>
                  <a:pt x="112027" y="712282"/>
                  <a:pt x="83975" y="688905"/>
                </a:cubicBezTo>
                <a:cubicBezTo>
                  <a:pt x="77217" y="683273"/>
                  <a:pt x="71534" y="676464"/>
                  <a:pt x="65314" y="670243"/>
                </a:cubicBezTo>
                <a:cubicBezTo>
                  <a:pt x="62204" y="660913"/>
                  <a:pt x="55983" y="652087"/>
                  <a:pt x="55983" y="642252"/>
                </a:cubicBezTo>
                <a:cubicBezTo>
                  <a:pt x="55983" y="555110"/>
                  <a:pt x="57425" y="467778"/>
                  <a:pt x="65314" y="380994"/>
                </a:cubicBezTo>
                <a:cubicBezTo>
                  <a:pt x="66830" y="364314"/>
                  <a:pt x="74684" y="348277"/>
                  <a:pt x="83975" y="334341"/>
                </a:cubicBezTo>
                <a:cubicBezTo>
                  <a:pt x="198594" y="162413"/>
                  <a:pt x="119944" y="291833"/>
                  <a:pt x="186612" y="213043"/>
                </a:cubicBezTo>
                <a:cubicBezTo>
                  <a:pt x="212340" y="182637"/>
                  <a:pt x="239164" y="152878"/>
                  <a:pt x="261257" y="119737"/>
                </a:cubicBezTo>
                <a:cubicBezTo>
                  <a:pt x="267477" y="110406"/>
                  <a:pt x="271989" y="99674"/>
                  <a:pt x="279918" y="91745"/>
                </a:cubicBezTo>
                <a:cubicBezTo>
                  <a:pt x="293105" y="78558"/>
                  <a:pt x="330597" y="61741"/>
                  <a:pt x="345232" y="54423"/>
                </a:cubicBezTo>
                <a:cubicBezTo>
                  <a:pt x="617044" y="67065"/>
                  <a:pt x="660483" y="0"/>
                  <a:pt x="802432" y="110407"/>
                </a:cubicBezTo>
                <a:cubicBezTo>
                  <a:pt x="818778" y="123121"/>
                  <a:pt x="849190" y="158807"/>
                  <a:pt x="858416" y="175721"/>
                </a:cubicBezTo>
                <a:cubicBezTo>
                  <a:pt x="869758" y="196515"/>
                  <a:pt x="876268" y="219629"/>
                  <a:pt x="886408" y="241035"/>
                </a:cubicBezTo>
                <a:cubicBezTo>
                  <a:pt x="904271" y="278746"/>
                  <a:pt x="942392" y="353003"/>
                  <a:pt x="942392" y="353003"/>
                </a:cubicBezTo>
                <a:cubicBezTo>
                  <a:pt x="959855" y="457789"/>
                  <a:pt x="961663" y="444339"/>
                  <a:pt x="942392" y="604929"/>
                </a:cubicBezTo>
                <a:cubicBezTo>
                  <a:pt x="940735" y="618739"/>
                  <a:pt x="931446" y="630679"/>
                  <a:pt x="923730" y="642252"/>
                </a:cubicBezTo>
                <a:cubicBezTo>
                  <a:pt x="912683" y="658822"/>
                  <a:pt x="900490" y="674823"/>
                  <a:pt x="886408" y="688905"/>
                </a:cubicBezTo>
                <a:cubicBezTo>
                  <a:pt x="865700" y="709613"/>
                  <a:pt x="826126" y="730079"/>
                  <a:pt x="802432" y="744888"/>
                </a:cubicBezTo>
                <a:cubicBezTo>
                  <a:pt x="792923" y="750831"/>
                  <a:pt x="784748" y="759133"/>
                  <a:pt x="774441" y="763550"/>
                </a:cubicBezTo>
                <a:cubicBezTo>
                  <a:pt x="762654" y="768602"/>
                  <a:pt x="749559" y="769770"/>
                  <a:pt x="737118" y="772880"/>
                </a:cubicBezTo>
                <a:lnTo>
                  <a:pt x="270587" y="763550"/>
                </a:lnTo>
                <a:cubicBezTo>
                  <a:pt x="228644" y="761997"/>
                  <a:pt x="238462" y="752152"/>
                  <a:pt x="205273" y="735558"/>
                </a:cubicBezTo>
                <a:cubicBezTo>
                  <a:pt x="190292" y="728068"/>
                  <a:pt x="173925" y="723699"/>
                  <a:pt x="158620" y="716897"/>
                </a:cubicBezTo>
                <a:cubicBezTo>
                  <a:pt x="145910" y="711248"/>
                  <a:pt x="133739" y="704456"/>
                  <a:pt x="121298" y="698235"/>
                </a:cubicBezTo>
                <a:cubicBezTo>
                  <a:pt x="75829" y="630034"/>
                  <a:pt x="136345" y="710775"/>
                  <a:pt x="65314" y="651582"/>
                </a:cubicBezTo>
                <a:cubicBezTo>
                  <a:pt x="56699" y="644403"/>
                  <a:pt x="53171" y="632715"/>
                  <a:pt x="46653" y="623590"/>
                </a:cubicBezTo>
                <a:cubicBezTo>
                  <a:pt x="37614" y="610936"/>
                  <a:pt x="27992" y="598709"/>
                  <a:pt x="18661" y="586268"/>
                </a:cubicBezTo>
                <a:cubicBezTo>
                  <a:pt x="14260" y="573066"/>
                  <a:pt x="0" y="532673"/>
                  <a:pt x="0" y="520954"/>
                </a:cubicBezTo>
                <a:cubicBezTo>
                  <a:pt x="0" y="483502"/>
                  <a:pt x="4685" y="446149"/>
                  <a:pt x="9330" y="408986"/>
                </a:cubicBezTo>
                <a:cubicBezTo>
                  <a:pt x="10921" y="396261"/>
                  <a:pt x="12433" y="382874"/>
                  <a:pt x="18661" y="371664"/>
                </a:cubicBezTo>
                <a:cubicBezTo>
                  <a:pt x="51594" y="312384"/>
                  <a:pt x="55488" y="338111"/>
                  <a:pt x="93306" y="287688"/>
                </a:cubicBezTo>
                <a:lnTo>
                  <a:pt x="121298" y="250366"/>
                </a:lnTo>
                <a:cubicBezTo>
                  <a:pt x="124408" y="241035"/>
                  <a:pt x="125568" y="230808"/>
                  <a:pt x="130628" y="222374"/>
                </a:cubicBezTo>
                <a:cubicBezTo>
                  <a:pt x="138066" y="209978"/>
                  <a:pt x="166386" y="190500"/>
                  <a:pt x="177281" y="185052"/>
                </a:cubicBezTo>
                <a:cubicBezTo>
                  <a:pt x="186078" y="180653"/>
                  <a:pt x="195816" y="178423"/>
                  <a:pt x="205273" y="175721"/>
                </a:cubicBezTo>
                <a:cubicBezTo>
                  <a:pt x="259911" y="160110"/>
                  <a:pt x="261543" y="164495"/>
                  <a:pt x="335902" y="157060"/>
                </a:cubicBezTo>
                <a:cubicBezTo>
                  <a:pt x="399301" y="135926"/>
                  <a:pt x="354059" y="147729"/>
                  <a:pt x="475861" y="147729"/>
                </a:cubicBezTo>
              </a:path>
            </a:pathLst>
          </a:custGeom>
          <a:noFill/>
          <a:ln w="12600">
            <a:solidFill>
              <a:srgbClr val="ffff66"/>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679" name="フリーフォーム 14"/>
          <p:cNvSpPr/>
          <p:nvPr/>
        </p:nvSpPr>
        <p:spPr>
          <a:xfrm>
            <a:off x="3583080" y="4610160"/>
            <a:ext cx="663480" cy="474480"/>
          </a:xfrm>
          <a:custGeom>
            <a:avLst/>
            <a:gdLst/>
            <a:ahLst/>
            <a:rect l="l" t="t" r="r" b="b"/>
            <a:pathLst>
              <a:path w="664364" h="475862">
                <a:moveTo>
                  <a:pt x="382555" y="475862"/>
                </a:moveTo>
                <a:lnTo>
                  <a:pt x="223935" y="457200"/>
                </a:lnTo>
                <a:cubicBezTo>
                  <a:pt x="192869" y="453748"/>
                  <a:pt x="161279" y="454000"/>
                  <a:pt x="130629" y="447870"/>
                </a:cubicBezTo>
                <a:cubicBezTo>
                  <a:pt x="114205" y="444585"/>
                  <a:pt x="99658" y="435090"/>
                  <a:pt x="83976" y="429209"/>
                </a:cubicBezTo>
                <a:cubicBezTo>
                  <a:pt x="74767" y="425756"/>
                  <a:pt x="65315" y="422988"/>
                  <a:pt x="55984" y="419878"/>
                </a:cubicBezTo>
                <a:cubicBezTo>
                  <a:pt x="9370" y="349958"/>
                  <a:pt x="26991" y="384718"/>
                  <a:pt x="0" y="317241"/>
                </a:cubicBezTo>
                <a:cubicBezTo>
                  <a:pt x="875" y="310242"/>
                  <a:pt x="8388" y="225821"/>
                  <a:pt x="18661" y="205274"/>
                </a:cubicBezTo>
                <a:cubicBezTo>
                  <a:pt x="25616" y="191365"/>
                  <a:pt x="37735" y="180691"/>
                  <a:pt x="46653" y="167951"/>
                </a:cubicBezTo>
                <a:cubicBezTo>
                  <a:pt x="59515" y="149577"/>
                  <a:pt x="65315" y="124409"/>
                  <a:pt x="83976" y="111968"/>
                </a:cubicBezTo>
                <a:cubicBezTo>
                  <a:pt x="102637" y="99527"/>
                  <a:pt x="124100" y="90504"/>
                  <a:pt x="139959" y="74645"/>
                </a:cubicBezTo>
                <a:cubicBezTo>
                  <a:pt x="154042" y="60563"/>
                  <a:pt x="175532" y="35414"/>
                  <a:pt x="195943" y="27992"/>
                </a:cubicBezTo>
                <a:cubicBezTo>
                  <a:pt x="235285" y="13686"/>
                  <a:pt x="284870" y="6951"/>
                  <a:pt x="326572" y="0"/>
                </a:cubicBezTo>
                <a:cubicBezTo>
                  <a:pt x="385209" y="8377"/>
                  <a:pt x="394411" y="5718"/>
                  <a:pt x="447869" y="27992"/>
                </a:cubicBezTo>
                <a:cubicBezTo>
                  <a:pt x="577439" y="81980"/>
                  <a:pt x="453518" y="39205"/>
                  <a:pt x="531845" y="65315"/>
                </a:cubicBezTo>
                <a:cubicBezTo>
                  <a:pt x="544286" y="74646"/>
                  <a:pt x="558171" y="82311"/>
                  <a:pt x="569167" y="93307"/>
                </a:cubicBezTo>
                <a:cubicBezTo>
                  <a:pt x="580163" y="104303"/>
                  <a:pt x="587203" y="118683"/>
                  <a:pt x="597159" y="130629"/>
                </a:cubicBezTo>
                <a:cubicBezTo>
                  <a:pt x="602791" y="137387"/>
                  <a:pt x="609600" y="143070"/>
                  <a:pt x="615821" y="149290"/>
                </a:cubicBezTo>
                <a:cubicBezTo>
                  <a:pt x="657541" y="232732"/>
                  <a:pt x="644346" y="197544"/>
                  <a:pt x="662474" y="251927"/>
                </a:cubicBezTo>
                <a:cubicBezTo>
                  <a:pt x="659364" y="283029"/>
                  <a:pt x="664364" y="316059"/>
                  <a:pt x="653143" y="345233"/>
                </a:cubicBezTo>
                <a:cubicBezTo>
                  <a:pt x="647561" y="359747"/>
                  <a:pt x="629730" y="366270"/>
                  <a:pt x="615821" y="373225"/>
                </a:cubicBezTo>
                <a:cubicBezTo>
                  <a:pt x="604351" y="378960"/>
                  <a:pt x="590829" y="379033"/>
                  <a:pt x="578498" y="382556"/>
                </a:cubicBezTo>
                <a:cubicBezTo>
                  <a:pt x="511556" y="401682"/>
                  <a:pt x="598696" y="382248"/>
                  <a:pt x="503853" y="401217"/>
                </a:cubicBezTo>
                <a:cubicBezTo>
                  <a:pt x="286907" y="394437"/>
                  <a:pt x="269758" y="451156"/>
                  <a:pt x="167951" y="363894"/>
                </a:cubicBezTo>
                <a:cubicBezTo>
                  <a:pt x="157932" y="355306"/>
                  <a:pt x="149290" y="345233"/>
                  <a:pt x="139959" y="335902"/>
                </a:cubicBezTo>
                <a:cubicBezTo>
                  <a:pt x="110988" y="248989"/>
                  <a:pt x="109351" y="267629"/>
                  <a:pt x="130629" y="139960"/>
                </a:cubicBezTo>
                <a:cubicBezTo>
                  <a:pt x="132473" y="128899"/>
                  <a:pt x="140675" y="119147"/>
                  <a:pt x="149290" y="111968"/>
                </a:cubicBezTo>
                <a:cubicBezTo>
                  <a:pt x="159975" y="103064"/>
                  <a:pt x="174536" y="100208"/>
                  <a:pt x="186612" y="93307"/>
                </a:cubicBezTo>
                <a:cubicBezTo>
                  <a:pt x="236730" y="64668"/>
                  <a:pt x="190624" y="80639"/>
                  <a:pt x="251927" y="65315"/>
                </a:cubicBezTo>
                <a:cubicBezTo>
                  <a:pt x="291533" y="45512"/>
                  <a:pt x="284225" y="45793"/>
                  <a:pt x="326572" y="37323"/>
                </a:cubicBezTo>
                <a:cubicBezTo>
                  <a:pt x="345123" y="33613"/>
                  <a:pt x="382555" y="27992"/>
                  <a:pt x="382555" y="27992"/>
                </a:cubicBezTo>
              </a:path>
            </a:pathLst>
          </a:custGeom>
          <a:noFill/>
          <a:ln w="12600">
            <a:solidFill>
              <a:srgbClr val="fcccf5"/>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680" name="フリーフォーム 15"/>
          <p:cNvSpPr/>
          <p:nvPr/>
        </p:nvSpPr>
        <p:spPr>
          <a:xfrm>
            <a:off x="3946680" y="4897440"/>
            <a:ext cx="544320" cy="312840"/>
          </a:xfrm>
          <a:custGeom>
            <a:avLst/>
            <a:gdLst/>
            <a:ahLst/>
            <a:rect l="l" t="t" r="r" b="b"/>
            <a:pathLst>
              <a:path w="544202" h="312695">
                <a:moveTo>
                  <a:pt x="354563" y="271260"/>
                </a:moveTo>
                <a:cubicBezTo>
                  <a:pt x="345232" y="274370"/>
                  <a:pt x="336358" y="281570"/>
                  <a:pt x="326571" y="280591"/>
                </a:cubicBezTo>
                <a:cubicBezTo>
                  <a:pt x="304041" y="278338"/>
                  <a:pt x="281870" y="271300"/>
                  <a:pt x="261257" y="261930"/>
                </a:cubicBezTo>
                <a:cubicBezTo>
                  <a:pt x="247100" y="255495"/>
                  <a:pt x="236589" y="242977"/>
                  <a:pt x="223935" y="233938"/>
                </a:cubicBezTo>
                <a:cubicBezTo>
                  <a:pt x="214810" y="227420"/>
                  <a:pt x="205746" y="220723"/>
                  <a:pt x="195943" y="215277"/>
                </a:cubicBezTo>
                <a:cubicBezTo>
                  <a:pt x="177705" y="205145"/>
                  <a:pt x="158620" y="196616"/>
                  <a:pt x="139959" y="187285"/>
                </a:cubicBezTo>
                <a:cubicBezTo>
                  <a:pt x="129200" y="155005"/>
                  <a:pt x="120254" y="142719"/>
                  <a:pt x="139959" y="103309"/>
                </a:cubicBezTo>
                <a:cubicBezTo>
                  <a:pt x="144974" y="93279"/>
                  <a:pt x="157703" y="89202"/>
                  <a:pt x="167951" y="84648"/>
                </a:cubicBezTo>
                <a:cubicBezTo>
                  <a:pt x="185926" y="76659"/>
                  <a:pt x="205274" y="72207"/>
                  <a:pt x="223935" y="65987"/>
                </a:cubicBezTo>
                <a:cubicBezTo>
                  <a:pt x="233266" y="62877"/>
                  <a:pt x="243743" y="62112"/>
                  <a:pt x="251927" y="56656"/>
                </a:cubicBezTo>
                <a:cubicBezTo>
                  <a:pt x="336909" y="0"/>
                  <a:pt x="268716" y="38504"/>
                  <a:pt x="485192" y="28664"/>
                </a:cubicBezTo>
                <a:cubicBezTo>
                  <a:pt x="491412" y="41105"/>
                  <a:pt x="496481" y="54192"/>
                  <a:pt x="503853" y="65987"/>
                </a:cubicBezTo>
                <a:cubicBezTo>
                  <a:pt x="544202" y="130545"/>
                  <a:pt x="522845" y="76306"/>
                  <a:pt x="541175" y="131301"/>
                </a:cubicBezTo>
                <a:cubicBezTo>
                  <a:pt x="537092" y="159884"/>
                  <a:pt x="540560" y="202706"/>
                  <a:pt x="513184" y="224607"/>
                </a:cubicBezTo>
                <a:cubicBezTo>
                  <a:pt x="505504" y="230751"/>
                  <a:pt x="494776" y="231726"/>
                  <a:pt x="485192" y="233938"/>
                </a:cubicBezTo>
                <a:cubicBezTo>
                  <a:pt x="454286" y="241070"/>
                  <a:pt x="422988" y="246379"/>
                  <a:pt x="391886" y="252599"/>
                </a:cubicBezTo>
                <a:lnTo>
                  <a:pt x="345233" y="261930"/>
                </a:lnTo>
                <a:cubicBezTo>
                  <a:pt x="242596" y="258820"/>
                  <a:pt x="139651" y="261127"/>
                  <a:pt x="37322" y="252599"/>
                </a:cubicBezTo>
                <a:cubicBezTo>
                  <a:pt x="26147" y="251668"/>
                  <a:pt x="15551" y="243268"/>
                  <a:pt x="9331" y="233938"/>
                </a:cubicBezTo>
                <a:cubicBezTo>
                  <a:pt x="2218" y="223268"/>
                  <a:pt x="3110" y="209056"/>
                  <a:pt x="0" y="196615"/>
                </a:cubicBezTo>
                <a:cubicBezTo>
                  <a:pt x="3489" y="175683"/>
                  <a:pt x="3393" y="129040"/>
                  <a:pt x="27992" y="112640"/>
                </a:cubicBezTo>
                <a:cubicBezTo>
                  <a:pt x="38662" y="105527"/>
                  <a:pt x="52640" y="105259"/>
                  <a:pt x="65314" y="103309"/>
                </a:cubicBezTo>
                <a:cubicBezTo>
                  <a:pt x="131804" y="93080"/>
                  <a:pt x="227366" y="88774"/>
                  <a:pt x="289249" y="84648"/>
                </a:cubicBezTo>
                <a:cubicBezTo>
                  <a:pt x="351453" y="87758"/>
                  <a:pt x="430581" y="51215"/>
                  <a:pt x="475861" y="93979"/>
                </a:cubicBezTo>
                <a:cubicBezTo>
                  <a:pt x="512321" y="128413"/>
                  <a:pt x="468079" y="194312"/>
                  <a:pt x="457200" y="243268"/>
                </a:cubicBezTo>
                <a:cubicBezTo>
                  <a:pt x="455292" y="251856"/>
                  <a:pt x="446407" y="257996"/>
                  <a:pt x="438539" y="261930"/>
                </a:cubicBezTo>
                <a:cubicBezTo>
                  <a:pt x="420945" y="270727"/>
                  <a:pt x="401216" y="274371"/>
                  <a:pt x="382555" y="280591"/>
                </a:cubicBezTo>
                <a:lnTo>
                  <a:pt x="354563" y="289921"/>
                </a:lnTo>
                <a:cubicBezTo>
                  <a:pt x="179752" y="260787"/>
                  <a:pt x="211992" y="312695"/>
                  <a:pt x="177282" y="243268"/>
                </a:cubicBezTo>
              </a:path>
            </a:pathLst>
          </a:custGeom>
          <a:noFill/>
          <a:ln w="12600">
            <a:solidFill>
              <a:srgbClr val="f2c74c"/>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681" name="フリーフォーム 16"/>
          <p:cNvSpPr/>
          <p:nvPr/>
        </p:nvSpPr>
        <p:spPr>
          <a:xfrm>
            <a:off x="503280" y="554040"/>
            <a:ext cx="6410160" cy="3989520"/>
          </a:xfrm>
          <a:custGeom>
            <a:avLst/>
            <a:gdLst/>
            <a:ahLst/>
            <a:rect l="l" t="t" r="r" b="b"/>
            <a:pathLst>
              <a:path w="6410131" h="3990033">
                <a:moveTo>
                  <a:pt x="3452327" y="3840743"/>
                </a:moveTo>
                <a:cubicBezTo>
                  <a:pt x="3338821" y="3878580"/>
                  <a:pt x="3405190" y="3859405"/>
                  <a:pt x="3144416" y="3859405"/>
                </a:cubicBezTo>
                <a:cubicBezTo>
                  <a:pt x="2914240" y="3859405"/>
                  <a:pt x="2684106" y="3853184"/>
                  <a:pt x="2453951" y="3850074"/>
                </a:cubicBezTo>
                <a:lnTo>
                  <a:pt x="2174033" y="3803421"/>
                </a:lnTo>
                <a:cubicBezTo>
                  <a:pt x="2145809" y="3798355"/>
                  <a:pt x="2118225" y="3790125"/>
                  <a:pt x="2090057" y="3784760"/>
                </a:cubicBezTo>
                <a:cubicBezTo>
                  <a:pt x="2052888" y="3777680"/>
                  <a:pt x="2015246" y="3773243"/>
                  <a:pt x="1978090" y="3766098"/>
                </a:cubicBezTo>
                <a:cubicBezTo>
                  <a:pt x="1701132" y="3712837"/>
                  <a:pt x="1945693" y="3754480"/>
                  <a:pt x="1791478" y="3728776"/>
                </a:cubicBezTo>
                <a:cubicBezTo>
                  <a:pt x="1751045" y="3710115"/>
                  <a:pt x="1711420" y="3689594"/>
                  <a:pt x="1670180" y="3672792"/>
                </a:cubicBezTo>
                <a:cubicBezTo>
                  <a:pt x="1534904" y="3617680"/>
                  <a:pt x="1569409" y="3649093"/>
                  <a:pt x="1474237" y="3588817"/>
                </a:cubicBezTo>
                <a:cubicBezTo>
                  <a:pt x="1402087" y="3543122"/>
                  <a:pt x="1315213" y="3513701"/>
                  <a:pt x="1259633" y="3448858"/>
                </a:cubicBezTo>
                <a:cubicBezTo>
                  <a:pt x="1034141" y="3185785"/>
                  <a:pt x="1261196" y="3431565"/>
                  <a:pt x="1035698" y="3234254"/>
                </a:cubicBezTo>
                <a:cubicBezTo>
                  <a:pt x="1020711" y="3221140"/>
                  <a:pt x="1013497" y="3200561"/>
                  <a:pt x="998376" y="3187601"/>
                </a:cubicBezTo>
                <a:cubicBezTo>
                  <a:pt x="969551" y="3162894"/>
                  <a:pt x="933802" y="3147101"/>
                  <a:pt x="905069" y="3122286"/>
                </a:cubicBezTo>
                <a:cubicBezTo>
                  <a:pt x="865123" y="3087787"/>
                  <a:pt x="833177" y="3044669"/>
                  <a:pt x="793102" y="3010319"/>
                </a:cubicBezTo>
                <a:cubicBezTo>
                  <a:pt x="767559" y="2988425"/>
                  <a:pt x="733647" y="2977369"/>
                  <a:pt x="709127" y="2954335"/>
                </a:cubicBezTo>
                <a:cubicBezTo>
                  <a:pt x="630568" y="2880537"/>
                  <a:pt x="560148" y="2798525"/>
                  <a:pt x="485192" y="2721070"/>
                </a:cubicBezTo>
                <a:cubicBezTo>
                  <a:pt x="423434" y="2657254"/>
                  <a:pt x="401572" y="2639281"/>
                  <a:pt x="326571" y="2571780"/>
                </a:cubicBezTo>
                <a:cubicBezTo>
                  <a:pt x="298733" y="2546726"/>
                  <a:pt x="265067" y="2527096"/>
                  <a:pt x="242596" y="2497135"/>
                </a:cubicBezTo>
                <a:cubicBezTo>
                  <a:pt x="210708" y="2454619"/>
                  <a:pt x="187990" y="2425766"/>
                  <a:pt x="158620" y="2375837"/>
                </a:cubicBezTo>
                <a:cubicBezTo>
                  <a:pt x="113954" y="2299905"/>
                  <a:pt x="122433" y="2292492"/>
                  <a:pt x="83976" y="2207886"/>
                </a:cubicBezTo>
                <a:cubicBezTo>
                  <a:pt x="15398" y="2057015"/>
                  <a:pt x="40221" y="2144832"/>
                  <a:pt x="18661" y="2058596"/>
                </a:cubicBezTo>
                <a:cubicBezTo>
                  <a:pt x="15278" y="2028146"/>
                  <a:pt x="0" y="1895734"/>
                  <a:pt x="0" y="1871984"/>
                </a:cubicBezTo>
                <a:cubicBezTo>
                  <a:pt x="0" y="1744428"/>
                  <a:pt x="4429" y="1616891"/>
                  <a:pt x="9331" y="1489429"/>
                </a:cubicBezTo>
                <a:cubicBezTo>
                  <a:pt x="12451" y="1408321"/>
                  <a:pt x="30244" y="1289042"/>
                  <a:pt x="55984" y="1218841"/>
                </a:cubicBezTo>
                <a:cubicBezTo>
                  <a:pt x="90838" y="1123784"/>
                  <a:pt x="112970" y="1124891"/>
                  <a:pt x="158620" y="1060221"/>
                </a:cubicBezTo>
                <a:cubicBezTo>
                  <a:pt x="184488" y="1023575"/>
                  <a:pt x="205620" y="983578"/>
                  <a:pt x="233265" y="948254"/>
                </a:cubicBezTo>
                <a:cubicBezTo>
                  <a:pt x="261761" y="911842"/>
                  <a:pt x="298485" y="882345"/>
                  <a:pt x="326571" y="845617"/>
                </a:cubicBezTo>
                <a:cubicBezTo>
                  <a:pt x="339245" y="829043"/>
                  <a:pt x="339209" y="803759"/>
                  <a:pt x="354563" y="789633"/>
                </a:cubicBezTo>
                <a:cubicBezTo>
                  <a:pt x="416042" y="733072"/>
                  <a:pt x="622427" y="568109"/>
                  <a:pt x="727788" y="547037"/>
                </a:cubicBezTo>
                <a:cubicBezTo>
                  <a:pt x="1009202" y="490755"/>
                  <a:pt x="658554" y="562422"/>
                  <a:pt x="895739" y="509715"/>
                </a:cubicBezTo>
                <a:cubicBezTo>
                  <a:pt x="926702" y="502834"/>
                  <a:pt x="958051" y="497792"/>
                  <a:pt x="989045" y="491054"/>
                </a:cubicBezTo>
                <a:cubicBezTo>
                  <a:pt x="1029593" y="482239"/>
                  <a:pt x="1069541" y="470618"/>
                  <a:pt x="1110343" y="463062"/>
                </a:cubicBezTo>
                <a:cubicBezTo>
                  <a:pt x="1153592" y="455053"/>
                  <a:pt x="1197428" y="450621"/>
                  <a:pt x="1240971" y="444401"/>
                </a:cubicBezTo>
                <a:cubicBezTo>
                  <a:pt x="1328630" y="409337"/>
                  <a:pt x="1277632" y="424165"/>
                  <a:pt x="1427584" y="416409"/>
                </a:cubicBezTo>
                <a:lnTo>
                  <a:pt x="1828800" y="397747"/>
                </a:lnTo>
                <a:lnTo>
                  <a:pt x="2425959" y="379086"/>
                </a:lnTo>
                <a:cubicBezTo>
                  <a:pt x="2519265" y="382196"/>
                  <a:pt x="2612520" y="388417"/>
                  <a:pt x="2705878" y="388417"/>
                </a:cubicBezTo>
                <a:cubicBezTo>
                  <a:pt x="2755738" y="388417"/>
                  <a:pt x="2805331" y="380643"/>
                  <a:pt x="2855167" y="379086"/>
                </a:cubicBezTo>
                <a:cubicBezTo>
                  <a:pt x="3004417" y="374422"/>
                  <a:pt x="3153747" y="372866"/>
                  <a:pt x="3303037" y="369756"/>
                </a:cubicBezTo>
                <a:lnTo>
                  <a:pt x="5561045" y="379086"/>
                </a:lnTo>
                <a:cubicBezTo>
                  <a:pt x="5599511" y="379692"/>
                  <a:pt x="5635288" y="399533"/>
                  <a:pt x="5673012" y="407078"/>
                </a:cubicBezTo>
                <a:cubicBezTo>
                  <a:pt x="5704114" y="413298"/>
                  <a:pt x="5735412" y="418607"/>
                  <a:pt x="5766318" y="425739"/>
                </a:cubicBezTo>
                <a:cubicBezTo>
                  <a:pt x="5810551" y="435947"/>
                  <a:pt x="5814222" y="453074"/>
                  <a:pt x="5868955" y="472392"/>
                </a:cubicBezTo>
                <a:cubicBezTo>
                  <a:pt x="5895995" y="481936"/>
                  <a:pt x="5924939" y="484833"/>
                  <a:pt x="5952931" y="491054"/>
                </a:cubicBezTo>
                <a:cubicBezTo>
                  <a:pt x="5974702" y="509715"/>
                  <a:pt x="5995854" y="529124"/>
                  <a:pt x="6018245" y="547037"/>
                </a:cubicBezTo>
                <a:cubicBezTo>
                  <a:pt x="6103501" y="615241"/>
                  <a:pt x="5952304" y="472388"/>
                  <a:pt x="6111551" y="621682"/>
                </a:cubicBezTo>
                <a:cubicBezTo>
                  <a:pt x="6140431" y="648757"/>
                  <a:pt x="6167535" y="677666"/>
                  <a:pt x="6195527" y="705658"/>
                </a:cubicBezTo>
                <a:cubicBezTo>
                  <a:pt x="6204857" y="724319"/>
                  <a:pt x="6211945" y="744281"/>
                  <a:pt x="6223518" y="761641"/>
                </a:cubicBezTo>
                <a:cubicBezTo>
                  <a:pt x="6271641" y="833826"/>
                  <a:pt x="6295096" y="851880"/>
                  <a:pt x="6354147" y="910931"/>
                </a:cubicBezTo>
                <a:cubicBezTo>
                  <a:pt x="6359738" y="923976"/>
                  <a:pt x="6399687" y="1012196"/>
                  <a:pt x="6400800" y="1032229"/>
                </a:cubicBezTo>
                <a:cubicBezTo>
                  <a:pt x="6402877" y="1069623"/>
                  <a:pt x="6394579" y="1106874"/>
                  <a:pt x="6391469" y="1144196"/>
                </a:cubicBezTo>
                <a:cubicBezTo>
                  <a:pt x="6394579" y="1203290"/>
                  <a:pt x="6397109" y="1262417"/>
                  <a:pt x="6400800" y="1321478"/>
                </a:cubicBezTo>
                <a:cubicBezTo>
                  <a:pt x="6403330" y="1361951"/>
                  <a:pt x="6410131" y="1402224"/>
                  <a:pt x="6410131" y="1442776"/>
                </a:cubicBezTo>
                <a:cubicBezTo>
                  <a:pt x="6410131" y="1604537"/>
                  <a:pt x="6405700" y="1766282"/>
                  <a:pt x="6400800" y="1927968"/>
                </a:cubicBezTo>
                <a:cubicBezTo>
                  <a:pt x="6396608" y="2066293"/>
                  <a:pt x="6404960" y="2027115"/>
                  <a:pt x="6363478" y="2123911"/>
                </a:cubicBezTo>
                <a:cubicBezTo>
                  <a:pt x="6357257" y="2170564"/>
                  <a:pt x="6351472" y="2217277"/>
                  <a:pt x="6344816" y="2263870"/>
                </a:cubicBezTo>
                <a:cubicBezTo>
                  <a:pt x="6339031" y="2304367"/>
                  <a:pt x="6331229" y="2344576"/>
                  <a:pt x="6326155" y="2385168"/>
                </a:cubicBezTo>
                <a:cubicBezTo>
                  <a:pt x="6321894" y="2419256"/>
                  <a:pt x="6325409" y="2454541"/>
                  <a:pt x="6316825" y="2487805"/>
                </a:cubicBezTo>
                <a:cubicBezTo>
                  <a:pt x="6266954" y="2681056"/>
                  <a:pt x="6273182" y="2637244"/>
                  <a:pt x="6186196" y="2767723"/>
                </a:cubicBezTo>
                <a:cubicBezTo>
                  <a:pt x="6176136" y="2782813"/>
                  <a:pt x="6168561" y="2799489"/>
                  <a:pt x="6158204" y="2814376"/>
                </a:cubicBezTo>
                <a:cubicBezTo>
                  <a:pt x="6118768" y="2871066"/>
                  <a:pt x="6067790" y="2920560"/>
                  <a:pt x="6036906" y="2982327"/>
                </a:cubicBezTo>
                <a:cubicBezTo>
                  <a:pt x="6015548" y="3025042"/>
                  <a:pt x="6011304" y="3041876"/>
                  <a:pt x="5980923" y="3075633"/>
                </a:cubicBezTo>
                <a:cubicBezTo>
                  <a:pt x="5963268" y="3095249"/>
                  <a:pt x="5949443" y="3121816"/>
                  <a:pt x="5924939" y="3131617"/>
                </a:cubicBezTo>
                <a:cubicBezTo>
                  <a:pt x="5884807" y="3147670"/>
                  <a:pt x="5861012" y="3155689"/>
                  <a:pt x="5822302" y="3178270"/>
                </a:cubicBezTo>
                <a:cubicBezTo>
                  <a:pt x="5802929" y="3189571"/>
                  <a:pt x="5785791" y="3204465"/>
                  <a:pt x="5766318" y="3215592"/>
                </a:cubicBezTo>
                <a:cubicBezTo>
                  <a:pt x="5742165" y="3229394"/>
                  <a:pt x="5715029" y="3237803"/>
                  <a:pt x="5691674" y="3252915"/>
                </a:cubicBezTo>
                <a:cubicBezTo>
                  <a:pt x="5550716" y="3344124"/>
                  <a:pt x="5664335" y="3299350"/>
                  <a:pt x="5551714" y="3336890"/>
                </a:cubicBezTo>
                <a:cubicBezTo>
                  <a:pt x="5514996" y="3373610"/>
                  <a:pt x="5546781" y="3347866"/>
                  <a:pt x="5467739" y="3374213"/>
                </a:cubicBezTo>
                <a:cubicBezTo>
                  <a:pt x="5451850" y="3379509"/>
                  <a:pt x="5437129" y="3388061"/>
                  <a:pt x="5421086" y="3392874"/>
                </a:cubicBezTo>
                <a:cubicBezTo>
                  <a:pt x="5394480" y="3400856"/>
                  <a:pt x="5371064" y="3399223"/>
                  <a:pt x="5346441" y="3411535"/>
                </a:cubicBezTo>
                <a:cubicBezTo>
                  <a:pt x="5324013" y="3422749"/>
                  <a:pt x="5303205" y="3436970"/>
                  <a:pt x="5281127" y="3448858"/>
                </a:cubicBezTo>
                <a:cubicBezTo>
                  <a:pt x="5262757" y="3458750"/>
                  <a:pt x="5243381" y="3466717"/>
                  <a:pt x="5225143" y="3476849"/>
                </a:cubicBezTo>
                <a:cubicBezTo>
                  <a:pt x="5215340" y="3482295"/>
                  <a:pt x="5207181" y="3490496"/>
                  <a:pt x="5197151" y="3495511"/>
                </a:cubicBezTo>
                <a:cubicBezTo>
                  <a:pt x="5169753" y="3509210"/>
                  <a:pt x="5139874" y="3517816"/>
                  <a:pt x="5113176" y="3532833"/>
                </a:cubicBezTo>
                <a:cubicBezTo>
                  <a:pt x="5089857" y="3545950"/>
                  <a:pt x="5072373" y="3568762"/>
                  <a:pt x="5047861" y="3579486"/>
                </a:cubicBezTo>
                <a:cubicBezTo>
                  <a:pt x="5005607" y="3597972"/>
                  <a:pt x="4934449" y="3599500"/>
                  <a:pt x="4889241" y="3607478"/>
                </a:cubicBezTo>
                <a:cubicBezTo>
                  <a:pt x="4861003" y="3612461"/>
                  <a:pt x="4832775" y="3618048"/>
                  <a:pt x="4805265" y="3626139"/>
                </a:cubicBezTo>
                <a:cubicBezTo>
                  <a:pt x="4779771" y="3633637"/>
                  <a:pt x="4756487" y="3648044"/>
                  <a:pt x="4730620" y="3654131"/>
                </a:cubicBezTo>
                <a:cubicBezTo>
                  <a:pt x="4703205" y="3660582"/>
                  <a:pt x="4674591" y="3659969"/>
                  <a:pt x="4646645" y="3663462"/>
                </a:cubicBezTo>
                <a:cubicBezTo>
                  <a:pt x="4624822" y="3666190"/>
                  <a:pt x="4602969" y="3668858"/>
                  <a:pt x="4581331" y="3672792"/>
                </a:cubicBezTo>
                <a:cubicBezTo>
                  <a:pt x="4508519" y="3686030"/>
                  <a:pt x="4581937" y="3681020"/>
                  <a:pt x="4488025" y="3691454"/>
                </a:cubicBezTo>
                <a:cubicBezTo>
                  <a:pt x="4450802" y="3695590"/>
                  <a:pt x="4413380" y="3697674"/>
                  <a:pt x="4376057" y="3700784"/>
                </a:cubicBezTo>
                <a:cubicBezTo>
                  <a:pt x="4336739" y="3708648"/>
                  <a:pt x="4325193" y="3706702"/>
                  <a:pt x="4292082" y="3728776"/>
                </a:cubicBezTo>
                <a:cubicBezTo>
                  <a:pt x="4217282" y="3778642"/>
                  <a:pt x="4276426" y="3758349"/>
                  <a:pt x="4208106" y="3775429"/>
                </a:cubicBezTo>
                <a:cubicBezTo>
                  <a:pt x="4078353" y="3853282"/>
                  <a:pt x="4241774" y="3758596"/>
                  <a:pt x="4114800" y="3822082"/>
                </a:cubicBezTo>
                <a:cubicBezTo>
                  <a:pt x="4104770" y="3827097"/>
                  <a:pt x="4096544" y="3835179"/>
                  <a:pt x="4086808" y="3840743"/>
                </a:cubicBezTo>
                <a:cubicBezTo>
                  <a:pt x="4074731" y="3847644"/>
                  <a:pt x="4061281" y="3852033"/>
                  <a:pt x="4049486" y="3859405"/>
                </a:cubicBezTo>
                <a:cubicBezTo>
                  <a:pt x="3989784" y="3896719"/>
                  <a:pt x="4031837" y="3874111"/>
                  <a:pt x="3993502" y="3906058"/>
                </a:cubicBezTo>
                <a:cubicBezTo>
                  <a:pt x="3981556" y="3916013"/>
                  <a:pt x="3967987" y="3923929"/>
                  <a:pt x="3956180" y="3934049"/>
                </a:cubicBezTo>
                <a:cubicBezTo>
                  <a:pt x="3946161" y="3942637"/>
                  <a:pt x="3939645" y="3955494"/>
                  <a:pt x="3928188" y="3962041"/>
                </a:cubicBezTo>
                <a:cubicBezTo>
                  <a:pt x="3917054" y="3968403"/>
                  <a:pt x="3902872" y="3966869"/>
                  <a:pt x="3890865" y="3971372"/>
                </a:cubicBezTo>
                <a:cubicBezTo>
                  <a:pt x="3877842" y="3976256"/>
                  <a:pt x="3865984" y="3983813"/>
                  <a:pt x="3853543" y="3990033"/>
                </a:cubicBezTo>
                <a:lnTo>
                  <a:pt x="3433665" y="3971372"/>
                </a:lnTo>
                <a:cubicBezTo>
                  <a:pt x="3393167" y="3969277"/>
                  <a:pt x="3352908" y="3962973"/>
                  <a:pt x="3312367" y="3962041"/>
                </a:cubicBezTo>
                <a:lnTo>
                  <a:pt x="2621902" y="3952711"/>
                </a:lnTo>
                <a:cubicBezTo>
                  <a:pt x="2441365" y="3930143"/>
                  <a:pt x="2628865" y="3955426"/>
                  <a:pt x="2500604" y="3934049"/>
                </a:cubicBezTo>
                <a:cubicBezTo>
                  <a:pt x="2478911" y="3930434"/>
                  <a:pt x="2457027" y="3928063"/>
                  <a:pt x="2435290" y="3924719"/>
                </a:cubicBezTo>
                <a:cubicBezTo>
                  <a:pt x="2416591" y="3921842"/>
                  <a:pt x="2397967" y="3918498"/>
                  <a:pt x="2379306" y="3915388"/>
                </a:cubicBezTo>
                <a:cubicBezTo>
                  <a:pt x="2303433" y="3877452"/>
                  <a:pt x="2361761" y="3905546"/>
                  <a:pt x="2230016" y="3850074"/>
                </a:cubicBezTo>
                <a:lnTo>
                  <a:pt x="2164702" y="3822082"/>
                </a:lnTo>
                <a:cubicBezTo>
                  <a:pt x="2149241" y="3815640"/>
                  <a:pt x="2134399" y="3807054"/>
                  <a:pt x="2118049" y="3803421"/>
                </a:cubicBezTo>
                <a:lnTo>
                  <a:pt x="2034074" y="3784760"/>
                </a:lnTo>
                <a:cubicBezTo>
                  <a:pt x="2006239" y="3766202"/>
                  <a:pt x="1968816" y="3740326"/>
                  <a:pt x="1940767" y="3728776"/>
                </a:cubicBezTo>
                <a:cubicBezTo>
                  <a:pt x="1910741" y="3716413"/>
                  <a:pt x="1877388" y="3713385"/>
                  <a:pt x="1847461" y="3700784"/>
                </a:cubicBezTo>
                <a:cubicBezTo>
                  <a:pt x="1817949" y="3688358"/>
                  <a:pt x="1792127" y="3668451"/>
                  <a:pt x="1763486" y="3654131"/>
                </a:cubicBezTo>
                <a:cubicBezTo>
                  <a:pt x="1754689" y="3649733"/>
                  <a:pt x="1744915" y="3647627"/>
                  <a:pt x="1735494" y="3644801"/>
                </a:cubicBezTo>
                <a:cubicBezTo>
                  <a:pt x="1713806" y="3638295"/>
                  <a:pt x="1691661" y="3633299"/>
                  <a:pt x="1670180" y="3626139"/>
                </a:cubicBezTo>
                <a:cubicBezTo>
                  <a:pt x="1654291" y="3620842"/>
                  <a:pt x="1639209" y="3613359"/>
                  <a:pt x="1623527" y="3607478"/>
                </a:cubicBezTo>
                <a:cubicBezTo>
                  <a:pt x="1614318" y="3604025"/>
                  <a:pt x="1604097" y="3602987"/>
                  <a:pt x="1595535" y="3598147"/>
                </a:cubicBezTo>
                <a:cubicBezTo>
                  <a:pt x="1532383" y="3562452"/>
                  <a:pt x="1473806" y="3518621"/>
                  <a:pt x="1408923" y="3486180"/>
                </a:cubicBezTo>
                <a:cubicBezTo>
                  <a:pt x="1384041" y="3473739"/>
                  <a:pt x="1360476" y="3458214"/>
                  <a:pt x="1334278" y="3448858"/>
                </a:cubicBezTo>
                <a:cubicBezTo>
                  <a:pt x="1316461" y="3442495"/>
                  <a:pt x="1296955" y="3442637"/>
                  <a:pt x="1278294" y="3439527"/>
                </a:cubicBezTo>
                <a:cubicBezTo>
                  <a:pt x="1253412" y="3423976"/>
                  <a:pt x="1226867" y="3410815"/>
                  <a:pt x="1203649" y="3392874"/>
                </a:cubicBezTo>
                <a:cubicBezTo>
                  <a:pt x="1158269" y="3357808"/>
                  <a:pt x="1113571" y="3321460"/>
                  <a:pt x="1073020" y="3280907"/>
                </a:cubicBezTo>
                <a:cubicBezTo>
                  <a:pt x="1066800" y="3274686"/>
                  <a:pt x="1060225" y="3268801"/>
                  <a:pt x="1054359" y="3262245"/>
                </a:cubicBezTo>
                <a:cubicBezTo>
                  <a:pt x="1007341" y="3209696"/>
                  <a:pt x="964260" y="3153485"/>
                  <a:pt x="914400" y="3103625"/>
                </a:cubicBezTo>
                <a:cubicBezTo>
                  <a:pt x="880188" y="3069413"/>
                  <a:pt x="848932" y="3031963"/>
                  <a:pt x="811763" y="3000988"/>
                </a:cubicBezTo>
                <a:cubicBezTo>
                  <a:pt x="793102" y="2985437"/>
                  <a:pt x="773440" y="2971014"/>
                  <a:pt x="755780" y="2954335"/>
                </a:cubicBezTo>
                <a:cubicBezTo>
                  <a:pt x="717407" y="2918094"/>
                  <a:pt x="681135" y="2879691"/>
                  <a:pt x="643812" y="2842368"/>
                </a:cubicBezTo>
                <a:cubicBezTo>
                  <a:pt x="615820" y="2814376"/>
                  <a:pt x="585600" y="2788448"/>
                  <a:pt x="559837" y="2758392"/>
                </a:cubicBezTo>
                <a:cubicBezTo>
                  <a:pt x="522514" y="2714849"/>
                  <a:pt x="484810" y="2671631"/>
                  <a:pt x="447869" y="2627764"/>
                </a:cubicBezTo>
                <a:cubicBezTo>
                  <a:pt x="435041" y="2612531"/>
                  <a:pt x="422851" y="2596771"/>
                  <a:pt x="410547" y="2581111"/>
                </a:cubicBezTo>
                <a:cubicBezTo>
                  <a:pt x="388638" y="2553227"/>
                  <a:pt x="368585" y="2523823"/>
                  <a:pt x="345233" y="2497135"/>
                </a:cubicBezTo>
                <a:lnTo>
                  <a:pt x="279918" y="2422490"/>
                </a:lnTo>
                <a:cubicBezTo>
                  <a:pt x="270588" y="2397608"/>
                  <a:pt x="265241" y="2370842"/>
                  <a:pt x="251927" y="2347845"/>
                </a:cubicBezTo>
                <a:cubicBezTo>
                  <a:pt x="230732" y="2311235"/>
                  <a:pt x="196201" y="2283046"/>
                  <a:pt x="177282" y="2245209"/>
                </a:cubicBezTo>
                <a:cubicBezTo>
                  <a:pt x="129929" y="2150504"/>
                  <a:pt x="155390" y="2193711"/>
                  <a:pt x="102637" y="2114580"/>
                </a:cubicBezTo>
                <a:cubicBezTo>
                  <a:pt x="99527" y="2102139"/>
                  <a:pt x="98514" y="2088976"/>
                  <a:pt x="93306" y="2077258"/>
                </a:cubicBezTo>
                <a:cubicBezTo>
                  <a:pt x="85940" y="2060686"/>
                  <a:pt x="69712" y="2048199"/>
                  <a:pt x="65314" y="2030605"/>
                </a:cubicBezTo>
                <a:cubicBezTo>
                  <a:pt x="56982" y="1997277"/>
                  <a:pt x="59094" y="1962180"/>
                  <a:pt x="55984" y="1927968"/>
                </a:cubicBezTo>
                <a:cubicBezTo>
                  <a:pt x="65315" y="1834662"/>
                  <a:pt x="62167" y="1739249"/>
                  <a:pt x="83976" y="1648049"/>
                </a:cubicBezTo>
                <a:cubicBezTo>
                  <a:pt x="102193" y="1571870"/>
                  <a:pt x="170976" y="1482649"/>
                  <a:pt x="214604" y="1414784"/>
                </a:cubicBezTo>
                <a:cubicBezTo>
                  <a:pt x="224411" y="1399529"/>
                  <a:pt x="232055" y="1382888"/>
                  <a:pt x="242596" y="1368131"/>
                </a:cubicBezTo>
                <a:cubicBezTo>
                  <a:pt x="278751" y="1317513"/>
                  <a:pt x="320058" y="1270598"/>
                  <a:pt x="354563" y="1218841"/>
                </a:cubicBezTo>
                <a:cubicBezTo>
                  <a:pt x="373224" y="1190849"/>
                  <a:pt x="387538" y="1159409"/>
                  <a:pt x="410547" y="1134866"/>
                </a:cubicBezTo>
                <a:cubicBezTo>
                  <a:pt x="434801" y="1108995"/>
                  <a:pt x="470964" y="1096057"/>
                  <a:pt x="494523" y="1069552"/>
                </a:cubicBezTo>
                <a:cubicBezTo>
                  <a:pt x="650406" y="894181"/>
                  <a:pt x="493117" y="1063517"/>
                  <a:pt x="634482" y="929592"/>
                </a:cubicBezTo>
                <a:cubicBezTo>
                  <a:pt x="672799" y="893292"/>
                  <a:pt x="700622" y="843812"/>
                  <a:pt x="746449" y="817625"/>
                </a:cubicBezTo>
                <a:cubicBezTo>
                  <a:pt x="768220" y="805184"/>
                  <a:pt x="789685" y="792191"/>
                  <a:pt x="811763" y="780303"/>
                </a:cubicBezTo>
                <a:cubicBezTo>
                  <a:pt x="830133" y="770411"/>
                  <a:pt x="850554" y="764131"/>
                  <a:pt x="867747" y="752311"/>
                </a:cubicBezTo>
                <a:cubicBezTo>
                  <a:pt x="967512" y="683722"/>
                  <a:pt x="944646" y="676893"/>
                  <a:pt x="1045029" y="621682"/>
                </a:cubicBezTo>
                <a:cubicBezTo>
                  <a:pt x="1077958" y="603571"/>
                  <a:pt x="1114506" y="592714"/>
                  <a:pt x="1147665" y="575029"/>
                </a:cubicBezTo>
                <a:cubicBezTo>
                  <a:pt x="1161387" y="567711"/>
                  <a:pt x="1171336" y="554484"/>
                  <a:pt x="1184988" y="547037"/>
                </a:cubicBezTo>
                <a:cubicBezTo>
                  <a:pt x="1306467" y="480776"/>
                  <a:pt x="1348543" y="464013"/>
                  <a:pt x="1464906" y="416409"/>
                </a:cubicBezTo>
                <a:cubicBezTo>
                  <a:pt x="1485467" y="407998"/>
                  <a:pt x="1660409" y="338947"/>
                  <a:pt x="1670180" y="332433"/>
                </a:cubicBezTo>
                <a:cubicBezTo>
                  <a:pt x="1716821" y="301339"/>
                  <a:pt x="1744285" y="278013"/>
                  <a:pt x="1791478" y="257788"/>
                </a:cubicBezTo>
                <a:cubicBezTo>
                  <a:pt x="1822267" y="244593"/>
                  <a:pt x="1854823" y="235447"/>
                  <a:pt x="1884784" y="220466"/>
                </a:cubicBezTo>
                <a:cubicBezTo>
                  <a:pt x="1911028" y="207344"/>
                  <a:pt x="1932840" y="186221"/>
                  <a:pt x="1959429" y="173813"/>
                </a:cubicBezTo>
                <a:cubicBezTo>
                  <a:pt x="1997984" y="155821"/>
                  <a:pt x="2039966" y="153973"/>
                  <a:pt x="2080727" y="145821"/>
                </a:cubicBezTo>
                <a:cubicBezTo>
                  <a:pt x="2227175" y="116531"/>
                  <a:pt x="2104867" y="135708"/>
                  <a:pt x="2230016" y="117829"/>
                </a:cubicBezTo>
                <a:cubicBezTo>
                  <a:pt x="2406763" y="0"/>
                  <a:pt x="2269819" y="84209"/>
                  <a:pt x="2799184" y="80507"/>
                </a:cubicBezTo>
                <a:lnTo>
                  <a:pt x="4133461" y="71176"/>
                </a:lnTo>
                <a:cubicBezTo>
                  <a:pt x="4419600" y="74286"/>
                  <a:pt x="4705886" y="70812"/>
                  <a:pt x="4991878" y="80507"/>
                </a:cubicBezTo>
                <a:cubicBezTo>
                  <a:pt x="5073233" y="83265"/>
                  <a:pt x="5153497" y="100193"/>
                  <a:pt x="5234474" y="108498"/>
                </a:cubicBezTo>
                <a:cubicBezTo>
                  <a:pt x="5274814" y="112635"/>
                  <a:pt x="5315339" y="114719"/>
                  <a:pt x="5355771" y="117829"/>
                </a:cubicBezTo>
                <a:cubicBezTo>
                  <a:pt x="5387626" y="124200"/>
                  <a:pt x="5429659" y="130601"/>
                  <a:pt x="5458408" y="145821"/>
                </a:cubicBezTo>
                <a:cubicBezTo>
                  <a:pt x="5556092" y="197536"/>
                  <a:pt x="5540063" y="197731"/>
                  <a:pt x="5607698" y="248458"/>
                </a:cubicBezTo>
                <a:cubicBezTo>
                  <a:pt x="5638094" y="271255"/>
                  <a:pt x="5676611" y="291741"/>
                  <a:pt x="5701004" y="323103"/>
                </a:cubicBezTo>
                <a:cubicBezTo>
                  <a:pt x="5714774" y="340806"/>
                  <a:pt x="5723323" y="362416"/>
                  <a:pt x="5738327" y="379086"/>
                </a:cubicBezTo>
                <a:cubicBezTo>
                  <a:pt x="5751650" y="393889"/>
                  <a:pt x="5770244" y="403013"/>
                  <a:pt x="5784980" y="416409"/>
                </a:cubicBezTo>
                <a:cubicBezTo>
                  <a:pt x="5804507" y="434161"/>
                  <a:pt x="5822302" y="453731"/>
                  <a:pt x="5840963" y="472392"/>
                </a:cubicBezTo>
                <a:cubicBezTo>
                  <a:pt x="5859361" y="564376"/>
                  <a:pt x="5838912" y="495951"/>
                  <a:pt x="5924939" y="621682"/>
                </a:cubicBezTo>
                <a:cubicBezTo>
                  <a:pt x="5941508" y="645898"/>
                  <a:pt x="5953768" y="673019"/>
                  <a:pt x="5971592" y="696327"/>
                </a:cubicBezTo>
                <a:cubicBezTo>
                  <a:pt x="5994342" y="726077"/>
                  <a:pt x="6023766" y="750341"/>
                  <a:pt x="6046237" y="780303"/>
                </a:cubicBezTo>
                <a:cubicBezTo>
                  <a:pt x="6120402" y="879190"/>
                  <a:pt x="6050450" y="813109"/>
                  <a:pt x="6111551" y="882939"/>
                </a:cubicBezTo>
                <a:cubicBezTo>
                  <a:pt x="6149091" y="925841"/>
                  <a:pt x="6144030" y="907121"/>
                  <a:pt x="6167535" y="948254"/>
                </a:cubicBezTo>
                <a:cubicBezTo>
                  <a:pt x="6174436" y="960330"/>
                  <a:pt x="6181312" y="972553"/>
                  <a:pt x="6186196" y="985576"/>
                </a:cubicBezTo>
                <a:cubicBezTo>
                  <a:pt x="6205707" y="1037603"/>
                  <a:pt x="6182775" y="1013008"/>
                  <a:pt x="6214188" y="1069552"/>
                </a:cubicBezTo>
                <a:cubicBezTo>
                  <a:pt x="6221740" y="1083146"/>
                  <a:pt x="6232849" y="1094433"/>
                  <a:pt x="6242180" y="1106874"/>
                </a:cubicBezTo>
                <a:cubicBezTo>
                  <a:pt x="6263791" y="1171710"/>
                  <a:pt x="6260841" y="1143187"/>
                  <a:pt x="6260841" y="1190849"/>
                </a:cubicBezTo>
              </a:path>
            </a:pathLst>
          </a:custGeom>
          <a:noFill/>
          <a:ln w="12600">
            <a:solidFill>
              <a:srgbClr val="d9f62a"/>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682" name="フリーフォーム 18"/>
          <p:cNvSpPr/>
          <p:nvPr/>
        </p:nvSpPr>
        <p:spPr>
          <a:xfrm>
            <a:off x="7891560" y="3191040"/>
            <a:ext cx="58680" cy="403200"/>
          </a:xfrm>
          <a:custGeom>
            <a:avLst/>
            <a:gdLst/>
            <a:ahLst/>
            <a:rect l="l" t="t" r="r" b="b"/>
            <a:pathLst>
              <a:path w="59419" h="402302">
                <a:moveTo>
                  <a:pt x="0" y="0"/>
                </a:moveTo>
                <a:cubicBezTo>
                  <a:pt x="12192" y="57912"/>
                  <a:pt x="25400" y="115619"/>
                  <a:pt x="36576" y="173736"/>
                </a:cubicBezTo>
                <a:cubicBezTo>
                  <a:pt x="40646" y="194901"/>
                  <a:pt x="42177" y="216485"/>
                  <a:pt x="45720" y="237744"/>
                </a:cubicBezTo>
                <a:cubicBezTo>
                  <a:pt x="48275" y="253074"/>
                  <a:pt x="51816" y="268224"/>
                  <a:pt x="54864" y="283464"/>
                </a:cubicBezTo>
                <a:cubicBezTo>
                  <a:pt x="45042" y="381686"/>
                  <a:pt x="59419" y="402302"/>
                  <a:pt x="36576" y="356616"/>
                </a:cubicBezTo>
              </a:path>
            </a:pathLst>
          </a:custGeom>
          <a:noFill/>
          <a:ln w="1260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683" name="フリーフォーム 19"/>
          <p:cNvSpPr/>
          <p:nvPr/>
        </p:nvSpPr>
        <p:spPr>
          <a:xfrm>
            <a:off x="7788240" y="3319560"/>
            <a:ext cx="249120" cy="237960"/>
          </a:xfrm>
          <a:custGeom>
            <a:avLst/>
            <a:gdLst/>
            <a:ahLst/>
            <a:rect l="l" t="t" r="r" b="b"/>
            <a:pathLst>
              <a:path w="248579" h="237744">
                <a:moveTo>
                  <a:pt x="248579" y="0"/>
                </a:moveTo>
                <a:cubicBezTo>
                  <a:pt x="239435" y="9144"/>
                  <a:pt x="229032" y="17182"/>
                  <a:pt x="221147" y="27432"/>
                </a:cubicBezTo>
                <a:cubicBezTo>
                  <a:pt x="198462" y="56922"/>
                  <a:pt x="192435" y="107107"/>
                  <a:pt x="157139" y="118872"/>
                </a:cubicBezTo>
                <a:cubicBezTo>
                  <a:pt x="138851" y="124968"/>
                  <a:pt x="118315" y="126467"/>
                  <a:pt x="102275" y="137160"/>
                </a:cubicBezTo>
                <a:cubicBezTo>
                  <a:pt x="64042" y="162649"/>
                  <a:pt x="46838" y="168938"/>
                  <a:pt x="19979" y="201168"/>
                </a:cubicBezTo>
                <a:cubicBezTo>
                  <a:pt x="0" y="225142"/>
                  <a:pt x="1691" y="219273"/>
                  <a:pt x="1691" y="237744"/>
                </a:cubicBezTo>
              </a:path>
            </a:pathLst>
          </a:custGeom>
          <a:noFill/>
          <a:ln w="1260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684" name="フリーフォーム 20"/>
          <p:cNvSpPr/>
          <p:nvPr/>
        </p:nvSpPr>
        <p:spPr>
          <a:xfrm>
            <a:off x="7854840" y="3373560"/>
            <a:ext cx="282600" cy="137880"/>
          </a:xfrm>
          <a:custGeom>
            <a:avLst/>
            <a:gdLst/>
            <a:ahLst/>
            <a:rect l="l" t="t" r="r" b="b"/>
            <a:pathLst>
              <a:path w="283464" h="137160">
                <a:moveTo>
                  <a:pt x="0" y="0"/>
                </a:moveTo>
                <a:cubicBezTo>
                  <a:pt x="51917" y="38938"/>
                  <a:pt x="34516" y="29295"/>
                  <a:pt x="109728" y="64008"/>
                </a:cubicBezTo>
                <a:cubicBezTo>
                  <a:pt x="124631" y="70886"/>
                  <a:pt x="140767" y="74955"/>
                  <a:pt x="155448" y="82296"/>
                </a:cubicBezTo>
                <a:cubicBezTo>
                  <a:pt x="165278" y="87211"/>
                  <a:pt x="173338" y="95132"/>
                  <a:pt x="182880" y="100584"/>
                </a:cubicBezTo>
                <a:cubicBezTo>
                  <a:pt x="207264" y="114518"/>
                  <a:pt x="221241" y="120688"/>
                  <a:pt x="246888" y="128016"/>
                </a:cubicBezTo>
                <a:cubicBezTo>
                  <a:pt x="258972" y="131468"/>
                  <a:pt x="283464" y="137160"/>
                  <a:pt x="283464" y="137160"/>
                </a:cubicBezTo>
              </a:path>
            </a:pathLst>
          </a:custGeom>
          <a:noFill/>
          <a:ln w="1260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685" name="フリーフォーム 21"/>
          <p:cNvSpPr/>
          <p:nvPr/>
        </p:nvSpPr>
        <p:spPr>
          <a:xfrm flipV="1">
            <a:off x="8001000" y="3143160"/>
            <a:ext cx="71280" cy="108000"/>
          </a:xfrm>
          <a:custGeom>
            <a:avLst/>
            <a:gdLst/>
            <a:ahLst/>
            <a:rect l="l" t="t" r="r" b="b"/>
            <a:pathLst>
              <a:path w="113307" h="133637">
                <a:moveTo>
                  <a:pt x="40155" y="112793"/>
                </a:moveTo>
                <a:cubicBezTo>
                  <a:pt x="23391" y="117365"/>
                  <a:pt x="18819" y="103649"/>
                  <a:pt x="12723" y="94505"/>
                </a:cubicBezTo>
                <a:cubicBezTo>
                  <a:pt x="0" y="75420"/>
                  <a:pt x="879" y="29975"/>
                  <a:pt x="12723" y="12209"/>
                </a:cubicBezTo>
                <a:cubicBezTo>
                  <a:pt x="18070" y="4189"/>
                  <a:pt x="31011" y="6113"/>
                  <a:pt x="40155" y="3065"/>
                </a:cubicBezTo>
                <a:cubicBezTo>
                  <a:pt x="58443" y="6113"/>
                  <a:pt x="81066" y="0"/>
                  <a:pt x="95019" y="12209"/>
                </a:cubicBezTo>
                <a:cubicBezTo>
                  <a:pt x="109527" y="24903"/>
                  <a:pt x="113307" y="67073"/>
                  <a:pt x="113307" y="67073"/>
                </a:cubicBezTo>
                <a:cubicBezTo>
                  <a:pt x="80025" y="133637"/>
                  <a:pt x="56919" y="108221"/>
                  <a:pt x="40155" y="112793"/>
                </a:cubicBezTo>
                <a:close/>
              </a:path>
            </a:pathLst>
          </a:custGeom>
          <a:solidFill>
            <a:srgbClr val="ffffff"/>
          </a:solidFill>
          <a:ln w="12600">
            <a:solidFill>
              <a:srgbClr val="777c84"/>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686" name="フリーフォーム 23"/>
          <p:cNvSpPr/>
          <p:nvPr/>
        </p:nvSpPr>
        <p:spPr>
          <a:xfrm>
            <a:off x="714240" y="757080"/>
            <a:ext cx="5859720" cy="3797280"/>
          </a:xfrm>
          <a:custGeom>
            <a:avLst/>
            <a:gdLst/>
            <a:ahLst/>
            <a:rect l="l" t="t" r="r" b="b"/>
            <a:pathLst>
              <a:path w="5859637" h="3797700">
                <a:moveTo>
                  <a:pt x="3226165" y="3797046"/>
                </a:moveTo>
                <a:lnTo>
                  <a:pt x="2567797" y="3787902"/>
                </a:lnTo>
                <a:cubicBezTo>
                  <a:pt x="2494597" y="3786377"/>
                  <a:pt x="2421341" y="3784373"/>
                  <a:pt x="2348341" y="3778758"/>
                </a:cubicBezTo>
                <a:cubicBezTo>
                  <a:pt x="2302352" y="3775220"/>
                  <a:pt x="2256534" y="3768869"/>
                  <a:pt x="2211181" y="3760470"/>
                </a:cubicBezTo>
                <a:cubicBezTo>
                  <a:pt x="1893165" y="3701578"/>
                  <a:pt x="2330409" y="3765101"/>
                  <a:pt x="1973437" y="3705606"/>
                </a:cubicBezTo>
                <a:cubicBezTo>
                  <a:pt x="1943222" y="3700570"/>
                  <a:pt x="1912477" y="3699510"/>
                  <a:pt x="1881997" y="3696462"/>
                </a:cubicBezTo>
                <a:cubicBezTo>
                  <a:pt x="1869805" y="3693414"/>
                  <a:pt x="1857343" y="3691292"/>
                  <a:pt x="1845421" y="3687318"/>
                </a:cubicBezTo>
                <a:cubicBezTo>
                  <a:pt x="1829849" y="3682127"/>
                  <a:pt x="1815625" y="3673011"/>
                  <a:pt x="1799701" y="3669030"/>
                </a:cubicBezTo>
                <a:cubicBezTo>
                  <a:pt x="1778792" y="3663803"/>
                  <a:pt x="1757029" y="3662934"/>
                  <a:pt x="1735693" y="3659886"/>
                </a:cubicBezTo>
                <a:cubicBezTo>
                  <a:pt x="1723501" y="3647694"/>
                  <a:pt x="1714254" y="3631566"/>
                  <a:pt x="1699117" y="3623310"/>
                </a:cubicBezTo>
                <a:cubicBezTo>
                  <a:pt x="1679637" y="3612684"/>
                  <a:pt x="1656289" y="3611641"/>
                  <a:pt x="1635109" y="3605022"/>
                </a:cubicBezTo>
                <a:cubicBezTo>
                  <a:pt x="1607509" y="3596397"/>
                  <a:pt x="1579801" y="3587970"/>
                  <a:pt x="1552813" y="3577590"/>
                </a:cubicBezTo>
                <a:cubicBezTo>
                  <a:pt x="1540091" y="3572697"/>
                  <a:pt x="1528959" y="3564195"/>
                  <a:pt x="1516237" y="3559302"/>
                </a:cubicBezTo>
                <a:cubicBezTo>
                  <a:pt x="1489249" y="3548922"/>
                  <a:pt x="1460929" y="3542250"/>
                  <a:pt x="1433941" y="3531870"/>
                </a:cubicBezTo>
                <a:cubicBezTo>
                  <a:pt x="1421219" y="3526977"/>
                  <a:pt x="1409948" y="3518825"/>
                  <a:pt x="1397365" y="3513582"/>
                </a:cubicBezTo>
                <a:cubicBezTo>
                  <a:pt x="1373326" y="3503566"/>
                  <a:pt x="1347506" y="3497796"/>
                  <a:pt x="1324213" y="3486150"/>
                </a:cubicBezTo>
                <a:cubicBezTo>
                  <a:pt x="1298494" y="3473290"/>
                  <a:pt x="1274986" y="3456380"/>
                  <a:pt x="1251061" y="3440430"/>
                </a:cubicBezTo>
                <a:cubicBezTo>
                  <a:pt x="1207219" y="3411202"/>
                  <a:pt x="1186295" y="3385522"/>
                  <a:pt x="1141333" y="3348990"/>
                </a:cubicBezTo>
                <a:cubicBezTo>
                  <a:pt x="1117677" y="3329770"/>
                  <a:pt x="1093542" y="3311033"/>
                  <a:pt x="1068181" y="3294126"/>
                </a:cubicBezTo>
                <a:cubicBezTo>
                  <a:pt x="1056839" y="3286565"/>
                  <a:pt x="1042409" y="3284149"/>
                  <a:pt x="1031605" y="3275838"/>
                </a:cubicBezTo>
                <a:cubicBezTo>
                  <a:pt x="1002513" y="3253460"/>
                  <a:pt x="977715" y="3225928"/>
                  <a:pt x="949309" y="3202686"/>
                </a:cubicBezTo>
                <a:cubicBezTo>
                  <a:pt x="910618" y="3171030"/>
                  <a:pt x="869292" y="3142700"/>
                  <a:pt x="830437" y="3111246"/>
                </a:cubicBezTo>
                <a:cubicBezTo>
                  <a:pt x="743468" y="3040843"/>
                  <a:pt x="755420" y="3040894"/>
                  <a:pt x="665845" y="2955798"/>
                </a:cubicBezTo>
                <a:cubicBezTo>
                  <a:pt x="636115" y="2927555"/>
                  <a:pt x="596138" y="2908276"/>
                  <a:pt x="574405" y="2873502"/>
                </a:cubicBezTo>
                <a:cubicBezTo>
                  <a:pt x="559165" y="2849118"/>
                  <a:pt x="545487" y="2823685"/>
                  <a:pt x="528685" y="2800350"/>
                </a:cubicBezTo>
                <a:cubicBezTo>
                  <a:pt x="490571" y="2747414"/>
                  <a:pt x="438985" y="2703246"/>
                  <a:pt x="409813" y="2644902"/>
                </a:cubicBezTo>
                <a:cubicBezTo>
                  <a:pt x="394573" y="2614422"/>
                  <a:pt x="381000" y="2583050"/>
                  <a:pt x="364093" y="2553462"/>
                </a:cubicBezTo>
                <a:cubicBezTo>
                  <a:pt x="351901" y="2532126"/>
                  <a:pt x="337815" y="2511766"/>
                  <a:pt x="327517" y="2489454"/>
                </a:cubicBezTo>
                <a:cubicBezTo>
                  <a:pt x="319439" y="2471951"/>
                  <a:pt x="317206" y="2452139"/>
                  <a:pt x="309229" y="2434590"/>
                </a:cubicBezTo>
                <a:cubicBezTo>
                  <a:pt x="301875" y="2418410"/>
                  <a:pt x="290075" y="2404597"/>
                  <a:pt x="281797" y="2388870"/>
                </a:cubicBezTo>
                <a:cubicBezTo>
                  <a:pt x="219689" y="2270865"/>
                  <a:pt x="231621" y="2302350"/>
                  <a:pt x="208645" y="2233422"/>
                </a:cubicBezTo>
                <a:cubicBezTo>
                  <a:pt x="205597" y="2199894"/>
                  <a:pt x="203512" y="2166264"/>
                  <a:pt x="199501" y="2132838"/>
                </a:cubicBezTo>
                <a:cubicBezTo>
                  <a:pt x="194365" y="2090040"/>
                  <a:pt x="181213" y="2004822"/>
                  <a:pt x="181213" y="2004822"/>
                </a:cubicBezTo>
                <a:cubicBezTo>
                  <a:pt x="187309" y="1791462"/>
                  <a:pt x="190855" y="1578014"/>
                  <a:pt x="199501" y="1364742"/>
                </a:cubicBezTo>
                <a:cubicBezTo>
                  <a:pt x="201058" y="1326344"/>
                  <a:pt x="210793" y="1326018"/>
                  <a:pt x="236077" y="1300734"/>
                </a:cubicBezTo>
                <a:cubicBezTo>
                  <a:pt x="242173" y="1282446"/>
                  <a:pt x="245744" y="1263112"/>
                  <a:pt x="254365" y="1245870"/>
                </a:cubicBezTo>
                <a:cubicBezTo>
                  <a:pt x="267225" y="1220151"/>
                  <a:pt x="283795" y="1196413"/>
                  <a:pt x="300085" y="1172718"/>
                </a:cubicBezTo>
                <a:cubicBezTo>
                  <a:pt x="321035" y="1142245"/>
                  <a:pt x="351077" y="1098622"/>
                  <a:pt x="382381" y="1072134"/>
                </a:cubicBezTo>
                <a:cubicBezTo>
                  <a:pt x="412179" y="1046921"/>
                  <a:pt x="446220" y="1026583"/>
                  <a:pt x="473821" y="998982"/>
                </a:cubicBezTo>
                <a:cubicBezTo>
                  <a:pt x="492361" y="980442"/>
                  <a:pt x="502193" y="954635"/>
                  <a:pt x="519541" y="934974"/>
                </a:cubicBezTo>
                <a:cubicBezTo>
                  <a:pt x="548060" y="902652"/>
                  <a:pt x="578407" y="871765"/>
                  <a:pt x="610981" y="843534"/>
                </a:cubicBezTo>
                <a:cubicBezTo>
                  <a:pt x="624412" y="831894"/>
                  <a:pt x="642328" y="826555"/>
                  <a:pt x="656701" y="816102"/>
                </a:cubicBezTo>
                <a:cubicBezTo>
                  <a:pt x="754328" y="745101"/>
                  <a:pt x="667279" y="793576"/>
                  <a:pt x="775573" y="724662"/>
                </a:cubicBezTo>
                <a:cubicBezTo>
                  <a:pt x="787073" y="717344"/>
                  <a:pt x="801175" y="714460"/>
                  <a:pt x="812149" y="706374"/>
                </a:cubicBezTo>
                <a:cubicBezTo>
                  <a:pt x="859285" y="671642"/>
                  <a:pt x="899444" y="627332"/>
                  <a:pt x="949309" y="596646"/>
                </a:cubicBezTo>
                <a:cubicBezTo>
                  <a:pt x="988933" y="572262"/>
                  <a:pt x="1030960" y="551409"/>
                  <a:pt x="1068181" y="523494"/>
                </a:cubicBezTo>
                <a:cubicBezTo>
                  <a:pt x="1092565" y="505206"/>
                  <a:pt x="1115374" y="484604"/>
                  <a:pt x="1141333" y="468630"/>
                </a:cubicBezTo>
                <a:cubicBezTo>
                  <a:pt x="1155312" y="460027"/>
                  <a:pt x="1172601" y="458124"/>
                  <a:pt x="1187053" y="450342"/>
                </a:cubicBezTo>
                <a:cubicBezTo>
                  <a:pt x="1212371" y="436709"/>
                  <a:pt x="1234486" y="417482"/>
                  <a:pt x="1260205" y="404622"/>
                </a:cubicBezTo>
                <a:cubicBezTo>
                  <a:pt x="1277447" y="396001"/>
                  <a:pt x="1296952" y="392922"/>
                  <a:pt x="1315069" y="386334"/>
                </a:cubicBezTo>
                <a:cubicBezTo>
                  <a:pt x="1330495" y="380725"/>
                  <a:pt x="1346108" y="375387"/>
                  <a:pt x="1360789" y="368046"/>
                </a:cubicBezTo>
                <a:cubicBezTo>
                  <a:pt x="1382768" y="357056"/>
                  <a:pt x="1402818" y="342460"/>
                  <a:pt x="1424797" y="331470"/>
                </a:cubicBezTo>
                <a:cubicBezTo>
                  <a:pt x="1439478" y="324129"/>
                  <a:pt x="1455574" y="319974"/>
                  <a:pt x="1470517" y="313182"/>
                </a:cubicBezTo>
                <a:cubicBezTo>
                  <a:pt x="1489131" y="304721"/>
                  <a:pt x="1506649" y="293945"/>
                  <a:pt x="1525381" y="285750"/>
                </a:cubicBezTo>
                <a:cubicBezTo>
                  <a:pt x="1555457" y="272592"/>
                  <a:pt x="1589506" y="267384"/>
                  <a:pt x="1616821" y="249174"/>
                </a:cubicBezTo>
                <a:cubicBezTo>
                  <a:pt x="1664015" y="217712"/>
                  <a:pt x="1627298" y="238714"/>
                  <a:pt x="1699117" y="212598"/>
                </a:cubicBezTo>
                <a:cubicBezTo>
                  <a:pt x="1714543" y="206989"/>
                  <a:pt x="1729468" y="200073"/>
                  <a:pt x="1744837" y="194310"/>
                </a:cubicBezTo>
                <a:cubicBezTo>
                  <a:pt x="1753862" y="190926"/>
                  <a:pt x="1763244" y="188550"/>
                  <a:pt x="1772269" y="185166"/>
                </a:cubicBezTo>
                <a:cubicBezTo>
                  <a:pt x="1787638" y="179403"/>
                  <a:pt x="1802267" y="171595"/>
                  <a:pt x="1817989" y="166878"/>
                </a:cubicBezTo>
                <a:cubicBezTo>
                  <a:pt x="1832875" y="162412"/>
                  <a:pt x="1848469" y="160782"/>
                  <a:pt x="1863709" y="157734"/>
                </a:cubicBezTo>
                <a:cubicBezTo>
                  <a:pt x="1907230" y="128720"/>
                  <a:pt x="1874038" y="146406"/>
                  <a:pt x="1927717" y="130302"/>
                </a:cubicBezTo>
                <a:cubicBezTo>
                  <a:pt x="1946181" y="124763"/>
                  <a:pt x="1964156" y="117683"/>
                  <a:pt x="1982581" y="112014"/>
                </a:cubicBezTo>
                <a:cubicBezTo>
                  <a:pt x="2003790" y="105488"/>
                  <a:pt x="2025253" y="99822"/>
                  <a:pt x="2046589" y="93726"/>
                </a:cubicBezTo>
                <a:cubicBezTo>
                  <a:pt x="2102932" y="56164"/>
                  <a:pt x="2040646" y="92659"/>
                  <a:pt x="2119741" y="66294"/>
                </a:cubicBezTo>
                <a:cubicBezTo>
                  <a:pt x="2255144" y="21160"/>
                  <a:pt x="1943171" y="62642"/>
                  <a:pt x="2311765" y="38862"/>
                </a:cubicBezTo>
                <a:cubicBezTo>
                  <a:pt x="2583943" y="21302"/>
                  <a:pt x="2290209" y="34392"/>
                  <a:pt x="2732389" y="20574"/>
                </a:cubicBezTo>
                <a:lnTo>
                  <a:pt x="4039981" y="29718"/>
                </a:lnTo>
                <a:cubicBezTo>
                  <a:pt x="4055521" y="29928"/>
                  <a:pt x="4070671" y="34907"/>
                  <a:pt x="4085701" y="38862"/>
                </a:cubicBezTo>
                <a:cubicBezTo>
                  <a:pt x="4128619" y="50156"/>
                  <a:pt x="4170199" y="66734"/>
                  <a:pt x="4213717" y="75438"/>
                </a:cubicBezTo>
                <a:cubicBezTo>
                  <a:pt x="4228957" y="78486"/>
                  <a:pt x="4244693" y="79667"/>
                  <a:pt x="4259437" y="84582"/>
                </a:cubicBezTo>
                <a:cubicBezTo>
                  <a:pt x="4290580" y="94963"/>
                  <a:pt x="4319029" y="113196"/>
                  <a:pt x="4350877" y="121158"/>
                </a:cubicBezTo>
                <a:cubicBezTo>
                  <a:pt x="4485668" y="154856"/>
                  <a:pt x="4178667" y="75947"/>
                  <a:pt x="4533757" y="194310"/>
                </a:cubicBezTo>
                <a:cubicBezTo>
                  <a:pt x="4570333" y="206502"/>
                  <a:pt x="4608253" y="215228"/>
                  <a:pt x="4643485" y="230886"/>
                </a:cubicBezTo>
                <a:cubicBezTo>
                  <a:pt x="4913226" y="350771"/>
                  <a:pt x="4521496" y="175177"/>
                  <a:pt x="4817221" y="313182"/>
                </a:cubicBezTo>
                <a:cubicBezTo>
                  <a:pt x="4832095" y="320123"/>
                  <a:pt x="4848260" y="324129"/>
                  <a:pt x="4862941" y="331470"/>
                </a:cubicBezTo>
                <a:cubicBezTo>
                  <a:pt x="4884920" y="342460"/>
                  <a:pt x="4904578" y="357877"/>
                  <a:pt x="4926949" y="368046"/>
                </a:cubicBezTo>
                <a:cubicBezTo>
                  <a:pt x="4938390" y="373246"/>
                  <a:pt x="4951488" y="373579"/>
                  <a:pt x="4963525" y="377190"/>
                </a:cubicBezTo>
                <a:cubicBezTo>
                  <a:pt x="4981989" y="382729"/>
                  <a:pt x="5000101" y="389382"/>
                  <a:pt x="5018389" y="395478"/>
                </a:cubicBezTo>
                <a:cubicBezTo>
                  <a:pt x="5099723" y="476812"/>
                  <a:pt x="4982359" y="355013"/>
                  <a:pt x="5073253" y="468630"/>
                </a:cubicBezTo>
                <a:cubicBezTo>
                  <a:pt x="5086717" y="485460"/>
                  <a:pt x="5105509" y="497520"/>
                  <a:pt x="5118973" y="514350"/>
                </a:cubicBezTo>
                <a:cubicBezTo>
                  <a:pt x="5130076" y="528228"/>
                  <a:pt x="5133838" y="547503"/>
                  <a:pt x="5146405" y="560070"/>
                </a:cubicBezTo>
                <a:cubicBezTo>
                  <a:pt x="5170979" y="584644"/>
                  <a:pt x="5203165" y="600506"/>
                  <a:pt x="5228701" y="624078"/>
                </a:cubicBezTo>
                <a:cubicBezTo>
                  <a:pt x="5243042" y="637316"/>
                  <a:pt x="5250690" y="656832"/>
                  <a:pt x="5265277" y="669798"/>
                </a:cubicBezTo>
                <a:cubicBezTo>
                  <a:pt x="5359366" y="753433"/>
                  <a:pt x="5259125" y="619659"/>
                  <a:pt x="5375005" y="752094"/>
                </a:cubicBezTo>
                <a:cubicBezTo>
                  <a:pt x="5399505" y="780094"/>
                  <a:pt x="5409960" y="820292"/>
                  <a:pt x="5439013" y="843534"/>
                </a:cubicBezTo>
                <a:cubicBezTo>
                  <a:pt x="5454253" y="855726"/>
                  <a:pt x="5471605" y="865669"/>
                  <a:pt x="5484733" y="880110"/>
                </a:cubicBezTo>
                <a:cubicBezTo>
                  <a:pt x="5502370" y="899511"/>
                  <a:pt x="5514254" y="923501"/>
                  <a:pt x="5530453" y="944118"/>
                </a:cubicBezTo>
                <a:cubicBezTo>
                  <a:pt x="5547815" y="966214"/>
                  <a:pt x="5567029" y="986790"/>
                  <a:pt x="5585317" y="1008126"/>
                </a:cubicBezTo>
                <a:cubicBezTo>
                  <a:pt x="5588365" y="1023366"/>
                  <a:pt x="5588689" y="1039416"/>
                  <a:pt x="5594461" y="1053846"/>
                </a:cubicBezTo>
                <a:cubicBezTo>
                  <a:pt x="5617360" y="1111094"/>
                  <a:pt x="5621840" y="1086669"/>
                  <a:pt x="5649325" y="1136142"/>
                </a:cubicBezTo>
                <a:cubicBezTo>
                  <a:pt x="5692620" y="1214073"/>
                  <a:pt x="5640089" y="1154338"/>
                  <a:pt x="5695045" y="1209294"/>
                </a:cubicBezTo>
                <a:cubicBezTo>
                  <a:pt x="5742023" y="1326739"/>
                  <a:pt x="5680970" y="1181144"/>
                  <a:pt x="5740765" y="1300734"/>
                </a:cubicBezTo>
                <a:cubicBezTo>
                  <a:pt x="5748106" y="1315415"/>
                  <a:pt x="5752957" y="1331214"/>
                  <a:pt x="5759053" y="1346454"/>
                </a:cubicBezTo>
                <a:cubicBezTo>
                  <a:pt x="5780600" y="1475738"/>
                  <a:pt x="5750142" y="1319768"/>
                  <a:pt x="5795629" y="1465326"/>
                </a:cubicBezTo>
                <a:cubicBezTo>
                  <a:pt x="5821596" y="1548421"/>
                  <a:pt x="5808378" y="1540016"/>
                  <a:pt x="5823061" y="1620774"/>
                </a:cubicBezTo>
                <a:cubicBezTo>
                  <a:pt x="5824785" y="1630257"/>
                  <a:pt x="5829867" y="1638855"/>
                  <a:pt x="5832205" y="1648206"/>
                </a:cubicBezTo>
                <a:cubicBezTo>
                  <a:pt x="5835974" y="1663284"/>
                  <a:pt x="5838648" y="1678621"/>
                  <a:pt x="5841349" y="1693926"/>
                </a:cubicBezTo>
                <a:cubicBezTo>
                  <a:pt x="5847793" y="1730442"/>
                  <a:pt x="5859637" y="1803654"/>
                  <a:pt x="5859637" y="1803654"/>
                </a:cubicBezTo>
                <a:cubicBezTo>
                  <a:pt x="5856589" y="1919478"/>
                  <a:pt x="5856478" y="2035417"/>
                  <a:pt x="5850493" y="2151126"/>
                </a:cubicBezTo>
                <a:cubicBezTo>
                  <a:pt x="5847328" y="2212308"/>
                  <a:pt x="5832205" y="2334006"/>
                  <a:pt x="5832205" y="2334006"/>
                </a:cubicBezTo>
                <a:cubicBezTo>
                  <a:pt x="5820268" y="2727921"/>
                  <a:pt x="5837751" y="2521014"/>
                  <a:pt x="5813917" y="2699766"/>
                </a:cubicBezTo>
                <a:cubicBezTo>
                  <a:pt x="5810669" y="2724124"/>
                  <a:pt x="5811105" y="2749174"/>
                  <a:pt x="5804773" y="2772918"/>
                </a:cubicBezTo>
                <a:cubicBezTo>
                  <a:pt x="5788419" y="2834247"/>
                  <a:pt x="5775442" y="2831580"/>
                  <a:pt x="5749909" y="2882646"/>
                </a:cubicBezTo>
                <a:cubicBezTo>
                  <a:pt x="5742568" y="2897327"/>
                  <a:pt x="5739765" y="2914115"/>
                  <a:pt x="5731621" y="2928366"/>
                </a:cubicBezTo>
                <a:cubicBezTo>
                  <a:pt x="5715264" y="2956991"/>
                  <a:pt x="5693473" y="2982245"/>
                  <a:pt x="5676757" y="3010662"/>
                </a:cubicBezTo>
                <a:cubicBezTo>
                  <a:pt x="5662935" y="3034160"/>
                  <a:pt x="5655303" y="3061131"/>
                  <a:pt x="5640181" y="3083814"/>
                </a:cubicBezTo>
                <a:cubicBezTo>
                  <a:pt x="5630617" y="3098160"/>
                  <a:pt x="5615139" y="3107574"/>
                  <a:pt x="5603605" y="3120390"/>
                </a:cubicBezTo>
                <a:cubicBezTo>
                  <a:pt x="5587680" y="3138085"/>
                  <a:pt x="5572593" y="3156535"/>
                  <a:pt x="5557885" y="3175254"/>
                </a:cubicBezTo>
                <a:cubicBezTo>
                  <a:pt x="5539054" y="3199221"/>
                  <a:pt x="5523761" y="3226070"/>
                  <a:pt x="5503021" y="3248406"/>
                </a:cubicBezTo>
                <a:cubicBezTo>
                  <a:pt x="5452213" y="3303122"/>
                  <a:pt x="5422230" y="3312594"/>
                  <a:pt x="5356717" y="3348990"/>
                </a:cubicBezTo>
                <a:cubicBezTo>
                  <a:pt x="5317093" y="3394710"/>
                  <a:pt x="5288185" y="3452590"/>
                  <a:pt x="5237845" y="3486150"/>
                </a:cubicBezTo>
                <a:lnTo>
                  <a:pt x="5128117" y="3559302"/>
                </a:lnTo>
                <a:cubicBezTo>
                  <a:pt x="5118973" y="3565398"/>
                  <a:pt x="5111111" y="3574115"/>
                  <a:pt x="5100685" y="3577590"/>
                </a:cubicBezTo>
                <a:cubicBezTo>
                  <a:pt x="5082397" y="3583686"/>
                  <a:pt x="5063063" y="3587257"/>
                  <a:pt x="5045821" y="3595878"/>
                </a:cubicBezTo>
                <a:cubicBezTo>
                  <a:pt x="4905122" y="3666228"/>
                  <a:pt x="5008231" y="3643049"/>
                  <a:pt x="4890373" y="3659886"/>
                </a:cubicBezTo>
                <a:cubicBezTo>
                  <a:pt x="4849824" y="3673402"/>
                  <a:pt x="4827960" y="3679497"/>
                  <a:pt x="4789789" y="3696462"/>
                </a:cubicBezTo>
                <a:cubicBezTo>
                  <a:pt x="4777333" y="3701998"/>
                  <a:pt x="4764713" y="3707432"/>
                  <a:pt x="4753213" y="3714750"/>
                </a:cubicBezTo>
                <a:cubicBezTo>
                  <a:pt x="4660996" y="3773433"/>
                  <a:pt x="4724347" y="3754613"/>
                  <a:pt x="4634341" y="3769614"/>
                </a:cubicBezTo>
                <a:cubicBezTo>
                  <a:pt x="4606655" y="3788071"/>
                  <a:pt x="4599756" y="3797700"/>
                  <a:pt x="4561189" y="3797046"/>
                </a:cubicBezTo>
                <a:lnTo>
                  <a:pt x="3527917" y="3769614"/>
                </a:lnTo>
                <a:lnTo>
                  <a:pt x="2046589" y="3760470"/>
                </a:lnTo>
                <a:cubicBezTo>
                  <a:pt x="2028301" y="3754374"/>
                  <a:pt x="2010299" y="3747341"/>
                  <a:pt x="1991725" y="3742182"/>
                </a:cubicBezTo>
                <a:cubicBezTo>
                  <a:pt x="1955399" y="3732091"/>
                  <a:pt x="1917924" y="3726181"/>
                  <a:pt x="1881997" y="3714750"/>
                </a:cubicBezTo>
                <a:cubicBezTo>
                  <a:pt x="1850714" y="3704796"/>
                  <a:pt x="1790557" y="3678174"/>
                  <a:pt x="1790557" y="3678174"/>
                </a:cubicBezTo>
                <a:cubicBezTo>
                  <a:pt x="1723101" y="3610718"/>
                  <a:pt x="1818751" y="3698801"/>
                  <a:pt x="1689973" y="3623310"/>
                </a:cubicBezTo>
                <a:cubicBezTo>
                  <a:pt x="1623607" y="3584406"/>
                  <a:pt x="1562335" y="3537393"/>
                  <a:pt x="1497949" y="3495294"/>
                </a:cubicBezTo>
                <a:cubicBezTo>
                  <a:pt x="1483074" y="3485568"/>
                  <a:pt x="1466107" y="3478965"/>
                  <a:pt x="1452229" y="3467862"/>
                </a:cubicBezTo>
                <a:cubicBezTo>
                  <a:pt x="1421749" y="3443478"/>
                  <a:pt x="1393623" y="3415818"/>
                  <a:pt x="1360789" y="3394710"/>
                </a:cubicBezTo>
                <a:cubicBezTo>
                  <a:pt x="1307995" y="3360771"/>
                  <a:pt x="1250835" y="3334153"/>
                  <a:pt x="1196197" y="3303270"/>
                </a:cubicBezTo>
                <a:cubicBezTo>
                  <a:pt x="1180725" y="3294525"/>
                  <a:pt x="1163044" y="3288405"/>
                  <a:pt x="1150477" y="3275838"/>
                </a:cubicBezTo>
                <a:cubicBezTo>
                  <a:pt x="1123045" y="3248406"/>
                  <a:pt x="1097856" y="3218531"/>
                  <a:pt x="1068181" y="3193542"/>
                </a:cubicBezTo>
                <a:cubicBezTo>
                  <a:pt x="1039722" y="3169577"/>
                  <a:pt x="1006335" y="3152082"/>
                  <a:pt x="976741" y="3129534"/>
                </a:cubicBezTo>
                <a:cubicBezTo>
                  <a:pt x="942283" y="3103280"/>
                  <a:pt x="908640" y="3075900"/>
                  <a:pt x="876157" y="3047238"/>
                </a:cubicBezTo>
                <a:cubicBezTo>
                  <a:pt x="842352" y="3017410"/>
                  <a:pt x="759230" y="2925928"/>
                  <a:pt x="738997" y="2900934"/>
                </a:cubicBezTo>
                <a:cubicBezTo>
                  <a:pt x="677242" y="2824648"/>
                  <a:pt x="645290" y="2753803"/>
                  <a:pt x="565261" y="2690622"/>
                </a:cubicBezTo>
                <a:cubicBezTo>
                  <a:pt x="544821" y="2674485"/>
                  <a:pt x="516493" y="2672334"/>
                  <a:pt x="492109" y="2663190"/>
                </a:cubicBezTo>
                <a:cubicBezTo>
                  <a:pt x="455377" y="2631705"/>
                  <a:pt x="320492" y="2521767"/>
                  <a:pt x="281797" y="2471166"/>
                </a:cubicBezTo>
                <a:cubicBezTo>
                  <a:pt x="265237" y="2449510"/>
                  <a:pt x="258359" y="2421902"/>
                  <a:pt x="245221" y="2398014"/>
                </a:cubicBezTo>
                <a:cubicBezTo>
                  <a:pt x="224815" y="2360911"/>
                  <a:pt x="181213" y="2288286"/>
                  <a:pt x="181213" y="2288286"/>
                </a:cubicBezTo>
                <a:cubicBezTo>
                  <a:pt x="175117" y="2266950"/>
                  <a:pt x="172309" y="2244386"/>
                  <a:pt x="162925" y="2224278"/>
                </a:cubicBezTo>
                <a:cubicBezTo>
                  <a:pt x="145204" y="2186304"/>
                  <a:pt x="115338" y="2148636"/>
                  <a:pt x="89773" y="2114550"/>
                </a:cubicBezTo>
                <a:cubicBezTo>
                  <a:pt x="86725" y="2102358"/>
                  <a:pt x="84081" y="2090058"/>
                  <a:pt x="80629" y="2077974"/>
                </a:cubicBezTo>
                <a:cubicBezTo>
                  <a:pt x="73491" y="2052991"/>
                  <a:pt x="47199" y="1986199"/>
                  <a:pt x="44053" y="1977390"/>
                </a:cubicBezTo>
                <a:cubicBezTo>
                  <a:pt x="37569" y="1959236"/>
                  <a:pt x="31861" y="1940814"/>
                  <a:pt x="25765" y="1922526"/>
                </a:cubicBezTo>
                <a:cubicBezTo>
                  <a:pt x="0" y="1742172"/>
                  <a:pt x="1502" y="1777662"/>
                  <a:pt x="25765" y="1456182"/>
                </a:cubicBezTo>
                <a:cubicBezTo>
                  <a:pt x="29711" y="1403903"/>
                  <a:pt x="47404" y="1382575"/>
                  <a:pt x="71485" y="1346454"/>
                </a:cubicBezTo>
                <a:cubicBezTo>
                  <a:pt x="107213" y="1185678"/>
                  <a:pt x="64252" y="1342153"/>
                  <a:pt x="135493" y="1181862"/>
                </a:cubicBezTo>
                <a:cubicBezTo>
                  <a:pt x="163711" y="1118370"/>
                  <a:pt x="154686" y="1106900"/>
                  <a:pt x="181213" y="1053846"/>
                </a:cubicBezTo>
                <a:cubicBezTo>
                  <a:pt x="235551" y="945170"/>
                  <a:pt x="216813" y="991892"/>
                  <a:pt x="290941" y="889254"/>
                </a:cubicBezTo>
                <a:cubicBezTo>
                  <a:pt x="365182" y="786459"/>
                  <a:pt x="312403" y="826999"/>
                  <a:pt x="391525" y="779526"/>
                </a:cubicBezTo>
                <a:cubicBezTo>
                  <a:pt x="406765" y="755142"/>
                  <a:pt x="420955" y="730069"/>
                  <a:pt x="437245" y="706374"/>
                </a:cubicBezTo>
                <a:cubicBezTo>
                  <a:pt x="454513" y="681257"/>
                  <a:pt x="475551" y="658812"/>
                  <a:pt x="492109" y="633222"/>
                </a:cubicBezTo>
                <a:cubicBezTo>
                  <a:pt x="509157" y="606875"/>
                  <a:pt x="519000" y="576031"/>
                  <a:pt x="537829" y="550926"/>
                </a:cubicBezTo>
                <a:cubicBezTo>
                  <a:pt x="555933" y="526787"/>
                  <a:pt x="581448" y="509161"/>
                  <a:pt x="601837" y="486918"/>
                </a:cubicBezTo>
                <a:cubicBezTo>
                  <a:pt x="615025" y="472531"/>
                  <a:pt x="625175" y="455539"/>
                  <a:pt x="638413" y="441198"/>
                </a:cubicBezTo>
                <a:cubicBezTo>
                  <a:pt x="661803" y="415859"/>
                  <a:pt x="688857" y="393998"/>
                  <a:pt x="711565" y="368046"/>
                </a:cubicBezTo>
                <a:cubicBezTo>
                  <a:pt x="731636" y="345107"/>
                  <a:pt x="743287" y="314730"/>
                  <a:pt x="766429" y="294894"/>
                </a:cubicBezTo>
                <a:cubicBezTo>
                  <a:pt x="787128" y="277152"/>
                  <a:pt x="816649" y="273060"/>
                  <a:pt x="839581" y="258318"/>
                </a:cubicBezTo>
                <a:cubicBezTo>
                  <a:pt x="912641" y="211351"/>
                  <a:pt x="873428" y="213963"/>
                  <a:pt x="949309" y="176022"/>
                </a:cubicBezTo>
                <a:cubicBezTo>
                  <a:pt x="1166401" y="67476"/>
                  <a:pt x="1002763" y="147312"/>
                  <a:pt x="1132189" y="112014"/>
                </a:cubicBezTo>
                <a:cubicBezTo>
                  <a:pt x="1181482" y="98570"/>
                  <a:pt x="1227913" y="73520"/>
                  <a:pt x="1278493" y="66294"/>
                </a:cubicBezTo>
                <a:lnTo>
                  <a:pt x="1342501" y="57150"/>
                </a:lnTo>
                <a:cubicBezTo>
                  <a:pt x="1366859" y="53902"/>
                  <a:pt x="1391351" y="51651"/>
                  <a:pt x="1415653" y="48006"/>
                </a:cubicBezTo>
                <a:cubicBezTo>
                  <a:pt x="1452323" y="42505"/>
                  <a:pt x="1488453" y="33075"/>
                  <a:pt x="1525381" y="29718"/>
                </a:cubicBezTo>
                <a:cubicBezTo>
                  <a:pt x="1589198" y="23916"/>
                  <a:pt x="1653328" y="21245"/>
                  <a:pt x="1717405" y="20574"/>
                </a:cubicBezTo>
                <a:lnTo>
                  <a:pt x="3271885" y="11430"/>
                </a:lnTo>
                <a:cubicBezTo>
                  <a:pt x="3866223" y="0"/>
                  <a:pt x="3588848" y="2286"/>
                  <a:pt x="4103989" y="2286"/>
                </a:cubicBezTo>
              </a:path>
            </a:pathLst>
          </a:custGeom>
          <a:noFill/>
          <a:ln w="12600">
            <a:solidFill>
              <a:srgbClr val="fcccf5"/>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687" name="正方形/長方形 24"/>
          <p:cNvSpPr/>
          <p:nvPr/>
        </p:nvSpPr>
        <p:spPr>
          <a:xfrm>
            <a:off x="3163320" y="2214720"/>
            <a:ext cx="1098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entury Schoolbook"/>
              </a:rPr>
              <a:t>仮説①と仮説②から</a:t>
            </a:r>
            <a:r>
              <a:rPr b="0" lang="en-US" sz="2800" spc="-1" strike="noStrike">
                <a:solidFill>
                  <a:srgbClr val="000000"/>
                </a:solidFill>
                <a:latin typeface="Century Schoolbook"/>
              </a:rPr>
              <a:t>…</a:t>
            </a:r>
            <a:endParaRPr b="0" lang="en-US" sz="2800" spc="-1" strike="noStrike">
              <a:solidFill>
                <a:srgbClr val="663300"/>
              </a:solidFill>
              <a:latin typeface="Century Schoolbook"/>
            </a:endParaRPr>
          </a:p>
        </p:txBody>
      </p:sp>
      <p:sp>
        <p:nvSpPr>
          <p:cNvPr id="688" name="テキスト ボックス 25"/>
          <p:cNvSpPr/>
          <p:nvPr/>
        </p:nvSpPr>
        <p:spPr>
          <a:xfrm>
            <a:off x="142920" y="142920"/>
            <a:ext cx="3071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丸ｺﾞｼｯｸM-PRO"/>
                <a:ea typeface="HG丸ｺﾞｼｯｸM-PRO"/>
              </a:rPr>
              <a:t>仮説の導出</a:t>
            </a:r>
            <a:endParaRPr b="0" lang="en-US" sz="4400" spc="-1" strike="noStrike">
              <a:solidFill>
                <a:srgbClr val="663300"/>
              </a:solidFill>
              <a:latin typeface="Century Schoolbook"/>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スライド番号プレースホル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87B4F-6D5D-4F26-AB33-C2C8E8E6CCEC}" type="slidenum">
              <a:rPr b="1" lang="ja-JP" sz="1400" spc="-1" strike="noStrike">
                <a:solidFill>
                  <a:srgbClr val="ffffff"/>
                </a:solidFill>
                <a:latin typeface="Century Schoolbook"/>
              </a:rPr>
              <a:t>&lt;number&gt;</a:t>
            </a:fld>
            <a:endParaRPr b="0" lang="en-US" sz="1400" spc="-1" strike="noStrike">
              <a:solidFill>
                <a:srgbClr val="663300"/>
              </a:solidFill>
              <a:latin typeface="Century Schoolbook"/>
            </a:endParaRPr>
          </a:p>
        </p:txBody>
      </p:sp>
      <p:sp>
        <p:nvSpPr>
          <p:cNvPr id="690" name="正方形/長方形 5"/>
          <p:cNvSpPr/>
          <p:nvPr/>
        </p:nvSpPr>
        <p:spPr>
          <a:xfrm>
            <a:off x="500040" y="357120"/>
            <a:ext cx="2143080" cy="714600"/>
          </a:xfrm>
          <a:prstGeom prst="rect">
            <a:avLst/>
          </a:prstGeom>
          <a:solidFill>
            <a:srgbClr val="d9f62a"/>
          </a:solidFill>
          <a:ln w="19080">
            <a:solidFill>
              <a:srgbClr val="fb9bb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663300"/>
                </a:solidFill>
                <a:latin typeface="HG丸ｺﾞｼｯｸM-PRO"/>
                <a:ea typeface="HG丸ｺﾞｼｯｸM-PRO"/>
              </a:rPr>
              <a:t>買回り品</a:t>
            </a:r>
            <a:endParaRPr b="0" lang="en-US" sz="3200" spc="-1" strike="noStrike">
              <a:solidFill>
                <a:srgbClr val="663300"/>
              </a:solidFill>
              <a:latin typeface="Century Schoolbook"/>
            </a:endParaRPr>
          </a:p>
        </p:txBody>
      </p:sp>
      <p:sp>
        <p:nvSpPr>
          <p:cNvPr id="691" name="テキスト ボックス 7"/>
          <p:cNvSpPr/>
          <p:nvPr/>
        </p:nvSpPr>
        <p:spPr>
          <a:xfrm>
            <a:off x="785880" y="1643040"/>
            <a:ext cx="71438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　製品関与　　  ≒色彩関与　　　</a:t>
            </a:r>
            <a:endParaRPr b="0" lang="en-US" sz="2400" spc="-1" strike="noStrike">
              <a:solidFill>
                <a:srgbClr val="6633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　　　　　　　　　</a:t>
            </a:r>
            <a:endParaRPr b="0" lang="en-US" sz="2400" spc="-1" strike="noStrike">
              <a:solidFill>
                <a:srgbClr val="6633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　　　　　選択にかける時間</a:t>
            </a:r>
            <a:endParaRPr b="0" lang="en-US" sz="2400" spc="-1" strike="noStrike">
              <a:solidFill>
                <a:srgbClr val="6633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　　　　　　　　　　</a:t>
            </a:r>
            <a:endParaRPr b="0" lang="en-US" sz="2400" spc="-1" strike="noStrike">
              <a:solidFill>
                <a:srgbClr val="6633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　　　選択の自由度による満足度</a:t>
            </a:r>
            <a:endParaRPr b="0" lang="en-US" sz="2400" spc="-1" strike="noStrike">
              <a:solidFill>
                <a:srgbClr val="663300"/>
              </a:solidFill>
              <a:latin typeface="Century Schoolbook"/>
            </a:endParaRPr>
          </a:p>
        </p:txBody>
      </p:sp>
      <p:sp>
        <p:nvSpPr>
          <p:cNvPr id="692" name="円/楕円 8"/>
          <p:cNvSpPr/>
          <p:nvPr/>
        </p:nvSpPr>
        <p:spPr>
          <a:xfrm>
            <a:off x="2428920" y="1500120"/>
            <a:ext cx="714240" cy="714600"/>
          </a:xfrm>
          <a:prstGeom prst="ellipse">
            <a:avLst/>
          </a:prstGeom>
          <a:noFill/>
          <a:ln w="57240">
            <a:solidFill>
              <a:srgbClr val="f48c9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48c9d"/>
                </a:solidFill>
                <a:latin typeface="HGP創英角ﾎﾟｯﾌﾟ体"/>
                <a:ea typeface="HGP創英角ﾎﾟｯﾌﾟ体"/>
              </a:rPr>
              <a:t>高</a:t>
            </a:r>
            <a:endParaRPr b="0" lang="en-US" sz="3600" spc="-1" strike="noStrike">
              <a:solidFill>
                <a:srgbClr val="663300"/>
              </a:solidFill>
              <a:latin typeface="Century Schoolbook"/>
            </a:endParaRPr>
          </a:p>
        </p:txBody>
      </p:sp>
      <p:sp>
        <p:nvSpPr>
          <p:cNvPr id="693" name="円/楕円 9"/>
          <p:cNvSpPr/>
          <p:nvPr/>
        </p:nvSpPr>
        <p:spPr>
          <a:xfrm>
            <a:off x="4857840" y="2571840"/>
            <a:ext cx="714240" cy="714240"/>
          </a:xfrm>
          <a:prstGeom prst="ellipse">
            <a:avLst/>
          </a:prstGeom>
          <a:noFill/>
          <a:ln w="57240">
            <a:solidFill>
              <a:srgbClr val="f48c9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48c9d"/>
                </a:solidFill>
                <a:latin typeface="HGP創英角ﾎﾟｯﾌﾟ体"/>
                <a:ea typeface="HGP創英角ﾎﾟｯﾌﾟ体"/>
              </a:rPr>
              <a:t>長</a:t>
            </a:r>
            <a:endParaRPr b="0" lang="en-US" sz="3600" spc="-1" strike="noStrike">
              <a:solidFill>
                <a:srgbClr val="663300"/>
              </a:solidFill>
              <a:latin typeface="Century Schoolbook"/>
            </a:endParaRPr>
          </a:p>
        </p:txBody>
      </p:sp>
      <p:sp>
        <p:nvSpPr>
          <p:cNvPr id="694" name="円/楕円 10"/>
          <p:cNvSpPr/>
          <p:nvPr/>
        </p:nvSpPr>
        <p:spPr>
          <a:xfrm>
            <a:off x="5500800" y="3714840"/>
            <a:ext cx="714240" cy="714240"/>
          </a:xfrm>
          <a:prstGeom prst="ellipse">
            <a:avLst/>
          </a:prstGeom>
          <a:noFill/>
          <a:ln w="57240">
            <a:solidFill>
              <a:srgbClr val="f48c9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48c9d"/>
                </a:solidFill>
                <a:latin typeface="HGP創英角ﾎﾟｯﾌﾟ体"/>
                <a:ea typeface="HGP創英角ﾎﾟｯﾌﾟ体"/>
              </a:rPr>
              <a:t>大</a:t>
            </a:r>
            <a:endParaRPr b="0" lang="en-US" sz="3600" spc="-1" strike="noStrike">
              <a:solidFill>
                <a:srgbClr val="663300"/>
              </a:solidFill>
              <a:latin typeface="Century Schoolbook"/>
            </a:endParaRPr>
          </a:p>
        </p:txBody>
      </p:sp>
      <p:sp>
        <p:nvSpPr>
          <p:cNvPr id="695" name="横巻き 12"/>
          <p:cNvSpPr/>
          <p:nvPr/>
        </p:nvSpPr>
        <p:spPr>
          <a:xfrm>
            <a:off x="357120" y="4643280"/>
            <a:ext cx="7786800" cy="2214720"/>
          </a:xfrm>
          <a:prstGeom prst="horizontalScroll">
            <a:avLst>
              <a:gd name="adj" fmla="val 10763"/>
            </a:avLst>
          </a:prstGeom>
          <a:solidFill>
            <a:srgbClr val="fff081"/>
          </a:solidFill>
          <a:ln w="6480">
            <a:solidFill>
              <a:srgbClr val="f48c9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663300"/>
                </a:solidFill>
                <a:latin typeface="Century Schoolbook"/>
              </a:rPr>
              <a:t>選択にかける時間が長いことから</a:t>
            </a:r>
            <a:endParaRPr b="0" lang="en-US" sz="20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663300"/>
                </a:solidFill>
                <a:latin typeface="Century Schoolbook"/>
              </a:rPr>
              <a:t>選択の自由度によって得られる満足度の大きさは大きい。</a:t>
            </a:r>
            <a:endParaRPr b="0" lang="en-US" sz="2000" spc="-1" strike="noStrike">
              <a:solidFill>
                <a:srgbClr val="663300"/>
              </a:solidFill>
              <a:latin typeface="Century Schoolbook"/>
            </a:endParaRPr>
          </a:p>
        </p:txBody>
      </p:sp>
      <p:sp>
        <p:nvSpPr>
          <p:cNvPr id="696" name="円/楕円 13"/>
          <p:cNvSpPr/>
          <p:nvPr/>
        </p:nvSpPr>
        <p:spPr>
          <a:xfrm>
            <a:off x="4786200" y="1500120"/>
            <a:ext cx="714600" cy="714600"/>
          </a:xfrm>
          <a:prstGeom prst="ellipse">
            <a:avLst/>
          </a:prstGeom>
          <a:noFill/>
          <a:ln w="57240">
            <a:solidFill>
              <a:srgbClr val="f48c9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48c9d"/>
                </a:solidFill>
                <a:latin typeface="HGP創英角ﾎﾟｯﾌﾟ体"/>
                <a:ea typeface="HGP創英角ﾎﾟｯﾌﾟ体"/>
              </a:rPr>
              <a:t>高</a:t>
            </a:r>
            <a:endParaRPr b="0" lang="en-US" sz="3600" spc="-1" strike="noStrike">
              <a:solidFill>
                <a:srgbClr val="663300"/>
              </a:solidFill>
              <a:latin typeface="Century Schoolbook"/>
            </a:endParaRPr>
          </a:p>
        </p:txBody>
      </p:sp>
      <p:sp>
        <p:nvSpPr>
          <p:cNvPr id="697" name="下矢印 14"/>
          <p:cNvSpPr/>
          <p:nvPr/>
        </p:nvSpPr>
        <p:spPr>
          <a:xfrm>
            <a:off x="3286080" y="2071800"/>
            <a:ext cx="142920" cy="642960"/>
          </a:xfrm>
          <a:prstGeom prst="downArrow">
            <a:avLst>
              <a:gd name="adj1" fmla="val 50000"/>
              <a:gd name="adj2" fmla="val 49986"/>
            </a:avLst>
          </a:prstGeom>
          <a:solidFill>
            <a:srgbClr val="82a9f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698" name="下矢印 15"/>
          <p:cNvSpPr/>
          <p:nvPr/>
        </p:nvSpPr>
        <p:spPr>
          <a:xfrm>
            <a:off x="3286080" y="3214800"/>
            <a:ext cx="142920" cy="642960"/>
          </a:xfrm>
          <a:prstGeom prst="downArrow">
            <a:avLst>
              <a:gd name="adj1" fmla="val 50000"/>
              <a:gd name="adj2" fmla="val 49986"/>
            </a:avLst>
          </a:prstGeom>
          <a:solidFill>
            <a:srgbClr val="82a9f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スライド番号プレースホル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CA74B-F6AB-4A32-9CE2-7E74CEE69589}" type="slidenum">
              <a:rPr b="1" lang="ja-JP" sz="1400" spc="-1" strike="noStrike">
                <a:solidFill>
                  <a:srgbClr val="ffffff"/>
                </a:solidFill>
                <a:latin typeface="Century Schoolbook"/>
              </a:rPr>
              <a:t>&lt;number&gt;</a:t>
            </a:fld>
            <a:endParaRPr b="0" lang="en-US" sz="1400" spc="-1" strike="noStrike">
              <a:solidFill>
                <a:srgbClr val="663300"/>
              </a:solidFill>
              <a:latin typeface="Century Schoolbook"/>
            </a:endParaRPr>
          </a:p>
        </p:txBody>
      </p:sp>
      <p:sp>
        <p:nvSpPr>
          <p:cNvPr id="700" name="正方形/長方形 5"/>
          <p:cNvSpPr/>
          <p:nvPr/>
        </p:nvSpPr>
        <p:spPr>
          <a:xfrm>
            <a:off x="500040" y="357120"/>
            <a:ext cx="2143080" cy="714600"/>
          </a:xfrm>
          <a:prstGeom prst="rect">
            <a:avLst/>
          </a:prstGeom>
          <a:solidFill>
            <a:srgbClr val="d9f62a"/>
          </a:solidFill>
          <a:ln w="19080">
            <a:solidFill>
              <a:srgbClr val="fb9bb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663300"/>
                </a:solidFill>
                <a:latin typeface="HG丸ｺﾞｼｯｸM-PRO"/>
                <a:ea typeface="HG丸ｺﾞｼｯｸM-PRO"/>
              </a:rPr>
              <a:t>買回り品</a:t>
            </a:r>
            <a:endParaRPr b="0" lang="en-US" sz="3200" spc="-1" strike="noStrike">
              <a:solidFill>
                <a:srgbClr val="663300"/>
              </a:solidFill>
              <a:latin typeface="Century Schoolbook"/>
            </a:endParaRPr>
          </a:p>
        </p:txBody>
      </p:sp>
      <p:sp>
        <p:nvSpPr>
          <p:cNvPr id="701" name="テキスト ボックス 7"/>
          <p:cNvSpPr/>
          <p:nvPr/>
        </p:nvSpPr>
        <p:spPr>
          <a:xfrm>
            <a:off x="785880" y="1428840"/>
            <a:ext cx="71438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　色彩関与　　　</a:t>
            </a:r>
            <a:endParaRPr b="0" lang="en-US" sz="2400" spc="-1" strike="noStrike">
              <a:solidFill>
                <a:srgbClr val="6633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　　　　　　　　　</a:t>
            </a:r>
            <a:endParaRPr b="0" lang="en-US" sz="2400" spc="-1" strike="noStrike">
              <a:solidFill>
                <a:srgbClr val="6633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　　　　　選択にかける時間　　　</a:t>
            </a:r>
            <a:endParaRPr b="0" lang="en-US" sz="2400" spc="-1" strike="noStrike">
              <a:solidFill>
                <a:srgbClr val="6633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　　　　　　　　　　　　　　　　　　　</a:t>
            </a:r>
            <a:endParaRPr b="0" lang="en-US" sz="2400" spc="-1" strike="noStrike">
              <a:solidFill>
                <a:srgbClr val="6633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　　　　　　　　　　選択の自由度による満足度</a:t>
            </a:r>
            <a:endParaRPr b="0" lang="en-US" sz="2400" spc="-1" strike="noStrike">
              <a:solidFill>
                <a:srgbClr val="663300"/>
              </a:solidFill>
              <a:latin typeface="Century Schoolbook"/>
            </a:endParaRPr>
          </a:p>
        </p:txBody>
      </p:sp>
      <p:sp>
        <p:nvSpPr>
          <p:cNvPr id="702" name="円/楕円 8"/>
          <p:cNvSpPr/>
          <p:nvPr/>
        </p:nvSpPr>
        <p:spPr>
          <a:xfrm>
            <a:off x="2428920" y="1285920"/>
            <a:ext cx="714240" cy="714240"/>
          </a:xfrm>
          <a:prstGeom prst="ellipse">
            <a:avLst/>
          </a:prstGeom>
          <a:noFill/>
          <a:ln w="57240">
            <a:solidFill>
              <a:srgbClr val="f48c9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48c9d"/>
                </a:solidFill>
                <a:latin typeface="HGP創英角ﾎﾟｯﾌﾟ体"/>
                <a:ea typeface="HGP創英角ﾎﾟｯﾌﾟ体"/>
              </a:rPr>
              <a:t>高</a:t>
            </a:r>
            <a:endParaRPr b="0" lang="en-US" sz="3600" spc="-1" strike="noStrike">
              <a:solidFill>
                <a:srgbClr val="663300"/>
              </a:solidFill>
              <a:latin typeface="Century Schoolbook"/>
            </a:endParaRPr>
          </a:p>
        </p:txBody>
      </p:sp>
      <p:sp>
        <p:nvSpPr>
          <p:cNvPr id="703" name="円/楕円 9"/>
          <p:cNvSpPr/>
          <p:nvPr/>
        </p:nvSpPr>
        <p:spPr>
          <a:xfrm>
            <a:off x="4929120" y="2000160"/>
            <a:ext cx="714600" cy="714600"/>
          </a:xfrm>
          <a:prstGeom prst="ellipse">
            <a:avLst/>
          </a:prstGeom>
          <a:noFill/>
          <a:ln w="57240">
            <a:solidFill>
              <a:srgbClr val="f48c9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48c9d"/>
                </a:solidFill>
                <a:latin typeface="HGP創英角ﾎﾟｯﾌﾟ体"/>
                <a:ea typeface="HGP創英角ﾎﾟｯﾌﾟ体"/>
              </a:rPr>
              <a:t>長</a:t>
            </a:r>
            <a:endParaRPr b="0" lang="en-US" sz="3600" spc="-1" strike="noStrike">
              <a:solidFill>
                <a:srgbClr val="663300"/>
              </a:solidFill>
              <a:latin typeface="Century Schoolbook"/>
            </a:endParaRPr>
          </a:p>
        </p:txBody>
      </p:sp>
      <p:sp>
        <p:nvSpPr>
          <p:cNvPr id="704" name="円/楕円 10"/>
          <p:cNvSpPr/>
          <p:nvPr/>
        </p:nvSpPr>
        <p:spPr>
          <a:xfrm>
            <a:off x="7715160" y="2714760"/>
            <a:ext cx="714600" cy="714240"/>
          </a:xfrm>
          <a:prstGeom prst="ellipse">
            <a:avLst/>
          </a:prstGeom>
          <a:noFill/>
          <a:ln w="57240">
            <a:solidFill>
              <a:srgbClr val="f48c9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48c9d"/>
                </a:solidFill>
                <a:latin typeface="HGP創英角ﾎﾟｯﾌﾟ体"/>
                <a:ea typeface="HGP創英角ﾎﾟｯﾌﾟ体"/>
              </a:rPr>
              <a:t>大</a:t>
            </a:r>
            <a:endParaRPr b="0" lang="en-US" sz="3600" spc="-1" strike="noStrike">
              <a:solidFill>
                <a:srgbClr val="663300"/>
              </a:solidFill>
              <a:latin typeface="Century Schoolbook"/>
            </a:endParaRPr>
          </a:p>
        </p:txBody>
      </p:sp>
      <p:sp>
        <p:nvSpPr>
          <p:cNvPr id="705" name="横巻き 12"/>
          <p:cNvSpPr/>
          <p:nvPr/>
        </p:nvSpPr>
        <p:spPr>
          <a:xfrm>
            <a:off x="357120" y="3500280"/>
            <a:ext cx="7786800" cy="3214800"/>
          </a:xfrm>
          <a:prstGeom prst="horizontalScroll">
            <a:avLst>
              <a:gd name="adj" fmla="val 10763"/>
            </a:avLst>
          </a:prstGeom>
          <a:solidFill>
            <a:srgbClr val="fff081"/>
          </a:solidFill>
          <a:ln w="6480">
            <a:solidFill>
              <a:srgbClr val="f48c9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663300"/>
                </a:solidFill>
                <a:latin typeface="Century Schoolbook"/>
              </a:rPr>
              <a:t>選択にかける時間が長いことから</a:t>
            </a:r>
            <a:endParaRPr b="0" lang="en-US" sz="20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663300"/>
                </a:solidFill>
                <a:latin typeface="Century Schoolbook"/>
              </a:rPr>
              <a:t>選択の自由度によって得られる満足度の大きさは大きい。</a:t>
            </a:r>
            <a:endParaRPr b="0" lang="en-US" sz="2000" spc="-1" strike="noStrike">
              <a:solidFill>
                <a:srgbClr val="663300"/>
              </a:solidFill>
              <a:latin typeface="Century Schoolbook"/>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456840" y="274680"/>
            <a:ext cx="7467480" cy="797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3000" spc="-1" strike="noStrike">
              <a:solidFill>
                <a:srgbClr val="575f6d"/>
              </a:solidFill>
              <a:latin typeface="Century Schoolbook"/>
            </a:endParaRPr>
          </a:p>
        </p:txBody>
      </p:sp>
      <p:sp>
        <p:nvSpPr>
          <p:cNvPr id="707" name=""/>
          <p:cNvSpPr txBox="1"/>
          <p:nvPr/>
        </p:nvSpPr>
        <p:spPr>
          <a:xfrm>
            <a:off x="456840" y="1600200"/>
            <a:ext cx="7467480" cy="4873680"/>
          </a:xfrm>
          <a:prstGeom prst="rect">
            <a:avLst/>
          </a:prstGeom>
          <a:noFill/>
          <a:ln w="0">
            <a:noFill/>
          </a:ln>
        </p:spPr>
        <p:txBody>
          <a:bodyPr anchor="t">
            <a:normAutofit/>
          </a:bodyPr>
          <a:p>
            <a:pPr marL="272880" indent="-272880" algn="ct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663300"/>
                </a:solidFill>
                <a:latin typeface="Century Schoolbook"/>
              </a:rPr>
              <a:t>しかし消費者はこだわりを持って色を選ぶため、</a:t>
            </a:r>
            <a:endParaRPr b="0" lang="en-US" sz="2400" spc="-1" strike="noStrike">
              <a:solidFill>
                <a:srgbClr val="000000"/>
              </a:solidFill>
              <a:latin typeface="Century Schoolbook"/>
            </a:endParaRPr>
          </a:p>
          <a:p>
            <a:pPr marL="272880" indent="-272880" algn="ct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663300"/>
                </a:solidFill>
                <a:latin typeface="Century Schoolbook"/>
              </a:rPr>
              <a:t>最寄品以上に慎重なカラー展開が求められる。</a:t>
            </a:r>
            <a:endParaRPr b="0" lang="en-US" sz="2400" spc="-1" strike="noStrike">
              <a:solidFill>
                <a:srgbClr val="000000"/>
              </a:solidFill>
              <a:latin typeface="Century Schoolbook"/>
            </a:endParaRPr>
          </a:p>
          <a:p>
            <a:pPr marL="272880" indent="-272880" algn="ct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663300"/>
                </a:solidFill>
                <a:latin typeface="Century Schoolbook"/>
              </a:rPr>
              <a:t>カラーマーケティングリサーチをもとに</a:t>
            </a:r>
            <a:endParaRPr b="0" lang="en-US" sz="2400" spc="-1" strike="noStrike">
              <a:solidFill>
                <a:srgbClr val="000000"/>
              </a:solidFill>
              <a:latin typeface="Century Schoolbook"/>
            </a:endParaRPr>
          </a:p>
          <a:p>
            <a:pPr marL="272880" indent="-272880" algn="ct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663300"/>
                </a:solidFill>
                <a:latin typeface="Century Schoolbook"/>
              </a:rPr>
              <a:t>製品や市場にあったカラーコンセプトの立案を行い、</a:t>
            </a:r>
            <a:endParaRPr b="0" lang="en-US" sz="2400" spc="-1" strike="noStrike">
              <a:solidFill>
                <a:srgbClr val="000000"/>
              </a:solidFill>
              <a:latin typeface="Century Schoolbook"/>
            </a:endParaRPr>
          </a:p>
          <a:p>
            <a:pPr marL="272880" indent="-272880" algn="ct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663300"/>
                </a:solidFill>
                <a:latin typeface="Century Schoolbook"/>
              </a:rPr>
              <a:t>それに基づいたカラー展開を行うことが必要。</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08" name="スライド番号プレースホル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05483-DEBA-45B2-A13A-82375FE78DAF}" type="slidenum">
              <a:rPr b="1" lang="ja-JP" sz="1400" spc="-1" strike="noStrike">
                <a:solidFill>
                  <a:srgbClr val="ffffff"/>
                </a:solidFill>
                <a:latin typeface="Century Schoolbook"/>
              </a:rPr>
              <a:t>&lt;number&gt;</a:t>
            </a:fld>
            <a:endParaRPr b="0" lang="en-US" sz="1400" spc="-1" strike="noStrike">
              <a:solidFill>
                <a:srgbClr val="663300"/>
              </a:solidFill>
              <a:latin typeface="Century Schoolboo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スライド番号プレースホル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75D7D-EE3B-4421-9FBA-862887F27515}" type="slidenum">
              <a:rPr b="1" lang="ja-JP" sz="1400" spc="-1" strike="noStrike">
                <a:solidFill>
                  <a:srgbClr val="ffffff"/>
                </a:solidFill>
                <a:latin typeface="Century Schoolbook"/>
              </a:rPr>
              <a:t>&lt;number&gt;</a:t>
            </a:fld>
            <a:endParaRPr b="0" lang="en-US" sz="1400" spc="-1" strike="noStrike">
              <a:solidFill>
                <a:srgbClr val="663300"/>
              </a:solidFill>
              <a:latin typeface="Century Schoolbook"/>
            </a:endParaRPr>
          </a:p>
        </p:txBody>
      </p:sp>
      <p:sp>
        <p:nvSpPr>
          <p:cNvPr id="710" name="正方形/長方形 5"/>
          <p:cNvSpPr/>
          <p:nvPr/>
        </p:nvSpPr>
        <p:spPr>
          <a:xfrm>
            <a:off x="500040" y="357120"/>
            <a:ext cx="2143080" cy="714600"/>
          </a:xfrm>
          <a:prstGeom prst="rect">
            <a:avLst/>
          </a:prstGeom>
          <a:solidFill>
            <a:srgbClr val="d9f62a"/>
          </a:solidFill>
          <a:ln w="19080">
            <a:solidFill>
              <a:srgbClr val="fb9bb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663300"/>
                </a:solidFill>
                <a:latin typeface="HG丸ｺﾞｼｯｸM-PRO"/>
                <a:ea typeface="HG丸ｺﾞｼｯｸM-PRO"/>
              </a:rPr>
              <a:t>最寄品</a:t>
            </a:r>
            <a:endParaRPr b="0" lang="en-US" sz="3200" spc="-1" strike="noStrike">
              <a:solidFill>
                <a:srgbClr val="663300"/>
              </a:solidFill>
              <a:latin typeface="Century Schoolbook"/>
            </a:endParaRPr>
          </a:p>
        </p:txBody>
      </p:sp>
      <p:sp>
        <p:nvSpPr>
          <p:cNvPr id="711" name="テキスト ボックス 7"/>
          <p:cNvSpPr/>
          <p:nvPr/>
        </p:nvSpPr>
        <p:spPr>
          <a:xfrm>
            <a:off x="785880" y="1428840"/>
            <a:ext cx="71438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　色彩関与　　　</a:t>
            </a:r>
            <a:endParaRPr b="0" lang="en-US" sz="2400" spc="-1" strike="noStrike">
              <a:solidFill>
                <a:srgbClr val="6633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　　　　　　　　　</a:t>
            </a:r>
            <a:endParaRPr b="0" lang="en-US" sz="2400" spc="-1" strike="noStrike">
              <a:solidFill>
                <a:srgbClr val="6633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　　　　　選択にかける時間　　　</a:t>
            </a:r>
            <a:endParaRPr b="0" lang="en-US" sz="2400" spc="-1" strike="noStrike">
              <a:solidFill>
                <a:srgbClr val="6633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　　　　　　　　　　　　　　　　　　　</a:t>
            </a:r>
            <a:endParaRPr b="0" lang="en-US" sz="2400" spc="-1" strike="noStrike">
              <a:solidFill>
                <a:srgbClr val="6633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　　　　　　　　　　選択の自由度による満足度</a:t>
            </a:r>
            <a:endParaRPr b="0" lang="en-US" sz="2400" spc="-1" strike="noStrike">
              <a:solidFill>
                <a:srgbClr val="663300"/>
              </a:solidFill>
              <a:latin typeface="Century Schoolbook"/>
            </a:endParaRPr>
          </a:p>
        </p:txBody>
      </p:sp>
      <p:sp>
        <p:nvSpPr>
          <p:cNvPr id="712" name="円/楕円 8"/>
          <p:cNvSpPr/>
          <p:nvPr/>
        </p:nvSpPr>
        <p:spPr>
          <a:xfrm>
            <a:off x="2428920" y="1285920"/>
            <a:ext cx="714240" cy="714240"/>
          </a:xfrm>
          <a:prstGeom prst="ellipse">
            <a:avLst/>
          </a:prstGeom>
          <a:noFill/>
          <a:ln w="57240">
            <a:solidFill>
              <a:srgbClr val="82a9f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82a9f6"/>
                </a:solidFill>
                <a:latin typeface="HGP創英角ﾎﾟｯﾌﾟ体"/>
                <a:ea typeface="HGP創英角ﾎﾟｯﾌﾟ体"/>
              </a:rPr>
              <a:t>低</a:t>
            </a:r>
            <a:endParaRPr b="0" lang="en-US" sz="3600" spc="-1" strike="noStrike">
              <a:solidFill>
                <a:srgbClr val="663300"/>
              </a:solidFill>
              <a:latin typeface="Century Schoolbook"/>
            </a:endParaRPr>
          </a:p>
        </p:txBody>
      </p:sp>
      <p:sp>
        <p:nvSpPr>
          <p:cNvPr id="713" name="円/楕円 9"/>
          <p:cNvSpPr/>
          <p:nvPr/>
        </p:nvSpPr>
        <p:spPr>
          <a:xfrm>
            <a:off x="4929120" y="2000160"/>
            <a:ext cx="714600" cy="714600"/>
          </a:xfrm>
          <a:prstGeom prst="ellipse">
            <a:avLst/>
          </a:prstGeom>
          <a:noFill/>
          <a:ln w="57240">
            <a:solidFill>
              <a:srgbClr val="82a9f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82a9f6"/>
                </a:solidFill>
                <a:latin typeface="HGP創英角ﾎﾟｯﾌﾟ体"/>
                <a:ea typeface="HGP創英角ﾎﾟｯﾌﾟ体"/>
              </a:rPr>
              <a:t>短</a:t>
            </a:r>
            <a:endParaRPr b="0" lang="en-US" sz="3600" spc="-1" strike="noStrike">
              <a:solidFill>
                <a:srgbClr val="663300"/>
              </a:solidFill>
              <a:latin typeface="Century Schoolbook"/>
            </a:endParaRPr>
          </a:p>
        </p:txBody>
      </p:sp>
      <p:sp>
        <p:nvSpPr>
          <p:cNvPr id="714" name="円/楕円 10"/>
          <p:cNvSpPr/>
          <p:nvPr/>
        </p:nvSpPr>
        <p:spPr>
          <a:xfrm>
            <a:off x="7643880" y="2714760"/>
            <a:ext cx="714240" cy="714240"/>
          </a:xfrm>
          <a:prstGeom prst="ellipse">
            <a:avLst/>
          </a:prstGeom>
          <a:noFill/>
          <a:ln w="57240">
            <a:solidFill>
              <a:srgbClr val="82a9f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82a9f6"/>
                </a:solidFill>
                <a:latin typeface="HGP創英角ﾎﾟｯﾌﾟ体"/>
                <a:ea typeface="HGP創英角ﾎﾟｯﾌﾟ体"/>
              </a:rPr>
              <a:t>小</a:t>
            </a:r>
            <a:endParaRPr b="0" lang="en-US" sz="3600" spc="-1" strike="noStrike">
              <a:solidFill>
                <a:srgbClr val="663300"/>
              </a:solidFill>
              <a:latin typeface="Century Schoolbook"/>
            </a:endParaRPr>
          </a:p>
        </p:txBody>
      </p:sp>
      <p:sp>
        <p:nvSpPr>
          <p:cNvPr id="715" name="横巻き 12"/>
          <p:cNvSpPr/>
          <p:nvPr/>
        </p:nvSpPr>
        <p:spPr>
          <a:xfrm>
            <a:off x="357120" y="3500280"/>
            <a:ext cx="7786800" cy="3214800"/>
          </a:xfrm>
          <a:prstGeom prst="horizontalScroll">
            <a:avLst>
              <a:gd name="adj" fmla="val 10763"/>
            </a:avLst>
          </a:prstGeom>
          <a:solidFill>
            <a:srgbClr val="fff081"/>
          </a:solidFill>
          <a:ln w="6480">
            <a:solidFill>
              <a:srgbClr val="f48c9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663300"/>
                </a:solidFill>
                <a:latin typeface="Century Schoolbook"/>
              </a:rPr>
              <a:t>色彩関与が低いため、選択にかける時間も短く、</a:t>
            </a:r>
            <a:endParaRPr b="0" lang="en-US" sz="20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663300"/>
                </a:solidFill>
                <a:latin typeface="Century Schoolbook"/>
              </a:rPr>
              <a:t>選択の自由度によって得られる満足度も小さい。</a:t>
            </a:r>
            <a:endParaRPr b="0" lang="en-US" sz="20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663300"/>
                </a:solidFill>
                <a:latin typeface="Century Schoolbook"/>
              </a:rPr>
              <a:t>このままの状態でカラーバリエーション展開をしても</a:t>
            </a:r>
            <a:endParaRPr b="0" lang="en-US" sz="20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663300"/>
                </a:solidFill>
                <a:latin typeface="Century Schoolbook"/>
              </a:rPr>
              <a:t>意味がないのでは？</a:t>
            </a:r>
            <a:endParaRPr b="0" lang="en-US" sz="2000" spc="-1" strike="noStrike">
              <a:solidFill>
                <a:srgbClr val="663300"/>
              </a:solidFill>
              <a:latin typeface="Century Schoolbook"/>
            </a:endParaRPr>
          </a:p>
        </p:txBody>
      </p:sp>
      <p:pic>
        <p:nvPicPr>
          <p:cNvPr id="716" name="Picture 5" descr="C:\Documents and Settings\bm0701469\Local Settings\Temporary Internet Files\Content.IE5\7SKCIYJU\MPj04393360000[1].jpg"/>
          <p:cNvPicPr/>
          <p:nvPr/>
        </p:nvPicPr>
        <p:blipFill>
          <a:blip r:embed="rId1"/>
          <a:stretch/>
        </p:blipFill>
        <p:spPr>
          <a:xfrm>
            <a:off x="285840" y="2214720"/>
            <a:ext cx="996840" cy="1500120"/>
          </a:xfrm>
          <a:prstGeom prst="rect">
            <a:avLst/>
          </a:prstGeom>
          <a:ln w="0">
            <a:noFill/>
          </a:ln>
        </p:spPr>
      </p:pic>
      <p:sp>
        <p:nvSpPr>
          <p:cNvPr id="717" name="雲形吹き出し 13"/>
          <p:cNvSpPr/>
          <p:nvPr/>
        </p:nvSpPr>
        <p:spPr>
          <a:xfrm>
            <a:off x="3214800" y="214200"/>
            <a:ext cx="4857480" cy="1428840"/>
          </a:xfrm>
          <a:prstGeom prst="cloudCallout">
            <a:avLst>
              <a:gd name="adj1" fmla="val -36652"/>
              <a:gd name="adj2" fmla="val 53504"/>
            </a:avLst>
          </a:prstGeom>
          <a:solidFill>
            <a:srgbClr val="ffebfc"/>
          </a:solidFill>
          <a:ln w="6480">
            <a:solidFill>
              <a:srgbClr val="bb612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Schoolbook"/>
              </a:rPr>
              <a:t>最寄品において満足度をより多く得られる</a:t>
            </a:r>
            <a:endParaRPr b="0" lang="en-US" sz="20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Schoolbook"/>
              </a:rPr>
              <a:t>カラーバリエーション展開をするには</a:t>
            </a:r>
            <a:endParaRPr b="0" lang="en-US" sz="20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Schoolbook"/>
              </a:rPr>
              <a:t>どうしたらよいか？</a:t>
            </a:r>
            <a:endParaRPr b="0" lang="en-US" sz="2000" spc="-1" strike="noStrike">
              <a:solidFill>
                <a:srgbClr val="663300"/>
              </a:solidFill>
              <a:latin typeface="Century Schoolbook"/>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716"/>
                                        </p:tgtEl>
                                        <p:attrNameLst>
                                          <p:attrName>style.visibility</p:attrName>
                                        </p:attrNameLst>
                                      </p:cBhvr>
                                      <p:to>
                                        <p:strVal val="visible"/>
                                      </p:to>
                                    </p:set>
                                    <p:animEffect filter="dissolve" transition="in">
                                      <p:cBhvr additive="repl">
                                        <p:cTn id="113" dur="500"/>
                                        <p:tgtEl>
                                          <p:spTgt spid="716"/>
                                        </p:tgtEl>
                                      </p:cBhvr>
                                    </p:animEffect>
                                  </p:childTnLst>
                                </p:cTn>
                              </p:par>
                              <p:par>
                                <p:cTn id="114" nodeType="withEffect" fill="hold" presetClass="entr" presetID="9">
                                  <p:stCondLst>
                                    <p:cond delay="0"/>
                                  </p:stCondLst>
                                  <p:childTnLst>
                                    <p:set>
                                      <p:cBhvr>
                                        <p:cTn id="115" dur="1" fill="hold">
                                          <p:stCondLst>
                                            <p:cond delay="0"/>
                                          </p:stCondLst>
                                        </p:cTn>
                                        <p:tgtEl>
                                          <p:spTgt spid="717"/>
                                        </p:tgtEl>
                                        <p:attrNameLst>
                                          <p:attrName>style.visibility</p:attrName>
                                        </p:attrNameLst>
                                      </p:cBhvr>
                                      <p:to>
                                        <p:strVal val="visible"/>
                                      </p:to>
                                    </p:set>
                                    <p:animEffect filter="dissolve" transition="in">
                                      <p:cBhvr additive="repl">
                                        <p:cTn id="116" dur="500"/>
                                        <p:tgtEl>
                                          <p:spTgt spid="7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285480" y="213840"/>
            <a:ext cx="7467480" cy="785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575f6d"/>
                </a:solidFill>
                <a:latin typeface="Century Schoolbook"/>
              </a:rPr>
              <a:t>最寄品において満足度を高めるには</a:t>
            </a:r>
            <a:r>
              <a:rPr b="1" lang="en-US" sz="3000" spc="-1" strike="noStrike">
                <a:solidFill>
                  <a:srgbClr val="575f6d"/>
                </a:solidFill>
                <a:latin typeface="Century Schoolbook"/>
              </a:rPr>
              <a:t>…</a:t>
            </a:r>
            <a:r>
              <a:rPr b="1" lang="ja-JP" sz="3000" spc="-1" strike="noStrike">
                <a:solidFill>
                  <a:srgbClr val="575f6d"/>
                </a:solidFill>
                <a:latin typeface="Century Schoolbook"/>
              </a:rPr>
              <a:t>？</a:t>
            </a:r>
            <a:endParaRPr b="0" lang="en-US" sz="3000" spc="-1" strike="noStrike">
              <a:solidFill>
                <a:srgbClr val="575f6d"/>
              </a:solidFill>
              <a:latin typeface="Century Schoolbook"/>
            </a:endParaRPr>
          </a:p>
        </p:txBody>
      </p:sp>
      <p:sp>
        <p:nvSpPr>
          <p:cNvPr id="719" name="スライド番号プレースホル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41F51-6164-4483-96B5-BB4692C2DD5E}" type="slidenum">
              <a:rPr b="1" lang="ja-JP" sz="1400" spc="-1" strike="noStrike">
                <a:solidFill>
                  <a:srgbClr val="ffffff"/>
                </a:solidFill>
                <a:latin typeface="Century Schoolbook"/>
              </a:rPr>
              <a:t>&lt;number&gt;</a:t>
            </a:fld>
            <a:endParaRPr b="0" lang="en-US" sz="1400" spc="-1" strike="noStrike">
              <a:solidFill>
                <a:srgbClr val="663300"/>
              </a:solidFill>
              <a:latin typeface="Century Schoolbook"/>
            </a:endParaRPr>
          </a:p>
        </p:txBody>
      </p:sp>
      <p:sp>
        <p:nvSpPr>
          <p:cNvPr id="720" name="角丸四角形 5"/>
          <p:cNvSpPr/>
          <p:nvPr/>
        </p:nvSpPr>
        <p:spPr>
          <a:xfrm>
            <a:off x="1071720" y="1785960"/>
            <a:ext cx="7143480" cy="3214800"/>
          </a:xfrm>
          <a:prstGeom prst="roundRect">
            <a:avLst>
              <a:gd name="adj" fmla="val 16667"/>
            </a:avLst>
          </a:prstGeom>
          <a:solidFill>
            <a:srgbClr val="d9f62a"/>
          </a:solidFill>
          <a:ln w="38160">
            <a:solidFill>
              <a:srgbClr val="fb9bb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663300"/>
                </a:solidFill>
                <a:latin typeface="Century Schoolbook"/>
              </a:rPr>
              <a:t>色彩関与を高め、情報探索時間を少しでも長くし、</a:t>
            </a:r>
            <a:endParaRPr b="0" lang="en-US" sz="20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663300"/>
                </a:solidFill>
                <a:latin typeface="Century Schoolbook"/>
              </a:rPr>
              <a:t>選択の自由度による満足を得てもらう。</a:t>
            </a:r>
            <a:endParaRPr b="0" lang="en-US" sz="20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663300"/>
                </a:solidFill>
                <a:latin typeface="Century Schoolbook"/>
              </a:rPr>
              <a:t>→</a:t>
            </a:r>
            <a:r>
              <a:rPr b="1" lang="ja-JP" sz="2400" spc="-1" strike="noStrike">
                <a:solidFill>
                  <a:srgbClr val="663300"/>
                </a:solidFill>
                <a:latin typeface="Century Schoolbook"/>
              </a:rPr>
              <a:t>広告や店舗での陳列の仕方によって</a:t>
            </a:r>
            <a:endParaRPr b="0" lang="en-US" sz="24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663300"/>
                </a:solidFill>
                <a:latin typeface="Century Schoolbook"/>
              </a:rPr>
              <a:t>色彩関与を高められないか？</a:t>
            </a:r>
            <a:endParaRPr b="0" lang="en-US" sz="2400" spc="-1" strike="noStrike">
              <a:solidFill>
                <a:srgbClr val="663300"/>
              </a:solidFill>
              <a:latin typeface="Century Schoolbook"/>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スライド番号プレースホル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76DD8-603C-4455-8919-B6650D2F0642}" type="slidenum">
              <a:rPr b="1" lang="ja-JP" sz="1400" spc="-1" strike="noStrike">
                <a:solidFill>
                  <a:srgbClr val="ffffff"/>
                </a:solidFill>
                <a:latin typeface="Century Schoolbook"/>
              </a:rPr>
              <a:t>&lt;number&gt;</a:t>
            </a:fld>
            <a:endParaRPr b="0" lang="en-US" sz="1400" spc="-1" strike="noStrike">
              <a:solidFill>
                <a:srgbClr val="663300"/>
              </a:solidFill>
              <a:latin typeface="Century Schoolbook"/>
            </a:endParaRPr>
          </a:p>
        </p:txBody>
      </p:sp>
      <p:sp>
        <p:nvSpPr>
          <p:cNvPr id="722" name="テキスト ボックス 5"/>
          <p:cNvSpPr/>
          <p:nvPr/>
        </p:nvSpPr>
        <p:spPr>
          <a:xfrm>
            <a:off x="357120" y="714240"/>
            <a:ext cx="2000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Century Schoolbook"/>
              </a:rPr>
              <a:t>仮説③</a:t>
            </a:r>
            <a:endParaRPr b="0" lang="en-US" sz="3200" spc="-1" strike="noStrike">
              <a:solidFill>
                <a:srgbClr val="663300"/>
              </a:solidFill>
              <a:latin typeface="Century Schoolbook"/>
            </a:endParaRPr>
          </a:p>
        </p:txBody>
      </p:sp>
      <p:sp>
        <p:nvSpPr>
          <p:cNvPr id="723" name="縦巻き 10"/>
          <p:cNvSpPr/>
          <p:nvPr/>
        </p:nvSpPr>
        <p:spPr>
          <a:xfrm>
            <a:off x="428760" y="1500120"/>
            <a:ext cx="8286480" cy="4357800"/>
          </a:xfrm>
          <a:prstGeom prst="verticalScroll">
            <a:avLst>
              <a:gd name="adj" fmla="val 11000"/>
            </a:avLst>
          </a:prstGeom>
          <a:solidFill>
            <a:srgbClr val="fdc3d5"/>
          </a:solidFill>
          <a:ln w="25560">
            <a:solidFill>
              <a:srgbClr val="66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rPr>
              <a:t>最寄品において</a:t>
            </a:r>
            <a:endParaRPr b="0" lang="en-US" sz="24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rPr>
              <a:t>カラーバリエーションの展開をアピールするような広告や</a:t>
            </a:r>
            <a:endParaRPr b="0" lang="en-US" sz="24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rPr>
              <a:t>商品の陳列をすることで色彩関与が高まり、</a:t>
            </a:r>
            <a:endParaRPr b="0" lang="en-US" sz="24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rPr>
              <a:t>より大きな満足を与えることができる。</a:t>
            </a:r>
            <a:endParaRPr b="0" lang="en-US" sz="2400" spc="-1" strike="noStrike">
              <a:solidFill>
                <a:srgbClr val="663300"/>
              </a:solidFill>
              <a:latin typeface="Century Schoolbook"/>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p:nvPr>
        </p:nvSpPr>
        <p:spPr>
          <a:xfrm>
            <a:off x="539640" y="1052280"/>
            <a:ext cx="7467840" cy="487332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rPr>
              <a:t>続きおよび詳細は、当日お配り致します。</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428400" y="142920"/>
            <a:ext cx="746748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575f6d"/>
                </a:solidFill>
                <a:latin typeface="Century Schoolbook"/>
              </a:rPr>
              <a:t>参考資料</a:t>
            </a:r>
            <a:endParaRPr b="0" lang="en-US" sz="3000" spc="-1" strike="noStrike">
              <a:solidFill>
                <a:srgbClr val="575f6d"/>
              </a:solidFill>
              <a:latin typeface="Century Schoolbook"/>
            </a:endParaRPr>
          </a:p>
        </p:txBody>
      </p:sp>
      <p:sp>
        <p:nvSpPr>
          <p:cNvPr id="726" name=""/>
          <p:cNvSpPr txBox="1"/>
          <p:nvPr/>
        </p:nvSpPr>
        <p:spPr>
          <a:xfrm>
            <a:off x="142560" y="928440"/>
            <a:ext cx="8643960" cy="578628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杉本徹雄</a:t>
            </a:r>
            <a:r>
              <a:rPr b="0" lang="en-US" sz="1700" spc="-1" strike="noStrike">
                <a:solidFill>
                  <a:srgbClr val="000000"/>
                </a:solidFill>
                <a:latin typeface="ＭＳ Ｐゴシック"/>
              </a:rPr>
              <a:t>『</a:t>
            </a:r>
            <a:r>
              <a:rPr b="0" lang="ja-JP" sz="1700" spc="-1" strike="noStrike">
                <a:solidFill>
                  <a:srgbClr val="000000"/>
                </a:solidFill>
                <a:latin typeface="ＭＳ Ｐゴシック"/>
              </a:rPr>
              <a:t>消費者理解のための心理学</a:t>
            </a:r>
            <a:r>
              <a:rPr b="0" lang="en-US" sz="1700" spc="-1" strike="noStrike">
                <a:solidFill>
                  <a:srgbClr val="000000"/>
                </a:solidFill>
                <a:latin typeface="ＭＳ Ｐゴシック"/>
              </a:rPr>
              <a:t>』</a:t>
            </a:r>
            <a:r>
              <a:rPr b="0" lang="ja-JP" sz="1700" spc="-1" strike="noStrike">
                <a:solidFill>
                  <a:srgbClr val="000000"/>
                </a:solidFill>
                <a:latin typeface="ＭＳ Ｐゴシック"/>
              </a:rPr>
              <a:t>　福村出版　１９９７年</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池ノ上直隆・小林一三</a:t>
            </a:r>
            <a:r>
              <a:rPr b="0" lang="en-US" sz="1700" spc="-1" strike="noStrike">
                <a:solidFill>
                  <a:srgbClr val="000000"/>
                </a:solidFill>
                <a:latin typeface="ＭＳ Ｐゴシック"/>
              </a:rPr>
              <a:t>『</a:t>
            </a:r>
            <a:r>
              <a:rPr b="0" lang="ja-JP" sz="1700" spc="-1" strike="noStrike">
                <a:solidFill>
                  <a:srgbClr val="000000"/>
                </a:solidFill>
                <a:latin typeface="ＭＳ Ｐゴシック"/>
              </a:rPr>
              <a:t>消費者心理学入門</a:t>
            </a:r>
            <a:r>
              <a:rPr b="0" lang="en-US" sz="1700" spc="-1" strike="noStrike">
                <a:solidFill>
                  <a:srgbClr val="000000"/>
                </a:solidFill>
                <a:latin typeface="ＭＳ Ｐゴシック"/>
              </a:rPr>
              <a:t>』</a:t>
            </a:r>
            <a:r>
              <a:rPr b="0" lang="ja-JP" sz="1700" spc="-1" strike="noStrike">
                <a:solidFill>
                  <a:srgbClr val="000000"/>
                </a:solidFill>
                <a:latin typeface="ＭＳ Ｐゴシック"/>
              </a:rPr>
              <a:t>　中央経済社　１９９４年</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伊吹卓</a:t>
            </a:r>
            <a:r>
              <a:rPr b="0" lang="en-US" sz="1700" spc="-1" strike="noStrike">
                <a:solidFill>
                  <a:srgbClr val="000000"/>
                </a:solidFill>
                <a:latin typeface="ＭＳ Ｐゴシック"/>
              </a:rPr>
              <a:t>『</a:t>
            </a:r>
            <a:r>
              <a:rPr b="0" lang="ja-JP" sz="1700" spc="-1" strike="noStrike">
                <a:solidFill>
                  <a:srgbClr val="000000"/>
                </a:solidFill>
                <a:latin typeface="ＭＳ Ｐゴシック"/>
              </a:rPr>
              <a:t>事典おもしろマーケティング</a:t>
            </a:r>
            <a:r>
              <a:rPr b="0" lang="en-US" sz="1700" spc="-1" strike="noStrike">
                <a:solidFill>
                  <a:srgbClr val="000000"/>
                </a:solidFill>
                <a:latin typeface="ＭＳ Ｐゴシック"/>
              </a:rPr>
              <a:t>』</a:t>
            </a:r>
            <a:r>
              <a:rPr b="0" lang="ja-JP" sz="1700" spc="-1" strike="noStrike">
                <a:solidFill>
                  <a:srgbClr val="000000"/>
                </a:solidFill>
                <a:latin typeface="ＭＳ Ｐゴシック"/>
              </a:rPr>
              <a:t>中央経済社　１９９７年</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下川美知留</a:t>
            </a:r>
            <a:r>
              <a:rPr b="0" lang="en-US" sz="1700" spc="-1" strike="noStrike">
                <a:solidFill>
                  <a:srgbClr val="000000"/>
                </a:solidFill>
                <a:latin typeface="ＭＳ Ｐゴシック"/>
              </a:rPr>
              <a:t>『</a:t>
            </a:r>
            <a:r>
              <a:rPr b="0" lang="ja-JP" sz="1700" spc="-1" strike="noStrike">
                <a:solidFill>
                  <a:srgbClr val="000000"/>
                </a:solidFill>
                <a:latin typeface="ＭＳ Ｐゴシック"/>
              </a:rPr>
              <a:t>図解でわかるカラーマーケティング</a:t>
            </a:r>
            <a:r>
              <a:rPr b="0" lang="en-US" sz="1700" spc="-1" strike="noStrike">
                <a:solidFill>
                  <a:srgbClr val="000000"/>
                </a:solidFill>
                <a:latin typeface="ＭＳ Ｐゴシック"/>
              </a:rPr>
              <a:t>』</a:t>
            </a:r>
            <a:r>
              <a:rPr b="0" lang="ja-JP" sz="1700" spc="-1" strike="noStrike">
                <a:solidFill>
                  <a:srgbClr val="000000"/>
                </a:solidFill>
                <a:latin typeface="ＭＳ Ｐゴシック"/>
              </a:rPr>
              <a:t>　</a:t>
            </a:r>
            <a:endParaRPr b="0" lang="en-US" sz="17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日本能率協会マネジメントセンター　２００３年</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ＭＳ Ｐ明朝"/>
              </a:rPr>
              <a:t>Engel</a:t>
            </a:r>
            <a:r>
              <a:rPr b="0" lang="ja-JP" sz="1700" spc="-1" strike="noStrike">
                <a:solidFill>
                  <a:srgbClr val="000000"/>
                </a:solidFill>
                <a:latin typeface="ＭＳ Ｐ明朝"/>
              </a:rPr>
              <a:t>、</a:t>
            </a:r>
            <a:r>
              <a:rPr b="0" lang="en-US" sz="1700" spc="-1" strike="noStrike">
                <a:solidFill>
                  <a:srgbClr val="000000"/>
                </a:solidFill>
                <a:latin typeface="ＭＳ Ｐ明朝"/>
              </a:rPr>
              <a:t>J.F.,Blackwell,R.D.</a:t>
            </a:r>
            <a:r>
              <a:rPr b="0" lang="ja-JP" sz="1700" spc="-1" strike="noStrike">
                <a:solidFill>
                  <a:srgbClr val="000000"/>
                </a:solidFill>
                <a:latin typeface="ＭＳ Ｐ明朝"/>
              </a:rPr>
              <a:t>＆</a:t>
            </a:r>
            <a:r>
              <a:rPr b="0" lang="en-US" sz="1700" spc="-1" strike="noStrike">
                <a:solidFill>
                  <a:srgbClr val="000000"/>
                </a:solidFill>
                <a:latin typeface="ＭＳ Ｐ明朝"/>
              </a:rPr>
              <a:t>Miniard,P.W.</a:t>
            </a:r>
            <a:r>
              <a:rPr b="0" lang="ja-JP" sz="1700" spc="-1" strike="noStrike">
                <a:solidFill>
                  <a:srgbClr val="000000"/>
                </a:solidFill>
                <a:latin typeface="ＭＳ Ｐ明朝"/>
              </a:rPr>
              <a:t>（</a:t>
            </a:r>
            <a:r>
              <a:rPr b="0" lang="en-US" sz="1700" spc="-1" strike="noStrike">
                <a:solidFill>
                  <a:srgbClr val="000000"/>
                </a:solidFill>
                <a:latin typeface="ＭＳ Ｐ明朝"/>
              </a:rPr>
              <a:t>1995</a:t>
            </a:r>
            <a:r>
              <a:rPr b="0" lang="ja-JP" sz="1700" spc="-1" strike="noStrike">
                <a:solidFill>
                  <a:srgbClr val="000000"/>
                </a:solidFill>
                <a:latin typeface="ＭＳ Ｐ明朝"/>
              </a:rPr>
              <a:t>）</a:t>
            </a:r>
            <a:endParaRPr b="0" lang="en-US" sz="17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明朝"/>
              </a:rPr>
              <a:t>　                           </a:t>
            </a:r>
            <a:r>
              <a:rPr b="0" i="1" lang="en-US" sz="1700" spc="-1" strike="noStrike">
                <a:solidFill>
                  <a:srgbClr val="000000"/>
                </a:solidFill>
                <a:latin typeface="ＭＳ Ｐ明朝"/>
              </a:rPr>
              <a:t>Consumer</a:t>
            </a:r>
            <a:r>
              <a:rPr b="0" i="1" lang="ja-JP" sz="1700" spc="-1" strike="noStrike">
                <a:solidFill>
                  <a:srgbClr val="000000"/>
                </a:solidFill>
                <a:latin typeface="ＭＳ Ｐ明朝"/>
              </a:rPr>
              <a:t>　</a:t>
            </a:r>
            <a:r>
              <a:rPr b="0" i="1" lang="en-US" sz="1700" spc="-1" strike="noStrike">
                <a:solidFill>
                  <a:srgbClr val="000000"/>
                </a:solidFill>
                <a:latin typeface="ＭＳ Ｐ明朝"/>
              </a:rPr>
              <a:t>behavior</a:t>
            </a:r>
            <a:r>
              <a:rPr b="0" i="1" lang="ja-JP" sz="1700" spc="-1" strike="noStrike">
                <a:solidFill>
                  <a:srgbClr val="000000"/>
                </a:solidFill>
                <a:latin typeface="ＭＳ Ｐ明朝"/>
              </a:rPr>
              <a:t>（</a:t>
            </a:r>
            <a:r>
              <a:rPr b="0" i="1" lang="en-US" sz="1700" spc="-1" strike="noStrike">
                <a:solidFill>
                  <a:srgbClr val="000000"/>
                </a:solidFill>
                <a:latin typeface="ＭＳ Ｐ明朝"/>
              </a:rPr>
              <a:t>8th ed</a:t>
            </a:r>
            <a:r>
              <a:rPr b="0" i="1" lang="ja-JP" sz="1700" spc="-1" strike="noStrike">
                <a:solidFill>
                  <a:srgbClr val="000000"/>
                </a:solidFill>
                <a:latin typeface="ＭＳ Ｐ明朝"/>
              </a:rPr>
              <a:t>）</a:t>
            </a:r>
            <a:r>
              <a:rPr b="0" lang="en-US" sz="1700" spc="-1" strike="noStrike">
                <a:solidFill>
                  <a:srgbClr val="000000"/>
                </a:solidFill>
                <a:latin typeface="ＭＳ Ｐ明朝"/>
              </a:rPr>
              <a:t> </a:t>
            </a:r>
            <a:r>
              <a:rPr b="0" lang="en-US" sz="1700" spc="-1" strike="noStrike">
                <a:solidFill>
                  <a:srgbClr val="000000"/>
                </a:solidFill>
                <a:latin typeface="ＭＳ Ｐ明朝"/>
              </a:rPr>
              <a:t>Dryden Press</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フィリップ・コトラー</a:t>
            </a:r>
            <a:r>
              <a:rPr b="0" lang="en-US" sz="1700" spc="-1" strike="noStrike">
                <a:solidFill>
                  <a:srgbClr val="000000"/>
                </a:solidFill>
                <a:latin typeface="ＭＳ Ｐゴシック"/>
              </a:rPr>
              <a:t>,</a:t>
            </a:r>
            <a:r>
              <a:rPr b="0" lang="ja-JP" sz="1700" spc="-1" strike="noStrike">
                <a:solidFill>
                  <a:srgbClr val="000000"/>
                </a:solidFill>
                <a:latin typeface="ＭＳ Ｐゴシック"/>
              </a:rPr>
              <a:t>ケビン・レーン・ケラー </a:t>
            </a:r>
            <a:endParaRPr b="0" lang="en-US" sz="17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ＭＳ Ｐゴシック"/>
              </a:rPr>
              <a:t>(</a:t>
            </a:r>
            <a:r>
              <a:rPr b="0" lang="ja-JP" sz="1700" spc="-1" strike="noStrike">
                <a:solidFill>
                  <a:srgbClr val="000000"/>
                </a:solidFill>
                <a:latin typeface="ＭＳ Ｐゴシック"/>
              </a:rPr>
              <a:t>監修者：恩蔵　直人　　　訳者：月谷　真紀</a:t>
            </a:r>
            <a:endParaRPr b="0" lang="en-US" sz="17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a:t>
            </a:r>
            <a:r>
              <a:rPr b="0" lang="en-US" sz="1700" spc="-1" strike="noStrike">
                <a:solidFill>
                  <a:srgbClr val="000000"/>
                </a:solidFill>
                <a:latin typeface="ＭＳ Ｐゴシック"/>
              </a:rPr>
              <a:t>『</a:t>
            </a:r>
            <a:r>
              <a:rPr b="0" lang="ja-JP" sz="1700" spc="-1" strike="noStrike">
                <a:solidFill>
                  <a:srgbClr val="000000"/>
                </a:solidFill>
                <a:latin typeface="ＭＳ Ｐゴシック"/>
              </a:rPr>
              <a:t>コトラー＆ケラーのマーケティング・マネジメント</a:t>
            </a:r>
            <a:r>
              <a:rPr b="0" lang="en-US" sz="1700" spc="-1" strike="noStrike">
                <a:solidFill>
                  <a:srgbClr val="000000"/>
                </a:solidFill>
                <a:latin typeface="ＭＳ Ｐゴシック"/>
              </a:rPr>
              <a:t>』</a:t>
            </a:r>
            <a:r>
              <a:rPr b="0" lang="ja-JP" sz="1700" spc="-1" strike="noStrike">
                <a:solidFill>
                  <a:srgbClr val="000000"/>
                </a:solidFill>
                <a:latin typeface="ＭＳ Ｐゴシック"/>
              </a:rPr>
              <a:t>　ピアソン・エデュケーション　２００８年</a:t>
            </a:r>
            <a:r>
              <a:rPr b="0" lang="en-US" sz="1700" spc="-1" strike="noStrike">
                <a:solidFill>
                  <a:srgbClr val="000000"/>
                </a:solidFill>
                <a:latin typeface="ＭＳ Ｐゴシック"/>
              </a:rPr>
              <a:t> </a:t>
            </a:r>
            <a:r>
              <a:rPr b="0" lang="en-US" sz="1700" spc="-1" strike="noStrike">
                <a:solidFill>
                  <a:srgbClr val="000000"/>
                </a:solidFill>
                <a:latin typeface="ＭＳ Ｐゴシック"/>
              </a:rPr>
              <a:t>) </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entury Schoolbook"/>
              </a:rPr>
              <a:t>『</a:t>
            </a:r>
            <a:r>
              <a:rPr b="0" lang="ja-JP" sz="1700" spc="-1" strike="noStrike">
                <a:solidFill>
                  <a:srgbClr val="000000"/>
                </a:solidFill>
                <a:latin typeface="Century Schoolbook"/>
              </a:rPr>
              <a:t>日経デザイン</a:t>
            </a:r>
            <a:r>
              <a:rPr b="0" lang="en-US" sz="1700" spc="-1" strike="noStrike">
                <a:solidFill>
                  <a:srgbClr val="000000"/>
                </a:solidFill>
                <a:latin typeface="Century Schoolbook"/>
              </a:rPr>
              <a:t>』</a:t>
            </a:r>
            <a:r>
              <a:rPr b="0" lang="ja-JP" sz="1700" spc="-1" strike="noStrike">
                <a:solidFill>
                  <a:srgbClr val="000000"/>
                </a:solidFill>
                <a:latin typeface="Century Schoolbook"/>
              </a:rPr>
              <a:t>　</a:t>
            </a:r>
            <a:r>
              <a:rPr b="0" lang="en-US" sz="1700" spc="-1" strike="noStrike">
                <a:solidFill>
                  <a:srgbClr val="000000"/>
                </a:solidFill>
                <a:latin typeface="Century Schoolbook"/>
              </a:rPr>
              <a:t>2003</a:t>
            </a:r>
            <a:r>
              <a:rPr b="0" lang="ja-JP" sz="1700" spc="-1" strike="noStrike">
                <a:solidFill>
                  <a:srgbClr val="000000"/>
                </a:solidFill>
                <a:latin typeface="Century Schoolbook"/>
              </a:rPr>
              <a:t>年</a:t>
            </a:r>
            <a:r>
              <a:rPr b="0" lang="en-US" sz="1700" spc="-1" strike="noStrike">
                <a:solidFill>
                  <a:srgbClr val="000000"/>
                </a:solidFill>
                <a:latin typeface="Century Schoolbook"/>
              </a:rPr>
              <a:t>10</a:t>
            </a:r>
            <a:r>
              <a:rPr b="0" lang="ja-JP" sz="1700" spc="-1" strike="noStrike">
                <a:solidFill>
                  <a:srgbClr val="000000"/>
                </a:solidFill>
                <a:latin typeface="Century Schoolbook"/>
              </a:rPr>
              <a:t>号</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稲田順子</a:t>
            </a:r>
            <a:r>
              <a:rPr b="0" lang="en-US" sz="1700" spc="-1" strike="noStrike">
                <a:solidFill>
                  <a:srgbClr val="000000"/>
                </a:solidFill>
                <a:latin typeface="ＭＳ Ｐゴシック"/>
              </a:rPr>
              <a:t>『</a:t>
            </a:r>
            <a:r>
              <a:rPr b="0" lang="ja-JP" sz="1700" spc="-1" strike="noStrike">
                <a:solidFill>
                  <a:srgbClr val="000000"/>
                </a:solidFill>
                <a:latin typeface="ＭＳ Ｐゴシック"/>
              </a:rPr>
              <a:t>消費者心理学序説</a:t>
            </a:r>
            <a:r>
              <a:rPr b="0" lang="en-US" sz="1700" spc="-1" strike="noStrike">
                <a:solidFill>
                  <a:srgbClr val="000000"/>
                </a:solidFill>
                <a:latin typeface="ＭＳ Ｐゴシック"/>
              </a:rPr>
              <a:t>』</a:t>
            </a:r>
            <a:r>
              <a:rPr b="0" lang="ja-JP" sz="1700" spc="-1" strike="noStrike">
                <a:solidFill>
                  <a:srgbClr val="000000"/>
                </a:solidFill>
                <a:latin typeface="ＭＳ Ｐゴシック"/>
              </a:rPr>
              <a:t>　大学教育出版　１９９６年</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平久保仲人</a:t>
            </a:r>
            <a:r>
              <a:rPr b="0" lang="en-US" sz="1700" spc="-1" strike="noStrike">
                <a:solidFill>
                  <a:srgbClr val="000000"/>
                </a:solidFill>
                <a:latin typeface="ＭＳ Ｐゴシック"/>
              </a:rPr>
              <a:t>『</a:t>
            </a:r>
            <a:r>
              <a:rPr b="0" lang="ja-JP" sz="1700" spc="-1" strike="noStrike">
                <a:solidFill>
                  <a:srgbClr val="000000"/>
                </a:solidFill>
                <a:latin typeface="ＭＳ Ｐゴシック"/>
              </a:rPr>
              <a:t>消費者行動論</a:t>
            </a:r>
            <a:r>
              <a:rPr b="0" lang="en-US" sz="1700" spc="-1" strike="noStrike">
                <a:solidFill>
                  <a:srgbClr val="000000"/>
                </a:solidFill>
                <a:latin typeface="ＭＳ Ｐゴシック"/>
              </a:rPr>
              <a:t>』</a:t>
            </a:r>
            <a:r>
              <a:rPr b="0" lang="ja-JP" sz="1700" spc="-1" strike="noStrike">
                <a:solidFill>
                  <a:srgbClr val="000000"/>
                </a:solidFill>
                <a:latin typeface="ＭＳ Ｐゴシック"/>
              </a:rPr>
              <a:t>　ダイヤモンド社　２００５年</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恩蔵直人</a:t>
            </a:r>
            <a:r>
              <a:rPr b="0" lang="en-US" sz="1700" spc="-1" strike="noStrike">
                <a:solidFill>
                  <a:srgbClr val="000000"/>
                </a:solidFill>
                <a:latin typeface="ＭＳ Ｐゴシック"/>
              </a:rPr>
              <a:t>『</a:t>
            </a:r>
            <a:r>
              <a:rPr b="0" lang="ja-JP" sz="1700" spc="-1" strike="noStrike">
                <a:solidFill>
                  <a:srgbClr val="000000"/>
                </a:solidFill>
                <a:latin typeface="ＭＳ Ｐゴシック"/>
              </a:rPr>
              <a:t>マーケティング</a:t>
            </a:r>
            <a:r>
              <a:rPr b="0" lang="en-US" sz="1700" spc="-1" strike="noStrike">
                <a:solidFill>
                  <a:srgbClr val="000000"/>
                </a:solidFill>
                <a:latin typeface="ＭＳ Ｐゴシック"/>
              </a:rPr>
              <a:t>』</a:t>
            </a:r>
            <a:r>
              <a:rPr b="0" lang="ja-JP" sz="1700" spc="-1" strike="noStrike">
                <a:solidFill>
                  <a:srgbClr val="000000"/>
                </a:solidFill>
                <a:latin typeface="ＭＳ Ｐゴシック"/>
              </a:rPr>
              <a:t>　日本経済新聞社　２００４年</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塩田静雄</a:t>
            </a:r>
            <a:r>
              <a:rPr b="0" lang="en-US" sz="1700" spc="-1" strike="noStrike">
                <a:solidFill>
                  <a:srgbClr val="000000"/>
                </a:solidFill>
                <a:latin typeface="ＭＳ Ｐゴシック"/>
              </a:rPr>
              <a:t>『</a:t>
            </a:r>
            <a:r>
              <a:rPr b="0" lang="ja-JP" sz="1700" spc="-1" strike="noStrike">
                <a:solidFill>
                  <a:srgbClr val="000000"/>
                </a:solidFill>
                <a:latin typeface="ＭＳ Ｐゴシック"/>
              </a:rPr>
              <a:t>消費者行動の理論と分析</a:t>
            </a:r>
            <a:r>
              <a:rPr b="0" lang="en-US" sz="1700" spc="-1" strike="noStrike">
                <a:solidFill>
                  <a:srgbClr val="000000"/>
                </a:solidFill>
                <a:latin typeface="ＭＳ Ｐゴシック"/>
              </a:rPr>
              <a:t>』</a:t>
            </a:r>
            <a:r>
              <a:rPr b="0" lang="ja-JP" sz="1700" spc="-1" strike="noStrike">
                <a:solidFill>
                  <a:srgbClr val="000000"/>
                </a:solidFill>
                <a:latin typeface="ＭＳ Ｐゴシック"/>
              </a:rPr>
              <a:t>　中京大学商学会　２００２年</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Ｐｉｒｊｏ　Ｌａａｋｓｏｎｅｎ</a:t>
            </a:r>
            <a:r>
              <a:rPr b="0" lang="en-US" sz="1700" spc="-1" strike="noStrike">
                <a:solidFill>
                  <a:srgbClr val="000000"/>
                </a:solidFill>
                <a:latin typeface="ＭＳ Ｐゴシック"/>
              </a:rPr>
              <a:t>(1994)</a:t>
            </a:r>
            <a:endParaRPr b="0" lang="en-US" sz="17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ＭＳ Ｐゴシック"/>
              </a:rPr>
              <a:t>   </a:t>
            </a:r>
            <a:r>
              <a:rPr b="0" lang="en-US" sz="1700" spc="-1" strike="noStrike">
                <a:solidFill>
                  <a:srgbClr val="000000"/>
                </a:solidFill>
                <a:latin typeface="ＭＳ Ｐゴシック"/>
              </a:rPr>
              <a:t>『</a:t>
            </a:r>
            <a:r>
              <a:rPr b="0" i="1" lang="ja-JP" sz="1700" spc="-1" strike="noStrike">
                <a:solidFill>
                  <a:srgbClr val="000000"/>
                </a:solidFill>
                <a:latin typeface="ＭＳ Ｐゴシック"/>
              </a:rPr>
              <a:t>Ｃｏｎｓｕｍｅｒ　Ｉｎｖｏｌｖｅｍｅｎｔ－Ｃ</a:t>
            </a:r>
            <a:r>
              <a:rPr b="0" i="1" lang="en-US" sz="1700" spc="-1" strike="noStrike">
                <a:solidFill>
                  <a:srgbClr val="000000"/>
                </a:solidFill>
                <a:latin typeface="ＭＳ Ｐゴシック"/>
              </a:rPr>
              <a:t>oncepts and Research</a:t>
            </a:r>
            <a:r>
              <a:rPr b="0" lang="en-US" sz="1700" spc="-1" strike="noStrike">
                <a:solidFill>
                  <a:srgbClr val="000000"/>
                </a:solidFill>
                <a:latin typeface="ＭＳ Ｐゴシック"/>
              </a:rPr>
              <a:t>』</a:t>
            </a:r>
            <a:endParaRPr b="0" lang="en-US" sz="17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監訳者：池尾恭一、青木幸弘</a:t>
            </a:r>
            <a:r>
              <a:rPr b="0" lang="en-US" sz="1700" spc="-1" strike="noStrike">
                <a:solidFill>
                  <a:srgbClr val="000000"/>
                </a:solidFill>
                <a:latin typeface="ＭＳ Ｐゴシック"/>
              </a:rPr>
              <a:t>『</a:t>
            </a:r>
            <a:r>
              <a:rPr b="0" lang="ja-JP" sz="1700" spc="-1" strike="noStrike">
                <a:solidFill>
                  <a:srgbClr val="000000"/>
                </a:solidFill>
                <a:latin typeface="ＭＳ Ｐゴシック"/>
              </a:rPr>
              <a:t>消費者関与</a:t>
            </a:r>
            <a:r>
              <a:rPr b="0" lang="en-US" sz="1700" spc="-1" strike="noStrike">
                <a:solidFill>
                  <a:srgbClr val="000000"/>
                </a:solidFill>
                <a:latin typeface="ＭＳ Ｐゴシック"/>
              </a:rPr>
              <a:t>-</a:t>
            </a:r>
            <a:r>
              <a:rPr b="0" lang="ja-JP" sz="1700" spc="-1" strike="noStrike">
                <a:solidFill>
                  <a:srgbClr val="000000"/>
                </a:solidFill>
                <a:latin typeface="ＭＳ Ｐゴシック"/>
              </a:rPr>
              <a:t>概念と調査</a:t>
            </a:r>
            <a:r>
              <a:rPr b="0" lang="en-US" sz="1700" spc="-1" strike="noStrike">
                <a:solidFill>
                  <a:srgbClr val="000000"/>
                </a:solidFill>
                <a:latin typeface="ＭＳ Ｐゴシック"/>
              </a:rPr>
              <a:t>-</a:t>
            </a:r>
            <a:r>
              <a:rPr b="0" lang="en-US" sz="1700" spc="-1" strike="noStrike">
                <a:solidFill>
                  <a:srgbClr val="000000"/>
                </a:solidFill>
                <a:latin typeface="ＭＳ Ｐゴシック"/>
              </a:rPr>
              <a:t>』</a:t>
            </a:r>
            <a:r>
              <a:rPr b="0" lang="ja-JP" sz="1700" spc="-1" strike="noStrike">
                <a:solidFill>
                  <a:srgbClr val="000000"/>
                </a:solidFill>
                <a:latin typeface="ＭＳ Ｐゴシック"/>
              </a:rPr>
              <a:t>千倉書房　１９９８年）</a:t>
            </a:r>
            <a:endParaRPr b="0" lang="en-US" sz="17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Schoolbook"/>
            </a:endParaRPr>
          </a:p>
        </p:txBody>
      </p:sp>
      <p:sp>
        <p:nvSpPr>
          <p:cNvPr id="727" name="スライド番号プレースホルダ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51599-8105-46DF-B181-178E79CBD60F}" type="slidenum">
              <a:rPr b="1" lang="ja-JP" sz="1400" spc="-1" strike="noStrike">
                <a:solidFill>
                  <a:srgbClr val="ffffff"/>
                </a:solidFill>
                <a:latin typeface="Century Schoolbook"/>
              </a:rPr>
              <a:t>&lt;number&gt;</a:t>
            </a:fld>
            <a:endParaRPr b="0" lang="en-US" sz="1400" spc="-1" strike="noStrike">
              <a:solidFill>
                <a:srgbClr val="6633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スライド番号プレースホル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D6192-B711-42C4-9D73-1B3632CF0EF2}" type="slidenum">
              <a:rPr b="1" lang="ja-JP" sz="1400" spc="-1" strike="noStrike">
                <a:solidFill>
                  <a:srgbClr val="ffffff"/>
                </a:solidFill>
                <a:latin typeface="Century Schoolbook"/>
              </a:rPr>
              <a:t>&lt;number&gt;</a:t>
            </a:fld>
            <a:endParaRPr b="0" lang="en-US" sz="1400" spc="-1" strike="noStrike">
              <a:solidFill>
                <a:srgbClr val="663300"/>
              </a:solidFill>
              <a:latin typeface="Century Schoolbook"/>
            </a:endParaRPr>
          </a:p>
        </p:txBody>
      </p:sp>
      <p:sp>
        <p:nvSpPr>
          <p:cNvPr id="375"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rPr>
              <a:t>むやみにカラーバリエーションを展開しても、カラーバリエーションの効果を得ることは出来ないのではないか？</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rPr>
              <a:t>このことから、製品によるカラーバリエーションの効果の違いを明らかにすることで、効果的なカラーバリエーション展開の方法を提案する。</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575f6d"/>
                </a:solidFill>
                <a:latin typeface="Century Schoolbook"/>
              </a:rPr>
              <a:t>しかし</a:t>
            </a:r>
            <a:r>
              <a:rPr b="0" lang="en-US" sz="3000" spc="-1" strike="noStrike">
                <a:solidFill>
                  <a:srgbClr val="575f6d"/>
                </a:solidFill>
                <a:latin typeface="Century Schoolbook"/>
              </a:rPr>
              <a:t>…</a:t>
            </a:r>
            <a:endParaRPr b="0" lang="en-US" sz="30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456840" y="274680"/>
            <a:ext cx="746748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575f6d"/>
                </a:solidFill>
                <a:latin typeface="Century Schoolbook"/>
              </a:rPr>
              <a:t>参考資料②</a:t>
            </a:r>
            <a:endParaRPr b="0" lang="en-US" sz="3000" spc="-1" strike="noStrike">
              <a:solidFill>
                <a:srgbClr val="575f6d"/>
              </a:solidFill>
              <a:latin typeface="Century Schoolbook"/>
            </a:endParaRPr>
          </a:p>
        </p:txBody>
      </p:sp>
      <p:sp>
        <p:nvSpPr>
          <p:cNvPr id="729" name=""/>
          <p:cNvSpPr txBox="1"/>
          <p:nvPr/>
        </p:nvSpPr>
        <p:spPr>
          <a:xfrm>
            <a:off x="456840" y="928440"/>
            <a:ext cx="8115480" cy="55450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Schoolbook"/>
              </a:rPr>
              <a:t>嶋口充輝</a:t>
            </a:r>
            <a:r>
              <a:rPr b="0" lang="en-US" sz="1800" spc="-1" strike="noStrike">
                <a:solidFill>
                  <a:srgbClr val="000000"/>
                </a:solidFill>
                <a:latin typeface="Century Schoolbook"/>
              </a:rPr>
              <a:t>『</a:t>
            </a:r>
            <a:r>
              <a:rPr b="0" lang="ja-JP" sz="1800" spc="-1" strike="noStrike">
                <a:solidFill>
                  <a:srgbClr val="000000"/>
                </a:solidFill>
                <a:latin typeface="Century Schoolbook"/>
              </a:rPr>
              <a:t>顧客満足マーケティングの構図</a:t>
            </a:r>
            <a:r>
              <a:rPr b="0" lang="en-US" sz="1800" spc="-1" strike="noStrike">
                <a:solidFill>
                  <a:srgbClr val="000000"/>
                </a:solidFill>
                <a:latin typeface="Century Schoolbook"/>
              </a:rPr>
              <a:t>』</a:t>
            </a:r>
            <a:r>
              <a:rPr b="0" lang="ja-JP" sz="1800" spc="-1" strike="noStrike">
                <a:solidFill>
                  <a:srgbClr val="000000"/>
                </a:solidFill>
                <a:latin typeface="Century Schoolbook"/>
              </a:rPr>
              <a:t>　株式会社有斐閣　</a:t>
            </a:r>
            <a:r>
              <a:rPr b="0" lang="en-US" sz="1800" spc="-1" strike="noStrike">
                <a:solidFill>
                  <a:srgbClr val="000000"/>
                </a:solidFill>
                <a:latin typeface="Century Schoolbook"/>
              </a:rPr>
              <a:t>1994</a:t>
            </a:r>
            <a:r>
              <a:rPr b="0" lang="ja-JP" sz="1800" spc="-1" strike="noStrike">
                <a:solidFill>
                  <a:srgbClr val="000000"/>
                </a:solidFill>
                <a:latin typeface="Century Schoolbook"/>
              </a:rPr>
              <a:t>年</a:t>
            </a:r>
            <a:endParaRPr b="0" lang="en-US" sz="1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Schoolbook"/>
              </a:rPr>
              <a:t>片岡洋一</a:t>
            </a:r>
            <a:r>
              <a:rPr b="0" lang="en-US" sz="1800" spc="-1" strike="noStrike">
                <a:solidFill>
                  <a:srgbClr val="000000"/>
                </a:solidFill>
                <a:latin typeface="Century Schoolbook"/>
              </a:rPr>
              <a:t>『</a:t>
            </a:r>
            <a:r>
              <a:rPr b="0" lang="ja-JP" sz="1800" spc="-1" strike="noStrike">
                <a:solidFill>
                  <a:srgbClr val="000000"/>
                </a:solidFill>
                <a:latin typeface="Century Schoolbook"/>
              </a:rPr>
              <a:t>マーケティング戦略の意思決定</a:t>
            </a:r>
            <a:r>
              <a:rPr b="0" lang="en-US" sz="1800" spc="-1" strike="noStrike">
                <a:solidFill>
                  <a:srgbClr val="000000"/>
                </a:solidFill>
                <a:latin typeface="Century Schoolbook"/>
              </a:rPr>
              <a:t>』</a:t>
            </a:r>
            <a:r>
              <a:rPr b="0" lang="ja-JP" sz="1800" spc="-1" strike="noStrike">
                <a:solidFill>
                  <a:srgbClr val="000000"/>
                </a:solidFill>
                <a:latin typeface="Century Schoolbook"/>
              </a:rPr>
              <a:t>　富山インターナショナル　</a:t>
            </a:r>
            <a:r>
              <a:rPr b="0" lang="en-US" sz="1800" spc="-1" strike="noStrike">
                <a:solidFill>
                  <a:srgbClr val="000000"/>
                </a:solidFill>
                <a:latin typeface="Century Schoolbook"/>
              </a:rPr>
              <a:t>2007</a:t>
            </a:r>
            <a:r>
              <a:rPr b="0" lang="ja-JP" sz="1800" spc="-1" strike="noStrike">
                <a:solidFill>
                  <a:srgbClr val="000000"/>
                </a:solidFill>
                <a:latin typeface="Century Schoolbook"/>
              </a:rPr>
              <a:t>年</a:t>
            </a:r>
            <a:endParaRPr b="0" lang="en-US" sz="1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Schoolbook"/>
              </a:rPr>
              <a:t>佐野良夫</a:t>
            </a:r>
            <a:r>
              <a:rPr b="0" lang="en-US" sz="1800" spc="-1" strike="noStrike">
                <a:solidFill>
                  <a:srgbClr val="000000"/>
                </a:solidFill>
                <a:latin typeface="Century Schoolbook"/>
              </a:rPr>
              <a:t>『</a:t>
            </a:r>
            <a:r>
              <a:rPr b="0" lang="ja-JP" sz="1800" spc="-1" strike="noStrike">
                <a:solidFill>
                  <a:srgbClr val="000000"/>
                </a:solidFill>
                <a:latin typeface="Century Schoolbook"/>
              </a:rPr>
              <a:t>顧客満足の実際</a:t>
            </a:r>
            <a:r>
              <a:rPr b="0" lang="en-US" sz="1800" spc="-1" strike="noStrike">
                <a:solidFill>
                  <a:srgbClr val="000000"/>
                </a:solidFill>
                <a:latin typeface="Century Schoolbook"/>
              </a:rPr>
              <a:t>』</a:t>
            </a:r>
            <a:r>
              <a:rPr b="0" lang="ja-JP" sz="1800" spc="-1" strike="noStrike">
                <a:solidFill>
                  <a:srgbClr val="000000"/>
                </a:solidFill>
                <a:latin typeface="Century Schoolbook"/>
              </a:rPr>
              <a:t>　日本経済新聞社　１９９６年　</a:t>
            </a:r>
            <a:endParaRPr b="0" lang="en-US" sz="1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Schoolbook"/>
              </a:rPr>
              <a:t>田島義博、青木幸弘</a:t>
            </a:r>
            <a:r>
              <a:rPr b="0" lang="en-US" sz="1800" spc="-1" strike="noStrike">
                <a:solidFill>
                  <a:srgbClr val="000000"/>
                </a:solidFill>
                <a:latin typeface="Century Schoolbook"/>
              </a:rPr>
              <a:t>『</a:t>
            </a:r>
            <a:r>
              <a:rPr b="0" lang="ja-JP" sz="1800" spc="-1" strike="noStrike">
                <a:solidFill>
                  <a:srgbClr val="000000"/>
                </a:solidFill>
                <a:latin typeface="Century Schoolbook"/>
              </a:rPr>
              <a:t>店頭研究と消費者行動分析</a:t>
            </a:r>
            <a:r>
              <a:rPr b="0" lang="en-US" sz="1800" spc="-1" strike="noStrike">
                <a:solidFill>
                  <a:srgbClr val="000000"/>
                </a:solidFill>
                <a:latin typeface="Century Schoolbook"/>
              </a:rPr>
              <a:t>』</a:t>
            </a:r>
            <a:r>
              <a:rPr b="0" lang="ja-JP" sz="1800" spc="-1" strike="noStrike">
                <a:solidFill>
                  <a:srgbClr val="000000"/>
                </a:solidFill>
                <a:latin typeface="Century Schoolbook"/>
              </a:rPr>
              <a:t>１９８９年</a:t>
            </a:r>
            <a:endParaRPr b="0" lang="en-US" sz="1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Schoolbook"/>
              </a:rPr>
              <a:t>米谷雅之</a:t>
            </a:r>
            <a:r>
              <a:rPr b="0" lang="en-US" sz="1800" spc="-1" strike="noStrike">
                <a:solidFill>
                  <a:srgbClr val="000000"/>
                </a:solidFill>
                <a:latin typeface="Century Schoolbook"/>
              </a:rPr>
              <a:t>『</a:t>
            </a:r>
            <a:r>
              <a:rPr b="0" lang="ja-JP" sz="1800" spc="-1" strike="noStrike">
                <a:solidFill>
                  <a:srgbClr val="000000"/>
                </a:solidFill>
                <a:latin typeface="Century Schoolbook"/>
              </a:rPr>
              <a:t>現代製品戦略論</a:t>
            </a:r>
            <a:r>
              <a:rPr b="0" lang="en-US" sz="1800" spc="-1" strike="noStrike">
                <a:solidFill>
                  <a:srgbClr val="000000"/>
                </a:solidFill>
                <a:latin typeface="Century Schoolbook"/>
              </a:rPr>
              <a:t>』</a:t>
            </a:r>
            <a:r>
              <a:rPr b="0" lang="ja-JP" sz="1800" spc="-1" strike="noStrike">
                <a:solidFill>
                  <a:srgbClr val="000000"/>
                </a:solidFill>
                <a:latin typeface="Century Schoolbook"/>
              </a:rPr>
              <a:t>　千倉書房　</a:t>
            </a:r>
            <a:r>
              <a:rPr b="0" lang="en-US" sz="1800" spc="-1" strike="noStrike">
                <a:solidFill>
                  <a:srgbClr val="000000"/>
                </a:solidFill>
                <a:latin typeface="Century Schoolbook"/>
              </a:rPr>
              <a:t>2001</a:t>
            </a:r>
            <a:r>
              <a:rPr b="0" lang="ja-JP" sz="1800" spc="-1" strike="noStrike">
                <a:solidFill>
                  <a:srgbClr val="000000"/>
                </a:solidFill>
                <a:latin typeface="Century Schoolbook"/>
              </a:rPr>
              <a:t>年</a:t>
            </a:r>
            <a:endParaRPr b="0" lang="en-US" sz="1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730" name="スライド番号プレースホル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61F4B-4DC6-4E4B-9B7F-3371E167F1A6}" type="slidenum">
              <a:rPr b="1" lang="ja-JP" sz="1400" spc="-1" strike="noStrike">
                <a:solidFill>
                  <a:srgbClr val="ffffff"/>
                </a:solidFill>
                <a:latin typeface="Century Schoolbook"/>
              </a:rPr>
              <a:t>&lt;number&gt;</a:t>
            </a:fld>
            <a:endParaRPr b="0" lang="en-US" sz="1400" spc="-1" strike="noStrike">
              <a:solidFill>
                <a:srgbClr val="663300"/>
              </a:solidFill>
              <a:latin typeface="Century Schoolbook"/>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575f6d"/>
                </a:solidFill>
                <a:latin typeface="Century Schoolbook"/>
              </a:rPr>
              <a:t>参考</a:t>
            </a:r>
            <a:r>
              <a:rPr b="1" lang="en-US" sz="3000" spc="-1" strike="noStrike">
                <a:solidFill>
                  <a:srgbClr val="575f6d"/>
                </a:solidFill>
                <a:latin typeface="Century Schoolbook"/>
              </a:rPr>
              <a:t>URL</a:t>
            </a:r>
            <a:endParaRPr b="0" lang="en-US" sz="3000" spc="-1" strike="noStrike">
              <a:solidFill>
                <a:srgbClr val="575f6d"/>
              </a:solidFill>
              <a:latin typeface="Century Schoolbook"/>
            </a:endParaRPr>
          </a:p>
        </p:txBody>
      </p:sp>
      <p:sp>
        <p:nvSpPr>
          <p:cNvPr id="73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Brand</a:t>
            </a:r>
            <a:r>
              <a:rPr b="0" lang="ja-JP" sz="2400" spc="-1" strike="noStrike">
                <a:solidFill>
                  <a:srgbClr val="000000"/>
                </a:solidFill>
                <a:latin typeface="Century Schoolbook"/>
              </a:rPr>
              <a:t>　</a:t>
            </a:r>
            <a:r>
              <a:rPr b="0" lang="en-US" sz="2400" spc="-1" strike="noStrike">
                <a:solidFill>
                  <a:srgbClr val="000000"/>
                </a:solidFill>
                <a:latin typeface="Century Schoolbook"/>
              </a:rPr>
              <a:t>Produce</a:t>
            </a:r>
            <a:r>
              <a:rPr b="0" lang="ja-JP" sz="2400" spc="-1" strike="noStrike">
                <a:solidFill>
                  <a:srgbClr val="000000"/>
                </a:solidFill>
                <a:latin typeface="Century Schoolbook"/>
              </a:rPr>
              <a:t>　</a:t>
            </a:r>
            <a:r>
              <a:rPr b="0" lang="en-US" sz="2400" spc="-1" strike="noStrike">
                <a:solidFill>
                  <a:srgbClr val="000000"/>
                </a:solidFill>
                <a:latin typeface="Century Schoolbook"/>
              </a:rPr>
              <a:t>AWARENES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rPr>
              <a:t>　</a:t>
            </a:r>
            <a:r>
              <a:rPr b="0" lang="en-US" sz="2400" spc="-1" strike="noStrike" u="sng">
                <a:solidFill>
                  <a:srgbClr val="d2611c"/>
                </a:solidFill>
                <a:uFillTx/>
                <a:latin typeface="Century Schoolbook"/>
                <a:hlinkClick r:id="rId1"/>
              </a:rPr>
              <a:t>http://www.awareness.jp/index.html</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rPr>
              <a:t>マーケティングコラム</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rPr>
              <a:t>　</a:t>
            </a:r>
            <a:r>
              <a:rPr b="0" lang="en-US" sz="2400" spc="-1" strike="noStrike" u="sng">
                <a:solidFill>
                  <a:srgbClr val="d2611c"/>
                </a:solidFill>
                <a:uFillTx/>
                <a:latin typeface="Century Schoolbook"/>
                <a:hlinkClick r:id="rId2"/>
              </a:rPr>
              <a:t>http://www.pythagoras.co.jp/fmg_index.html</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rPr>
              <a:t>Ａｌｌ　Ａｂｏｕｔ</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rPr>
              <a:t>　</a:t>
            </a:r>
            <a:r>
              <a:rPr b="0" lang="en-US" sz="2400" spc="-1" strike="noStrike" u="sng">
                <a:solidFill>
                  <a:srgbClr val="d2611c"/>
                </a:solidFill>
                <a:uFillTx/>
                <a:latin typeface="Century Schoolbook"/>
                <a:hlinkClick r:id="rId3"/>
              </a:rPr>
              <a:t>http://allabout.co.jp/</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33" name="スライド番号プレースホルダ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A9AF7-D103-4156-BB63-CDDF27EBCE80}" type="slidenum">
              <a:rPr b="1" lang="ja-JP" sz="1400" spc="-1" strike="noStrike">
                <a:solidFill>
                  <a:srgbClr val="ffffff"/>
                </a:solidFill>
                <a:latin typeface="Century Schoolbook"/>
              </a:rPr>
              <a:t>&lt;number&gt;</a:t>
            </a:fld>
            <a:endParaRPr b="0" lang="en-US" sz="1400" spc="-1" strike="noStrike">
              <a:solidFill>
                <a:srgbClr val="6633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5" descr="C:\Documents and Settings\bc0701138\Local Settings\Temporary Internet Files\Content.IE5\M2M9QRIT\MCj04326080000[1].png"/>
          <p:cNvPicPr/>
          <p:nvPr/>
        </p:nvPicPr>
        <p:blipFill>
          <a:blip r:embed="rId1"/>
          <a:stretch/>
        </p:blipFill>
        <p:spPr>
          <a:xfrm>
            <a:off x="5143680" y="0"/>
            <a:ext cx="1643040" cy="1643040"/>
          </a:xfrm>
          <a:prstGeom prst="rect">
            <a:avLst/>
          </a:prstGeom>
          <a:ln w="0">
            <a:noFill/>
          </a:ln>
        </p:spPr>
      </p:pic>
      <p:sp>
        <p:nvSpPr>
          <p:cNvPr id="378" name=""/>
          <p:cNvSpPr txBox="1"/>
          <p:nvPr/>
        </p:nvSpPr>
        <p:spPr>
          <a:xfrm>
            <a:off x="285480" y="2000160"/>
            <a:ext cx="8286840" cy="4214880"/>
          </a:xfrm>
          <a:prstGeom prst="rect">
            <a:avLst/>
          </a:prstGeom>
          <a:noFill/>
          <a:ln w="0">
            <a:noFill/>
          </a:ln>
        </p:spPr>
        <p:txBody>
          <a:bodyPr anchor="t">
            <a:normAutofit fontScale="98000"/>
          </a:bodyPr>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rPr>
              <a:t>本研究ではカラーバリエーションを</a:t>
            </a:r>
            <a:endParaRPr b="0" lang="en-US" sz="24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Century Schoolbook"/>
              </a:rPr>
              <a:t>　　　　　　　　　　　　　　　　　　　　　　　　　　　　</a:t>
            </a:r>
            <a:endParaRPr b="0" lang="en-US" sz="24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rPr>
              <a:t>　　　　　　　　　　　　　　　　　　　　　　　　　　　　　　　　と定義する。</a:t>
            </a:r>
            <a:endParaRPr b="0" lang="en-US" sz="24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rPr>
              <a:t>また、カラーが製品の本質的機能となる製品は研究対象外とする。（ｅｘ：ファッション製品・塗料）</a:t>
            </a:r>
            <a:endParaRPr b="0" lang="en-US" sz="24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grpSp>
        <p:nvGrpSpPr>
          <p:cNvPr id="379" name="フレーム 9"/>
          <p:cNvGrpSpPr/>
          <p:nvPr/>
        </p:nvGrpSpPr>
        <p:grpSpPr>
          <a:xfrm>
            <a:off x="324000" y="2535120"/>
            <a:ext cx="8143560" cy="2146320"/>
            <a:chOff x="324000" y="2535120"/>
            <a:chExt cx="8143560" cy="2146320"/>
          </a:xfrm>
        </p:grpSpPr>
        <p:pic>
          <p:nvPicPr>
            <p:cNvPr id="380" name="フレーム 9" descr=""/>
            <p:cNvPicPr/>
            <p:nvPr/>
          </p:nvPicPr>
          <p:blipFill>
            <a:blip r:embed="rId2"/>
            <a:stretch/>
          </p:blipFill>
          <p:spPr>
            <a:xfrm>
              <a:off x="324000" y="2535120"/>
              <a:ext cx="8143560" cy="2146320"/>
            </a:xfrm>
            <a:prstGeom prst="rect">
              <a:avLst/>
            </a:prstGeom>
            <a:ln w="0">
              <a:noFill/>
            </a:ln>
          </p:spPr>
        </p:pic>
        <p:sp>
          <p:nvSpPr>
            <p:cNvPr id="381" name=""/>
            <p:cNvSpPr/>
            <p:nvPr/>
          </p:nvSpPr>
          <p:spPr>
            <a:xfrm>
              <a:off x="474840" y="2689200"/>
              <a:ext cx="7837200" cy="183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grpSp>
      <p:sp>
        <p:nvSpPr>
          <p:cNvPr id="382" name="PlaceHolder 1"/>
          <p:cNvSpPr>
            <a:spLocks noGrp="1"/>
          </p:cNvSpPr>
          <p:nvPr>
            <p:ph type="title"/>
          </p:nvPr>
        </p:nvSpPr>
        <p:spPr>
          <a:xfrm>
            <a:off x="428400" y="713880"/>
            <a:ext cx="7467480" cy="582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575f6d"/>
                </a:solidFill>
                <a:latin typeface="Century Schoolbook"/>
              </a:rPr>
              <a:t>カラーバリエーションの定義</a:t>
            </a:r>
            <a:endParaRPr b="0" lang="en-US" sz="3000" spc="-1" strike="noStrike">
              <a:solidFill>
                <a:srgbClr val="575f6d"/>
              </a:solidFill>
              <a:latin typeface="Century Schoolbook"/>
            </a:endParaRPr>
          </a:p>
        </p:txBody>
      </p:sp>
      <p:sp>
        <p:nvSpPr>
          <p:cNvPr id="383" name="正方形/長方形 13"/>
          <p:cNvSpPr/>
          <p:nvPr/>
        </p:nvSpPr>
        <p:spPr>
          <a:xfrm>
            <a:off x="571680" y="3000240"/>
            <a:ext cx="7858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rPr>
              <a:t>それぞれの商品における基本となる色彩および配色に対し、</a:t>
            </a:r>
            <a:endParaRPr b="0" lang="en-US" sz="24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rPr>
              <a:t>その感性・雰囲気を重視しながら施された</a:t>
            </a:r>
            <a:endParaRPr b="0" lang="en-US" sz="24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rPr>
              <a:t>違う配色で展開すること。</a:t>
            </a:r>
            <a:endParaRPr b="0" lang="en-US" sz="2400" spc="-1" strike="noStrike">
              <a:solidFill>
                <a:srgbClr val="663300"/>
              </a:solidFill>
              <a:latin typeface="Century Schoolbook"/>
            </a:endParaRPr>
          </a:p>
        </p:txBody>
      </p:sp>
      <p:sp>
        <p:nvSpPr>
          <p:cNvPr id="384" name="スライド番号プレースホルダ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E0361-6F68-40D7-AA31-50A69CC5F469}" type="slidenum">
              <a:rPr b="1" lang="ja-JP" sz="2800" spc="-1" strike="noStrike">
                <a:solidFill>
                  <a:srgbClr val="ffffff"/>
                </a:solidFill>
                <a:latin typeface="Century Schoolbook"/>
              </a:rPr>
              <a:t>&lt;number&gt;</a:t>
            </a:fld>
            <a:endParaRPr b="0" lang="en-US" sz="2800" spc="-1" strike="noStrike">
              <a:solidFill>
                <a:srgbClr val="663300"/>
              </a:solidFill>
              <a:latin typeface="Century Schoolbook"/>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379"/>
                                        </p:tgtEl>
                                        <p:attrNameLst>
                                          <p:attrName>style.visibility</p:attrName>
                                        </p:attrNameLst>
                                      </p:cBhvr>
                                      <p:to>
                                        <p:strVal val="visible"/>
                                      </p:to>
                                    </p:set>
                                    <p:animEffect filter="diamond(in)" transition="in">
                                      <p:cBhvr additive="repl">
                                        <p:cTn id="7" dur="1000"/>
                                        <p:tgtEl>
                                          <p:spTgt spid="379"/>
                                        </p:tgtEl>
                                      </p:cBhvr>
                                    </p:animEffect>
                                  </p:childTnLst>
                                </p:cTn>
                              </p:par>
                              <p:par>
                                <p:cTn id="8" nodeType="withEffect" fill="hold" presetClass="entr" presetID="8" presetSubtype="16">
                                  <p:stCondLst>
                                    <p:cond delay="0"/>
                                  </p:stCondLst>
                                  <p:childTnLst>
                                    <p:set>
                                      <p:cBhvr>
                                        <p:cTn id="9" dur="1" fill="hold">
                                          <p:stCondLst>
                                            <p:cond delay="0"/>
                                          </p:stCondLst>
                                        </p:cTn>
                                        <p:tgtEl>
                                          <p:spTgt spid="383"/>
                                        </p:tgtEl>
                                        <p:attrNameLst>
                                          <p:attrName>style.visibility</p:attrName>
                                        </p:attrNameLst>
                                      </p:cBhvr>
                                      <p:to>
                                        <p:strVal val="visible"/>
                                      </p:to>
                                    </p:set>
                                    <p:animEffect filter="diamond(in)" transition="in">
                                      <p:cBhvr additive="repl">
                                        <p:cTn id="10" dur="10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スライド番号プレースホルダ 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20B2B-1ED5-42E6-89BF-1175242CF13A}" type="slidenum">
              <a:rPr b="1" lang="ja-JP" sz="2800" spc="-1" strike="noStrike">
                <a:solidFill>
                  <a:srgbClr val="ffffff"/>
                </a:solidFill>
                <a:latin typeface="Century Schoolbook"/>
              </a:rPr>
              <a:t>&lt;number&gt;</a:t>
            </a:fld>
            <a:endParaRPr b="0" lang="en-US" sz="2800" spc="-1" strike="noStrike">
              <a:solidFill>
                <a:srgbClr val="663300"/>
              </a:solidFill>
              <a:latin typeface="Century Schoolbook"/>
            </a:endParaRPr>
          </a:p>
        </p:txBody>
      </p:sp>
      <p:pic>
        <p:nvPicPr>
          <p:cNvPr id="386" name="Picture 16" descr="C:\Documents and Settings\bm0701469\Local Settings\Temporary Internet Files\Content.IE5\80LNMNUP\MPj04394510000[1].jpg"/>
          <p:cNvPicPr/>
          <p:nvPr/>
        </p:nvPicPr>
        <p:blipFill>
          <a:blip r:embed="rId1"/>
          <a:stretch/>
        </p:blipFill>
        <p:spPr>
          <a:xfrm>
            <a:off x="142920" y="3540240"/>
            <a:ext cx="2214360" cy="3317760"/>
          </a:xfrm>
          <a:prstGeom prst="rect">
            <a:avLst/>
          </a:prstGeom>
          <a:ln w="0">
            <a:noFill/>
          </a:ln>
        </p:spPr>
      </p:pic>
      <p:sp>
        <p:nvSpPr>
          <p:cNvPr id="387" name="雲形吹き出し 30"/>
          <p:cNvSpPr/>
          <p:nvPr/>
        </p:nvSpPr>
        <p:spPr>
          <a:xfrm>
            <a:off x="857160" y="928800"/>
            <a:ext cx="7715520" cy="3786120"/>
          </a:xfrm>
          <a:prstGeom prst="cloudCallout">
            <a:avLst>
              <a:gd name="adj1" fmla="val -29787"/>
              <a:gd name="adj2" fmla="val 69300"/>
            </a:avLst>
          </a:prstGeom>
          <a:solidFill>
            <a:srgbClr val="ffffff"/>
          </a:solidFill>
          <a:ln w="25560">
            <a:solidFill>
              <a:srgbClr val="bb612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663300"/>
                </a:solidFill>
                <a:latin typeface="Century Schoolbook"/>
              </a:rPr>
              <a:t>企業にとっての</a:t>
            </a:r>
            <a:endParaRPr b="0" lang="en-US" sz="32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663300"/>
                </a:solidFill>
                <a:latin typeface="Century Schoolbook"/>
              </a:rPr>
              <a:t>カラーバリエーション</a:t>
            </a:r>
            <a:endParaRPr b="0" lang="en-US" sz="32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663300"/>
                </a:solidFill>
                <a:latin typeface="Century Schoolbook"/>
              </a:rPr>
              <a:t>とは？？</a:t>
            </a:r>
            <a:endParaRPr b="0" lang="en-US" sz="3200" spc="-1" strike="noStrike">
              <a:solidFill>
                <a:srgbClr val="663300"/>
              </a:solidFill>
              <a:latin typeface="Century Schoolbook"/>
            </a:endParaRPr>
          </a:p>
        </p:txBody>
      </p:sp>
      <p:sp>
        <p:nvSpPr>
          <p:cNvPr id="388" name="テキスト ボックス 4"/>
          <p:cNvSpPr/>
          <p:nvPr/>
        </p:nvSpPr>
        <p:spPr>
          <a:xfrm>
            <a:off x="357120" y="357120"/>
            <a:ext cx="3071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丸ｺﾞｼｯｸM-PRO"/>
                <a:ea typeface="HG丸ｺﾞｼｯｸM-PRO"/>
              </a:rPr>
              <a:t>問題意識</a:t>
            </a:r>
            <a:endParaRPr b="0" lang="en-US" sz="4400" spc="-1" strike="noStrike">
              <a:solidFill>
                <a:srgbClr val="6633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円/楕円 2"/>
          <p:cNvSpPr/>
          <p:nvPr/>
        </p:nvSpPr>
        <p:spPr>
          <a:xfrm>
            <a:off x="108000" y="1052640"/>
            <a:ext cx="4643280" cy="50720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390" name="円/楕円 3"/>
          <p:cNvSpPr/>
          <p:nvPr/>
        </p:nvSpPr>
        <p:spPr>
          <a:xfrm>
            <a:off x="468360" y="1557360"/>
            <a:ext cx="4000320" cy="42148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391" name="円/楕円 4"/>
          <p:cNvSpPr/>
          <p:nvPr/>
        </p:nvSpPr>
        <p:spPr>
          <a:xfrm>
            <a:off x="900000" y="2060640"/>
            <a:ext cx="3143520" cy="32860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392" name="円/楕円 5"/>
          <p:cNvSpPr/>
          <p:nvPr/>
        </p:nvSpPr>
        <p:spPr>
          <a:xfrm>
            <a:off x="1332000" y="2565360"/>
            <a:ext cx="2286000" cy="23576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393" name="円/楕円 6"/>
          <p:cNvSpPr/>
          <p:nvPr/>
        </p:nvSpPr>
        <p:spPr>
          <a:xfrm>
            <a:off x="1763640" y="3068640"/>
            <a:ext cx="1428840" cy="135720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394" name="テキスト ボックス 7"/>
          <p:cNvSpPr/>
          <p:nvPr/>
        </p:nvSpPr>
        <p:spPr>
          <a:xfrm>
            <a:off x="2071800" y="2571840"/>
            <a:ext cx="1000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862110"/>
                </a:solidFill>
                <a:latin typeface="Century Schoolbook"/>
              </a:rPr>
              <a:t>基本</a:t>
            </a:r>
            <a:endParaRPr b="0" lang="en-US" sz="2800" spc="-1" strike="noStrike">
              <a:solidFill>
                <a:srgbClr val="663300"/>
              </a:solidFill>
              <a:latin typeface="Century Schoolbook"/>
            </a:endParaRPr>
          </a:p>
        </p:txBody>
      </p:sp>
      <p:sp>
        <p:nvSpPr>
          <p:cNvPr id="395" name="正方形/長方形 8"/>
          <p:cNvSpPr/>
          <p:nvPr/>
        </p:nvSpPr>
        <p:spPr>
          <a:xfrm>
            <a:off x="2194920" y="2060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862110"/>
                </a:solidFill>
                <a:latin typeface="Century Schoolbook"/>
              </a:rPr>
              <a:t>期待</a:t>
            </a:r>
            <a:endParaRPr b="0" lang="en-US" sz="2800" spc="-1" strike="noStrike">
              <a:solidFill>
                <a:srgbClr val="663300"/>
              </a:solidFill>
              <a:latin typeface="Century Schoolbook"/>
            </a:endParaRPr>
          </a:p>
        </p:txBody>
      </p:sp>
      <p:sp>
        <p:nvSpPr>
          <p:cNvPr id="396" name="テキスト ボックス 9"/>
          <p:cNvSpPr/>
          <p:nvPr/>
        </p:nvSpPr>
        <p:spPr>
          <a:xfrm>
            <a:off x="2071800" y="1571760"/>
            <a:ext cx="928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862110"/>
                </a:solidFill>
                <a:latin typeface="Century Schoolbook"/>
              </a:rPr>
              <a:t>拡大</a:t>
            </a:r>
            <a:endParaRPr b="0" lang="en-US" sz="2800" spc="-1" strike="noStrike">
              <a:solidFill>
                <a:srgbClr val="663300"/>
              </a:solidFill>
              <a:latin typeface="Century Schoolbook"/>
            </a:endParaRPr>
          </a:p>
        </p:txBody>
      </p:sp>
      <p:sp>
        <p:nvSpPr>
          <p:cNvPr id="397" name="正方形/長方形 10"/>
          <p:cNvSpPr/>
          <p:nvPr/>
        </p:nvSpPr>
        <p:spPr>
          <a:xfrm>
            <a:off x="2221200" y="10717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862110"/>
                </a:solidFill>
                <a:latin typeface="Century Schoolbook"/>
              </a:rPr>
              <a:t>潜在</a:t>
            </a:r>
            <a:endParaRPr b="0" lang="en-US" sz="2800" spc="-1" strike="noStrike">
              <a:solidFill>
                <a:srgbClr val="663300"/>
              </a:solidFill>
              <a:latin typeface="Century Schoolbook"/>
            </a:endParaRPr>
          </a:p>
        </p:txBody>
      </p:sp>
      <p:sp>
        <p:nvSpPr>
          <p:cNvPr id="398" name="テキスト ボックス 11"/>
          <p:cNvSpPr/>
          <p:nvPr/>
        </p:nvSpPr>
        <p:spPr>
          <a:xfrm>
            <a:off x="2000160" y="3429000"/>
            <a:ext cx="928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862110"/>
                </a:solidFill>
                <a:latin typeface="Century Schoolbook"/>
              </a:rPr>
              <a:t>中核</a:t>
            </a:r>
            <a:endParaRPr b="0" lang="en-US" sz="2800" spc="-1" strike="noStrike">
              <a:solidFill>
                <a:srgbClr val="663300"/>
              </a:solidFill>
              <a:latin typeface="Century Schoolbook"/>
            </a:endParaRPr>
          </a:p>
        </p:txBody>
      </p:sp>
      <p:sp>
        <p:nvSpPr>
          <p:cNvPr id="399" name="スライド番号プレースホルダ 15"/>
          <p:cNvSpPr/>
          <p:nvPr/>
        </p:nvSpPr>
        <p:spPr>
          <a:xfrm>
            <a:off x="8143920" y="5715000"/>
            <a:ext cx="60948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3C997-6E64-4CE7-AAF1-09446893E672}" type="slidenum">
              <a:rPr b="1" lang="ja-JP" sz="2800" spc="-1" strike="noStrike">
                <a:solidFill>
                  <a:srgbClr val="ffffff"/>
                </a:solidFill>
                <a:latin typeface="Century Schoolbook"/>
              </a:rPr>
              <a:t>&lt;number&gt;</a:t>
            </a:fld>
            <a:endParaRPr b="0" lang="en-US" sz="2800" spc="-1" strike="noStrike">
              <a:solidFill>
                <a:srgbClr val="663300"/>
              </a:solidFill>
              <a:latin typeface="Century Schoolbook"/>
            </a:endParaRPr>
          </a:p>
        </p:txBody>
      </p:sp>
      <p:sp>
        <p:nvSpPr>
          <p:cNvPr id="400" name="正方形/長方形 16"/>
          <p:cNvSpPr/>
          <p:nvPr/>
        </p:nvSpPr>
        <p:spPr>
          <a:xfrm>
            <a:off x="5643720" y="6286680"/>
            <a:ext cx="2857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entury Schoolbook"/>
              </a:rPr>
              <a:t>（フィリップ</a:t>
            </a:r>
            <a:r>
              <a:rPr b="1" lang="en-US" sz="1800" spc="-1" strike="noStrike">
                <a:solidFill>
                  <a:srgbClr val="000000"/>
                </a:solidFill>
                <a:latin typeface="Century Schoolbook"/>
              </a:rPr>
              <a:t>.</a:t>
            </a:r>
            <a:r>
              <a:rPr b="1" lang="ja-JP" sz="1800" spc="-1" strike="noStrike">
                <a:solidFill>
                  <a:srgbClr val="000000"/>
                </a:solidFill>
                <a:latin typeface="Century Schoolbook"/>
              </a:rPr>
              <a:t>コトラー　２００８）</a:t>
            </a:r>
            <a:endParaRPr b="0" lang="en-US" sz="1800" spc="-1" strike="noStrike">
              <a:solidFill>
                <a:srgbClr val="663300"/>
              </a:solidFill>
              <a:latin typeface="Century Schoolbook"/>
            </a:endParaRPr>
          </a:p>
        </p:txBody>
      </p:sp>
      <p:sp>
        <p:nvSpPr>
          <p:cNvPr id="401" name="タイトル 7"/>
          <p:cNvSpPr/>
          <p:nvPr/>
        </p:nvSpPr>
        <p:spPr>
          <a:xfrm>
            <a:off x="285840" y="214200"/>
            <a:ext cx="7467480" cy="582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575f6d"/>
                </a:solidFill>
                <a:latin typeface="Century Schoolbook"/>
              </a:rPr>
              <a:t>カラーバリエーションとは？</a:t>
            </a:r>
            <a:endParaRPr b="0" lang="en-US" sz="3000" spc="-1" strike="noStrike">
              <a:solidFill>
                <a:srgbClr val="663300"/>
              </a:solidFill>
              <a:latin typeface="Century Schoolbook"/>
            </a:endParaRPr>
          </a:p>
        </p:txBody>
      </p:sp>
      <p:pic>
        <p:nvPicPr>
          <p:cNvPr id="402" name="図表 19" descr=""/>
          <p:cNvPicPr/>
          <p:nvPr/>
        </p:nvPicPr>
        <p:blipFill>
          <a:blip r:embed="rId1"/>
          <a:stretch/>
        </p:blipFill>
        <p:spPr>
          <a:xfrm>
            <a:off x="4065480" y="762120"/>
            <a:ext cx="4535640" cy="5510160"/>
          </a:xfrm>
          <a:prstGeom prst="rect">
            <a:avLst/>
          </a:prstGeom>
          <a:ln w="0">
            <a:noFill/>
          </a:ln>
        </p:spPr>
      </p:pic>
      <p:sp>
        <p:nvSpPr>
          <p:cNvPr id="403" name="円/楕円 20"/>
          <p:cNvSpPr/>
          <p:nvPr/>
        </p:nvSpPr>
        <p:spPr>
          <a:xfrm>
            <a:off x="3857760" y="3929040"/>
            <a:ext cx="1357200" cy="2214720"/>
          </a:xfrm>
          <a:prstGeom prst="ellipse">
            <a:avLst/>
          </a:prstGeom>
          <a:noFill/>
          <a:ln cap="sq" w="88920">
            <a:solidFill>
              <a:srgbClr val="ff0000"/>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grpSp>
        <p:nvGrpSpPr>
          <p:cNvPr id="404" name="右矢印吹き出し 21"/>
          <p:cNvGrpSpPr/>
          <p:nvPr/>
        </p:nvGrpSpPr>
        <p:grpSpPr>
          <a:xfrm>
            <a:off x="182520" y="4370400"/>
            <a:ext cx="4133880" cy="1122480"/>
            <a:chOff x="182520" y="4370400"/>
            <a:chExt cx="4133880" cy="1122480"/>
          </a:xfrm>
        </p:grpSpPr>
        <p:pic>
          <p:nvPicPr>
            <p:cNvPr id="405" name="右矢印吹き出し 21" descr=""/>
            <p:cNvPicPr/>
            <p:nvPr/>
          </p:nvPicPr>
          <p:blipFill>
            <a:blip r:embed="rId2"/>
            <a:stretch/>
          </p:blipFill>
          <p:spPr>
            <a:xfrm>
              <a:off x="182520" y="4370400"/>
              <a:ext cx="4133880" cy="1122480"/>
            </a:xfrm>
            <a:prstGeom prst="rect">
              <a:avLst/>
            </a:prstGeom>
            <a:ln w="0">
              <a:noFill/>
            </a:ln>
          </p:spPr>
        </p:pic>
        <p:sp>
          <p:nvSpPr>
            <p:cNvPr id="406" name=""/>
            <p:cNvSpPr/>
            <p:nvPr/>
          </p:nvSpPr>
          <p:spPr>
            <a:xfrm>
              <a:off x="210960" y="4398840"/>
              <a:ext cx="3610080" cy="1071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663300"/>
                  </a:solidFill>
                  <a:latin typeface="Century Schoolbook"/>
                </a:rPr>
                <a:t>カラーバリエーション</a:t>
              </a:r>
              <a:endParaRPr b="0" lang="en-US" sz="2800" spc="-1" strike="noStrike">
                <a:solidFill>
                  <a:srgbClr val="663300"/>
                </a:solidFill>
                <a:latin typeface="Century Schoolbook"/>
              </a:endParaRPr>
            </a:p>
          </p:txBody>
        </p:sp>
      </p:grpSp>
      <p:sp>
        <p:nvSpPr>
          <p:cNvPr id="407" name="正方形/長方形 23"/>
          <p:cNvSpPr/>
          <p:nvPr/>
        </p:nvSpPr>
        <p:spPr>
          <a:xfrm>
            <a:off x="4471920" y="6429240"/>
            <a:ext cx="92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Schoolbook"/>
              </a:rPr>
              <a:t>＊筆者加筆修正</a:t>
            </a:r>
            <a:endParaRPr b="0" lang="en-US" sz="1400" spc="-1" strike="noStrike">
              <a:solidFill>
                <a:srgbClr val="663300"/>
              </a:solidFill>
              <a:latin typeface="Century Schoolbook"/>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403"/>
                                        </p:tgtEl>
                                        <p:attrNameLst>
                                          <p:attrName>style.visibility</p:attrName>
                                        </p:attrNameLst>
                                      </p:cBhvr>
                                      <p:to>
                                        <p:strVal val="visible"/>
                                      </p:to>
                                    </p:set>
                                    <p:animEffect filter="dissolve" transition="in">
                                      <p:cBhvr additive="repl">
                                        <p:cTn id="17" dur="500"/>
                                        <p:tgtEl>
                                          <p:spTgt spid="403"/>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404"/>
                                        </p:tgtEl>
                                        <p:attrNameLst>
                                          <p:attrName>style.visibility</p:attrName>
                                        </p:attrNameLst>
                                      </p:cBhvr>
                                      <p:to>
                                        <p:strVal val="visible"/>
                                      </p:to>
                                    </p:set>
                                    <p:animEffect filter="wipe(down)" transition="in">
                                      <p:cBhvr additive="repl">
                                        <p:cTn id="22" dur="5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スライド番号プレースホルダ 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D1D3A-A995-4A85-BA16-5688D162E34B}" type="slidenum">
              <a:rPr b="1" lang="ja-JP" sz="2800" spc="-1" strike="noStrike">
                <a:solidFill>
                  <a:srgbClr val="ffffff"/>
                </a:solidFill>
                <a:latin typeface="Century Schoolbook"/>
              </a:rPr>
              <a:t>&lt;number&gt;</a:t>
            </a:fld>
            <a:endParaRPr b="0" lang="en-US" sz="2800" spc="-1" strike="noStrike">
              <a:solidFill>
                <a:srgbClr val="663300"/>
              </a:solidFill>
              <a:latin typeface="Century Schoolbook"/>
            </a:endParaRPr>
          </a:p>
        </p:txBody>
      </p:sp>
      <p:sp>
        <p:nvSpPr>
          <p:cNvPr id="409" name="フローチャート: 処理 2"/>
          <p:cNvSpPr/>
          <p:nvPr/>
        </p:nvSpPr>
        <p:spPr>
          <a:xfrm>
            <a:off x="500040" y="4000680"/>
            <a:ext cx="7429680" cy="2286000"/>
          </a:xfrm>
          <a:prstGeom prst="flowChartProcess">
            <a:avLst/>
          </a:prstGeom>
          <a:solidFill>
            <a:srgbClr val="ffffff"/>
          </a:solidFill>
          <a:ln w="25560">
            <a:solidFill>
              <a:srgbClr val="bb612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663300"/>
                </a:solidFill>
                <a:latin typeface="Century Schoolbook"/>
              </a:rPr>
              <a:t>カラーバリエーションは</a:t>
            </a:r>
            <a:endParaRPr b="0" lang="en-US" sz="36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663300"/>
                </a:solidFill>
                <a:latin typeface="Century Schoolbook"/>
              </a:rPr>
              <a:t>成熟期に使われる</a:t>
            </a:r>
            <a:endParaRPr b="0" lang="en-US" sz="36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663300"/>
                </a:solidFill>
                <a:latin typeface="Century Schoolbook"/>
              </a:rPr>
              <a:t>差別化の戦略である。</a:t>
            </a:r>
            <a:endParaRPr b="0" lang="en-US" sz="3600" spc="-1" strike="noStrike">
              <a:solidFill>
                <a:srgbClr val="663300"/>
              </a:solidFill>
              <a:latin typeface="Century Schoolbook"/>
            </a:endParaRPr>
          </a:p>
        </p:txBody>
      </p:sp>
      <p:sp>
        <p:nvSpPr>
          <p:cNvPr id="410" name="下矢印 3"/>
          <p:cNvSpPr/>
          <p:nvPr/>
        </p:nvSpPr>
        <p:spPr>
          <a:xfrm>
            <a:off x="3929040" y="3071880"/>
            <a:ext cx="500040" cy="642960"/>
          </a:xfrm>
          <a:prstGeom prst="downArrow">
            <a:avLst>
              <a:gd name="adj1" fmla="val 50000"/>
              <a:gd name="adj2" fmla="val 50004"/>
            </a:avLst>
          </a:prstGeom>
          <a:solidFill>
            <a:srgbClr val="fb9bb9"/>
          </a:solidFill>
          <a:ln w="25560">
            <a:solidFill>
              <a:srgbClr val="bb612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Century Schoolbook"/>
            </a:endParaRPr>
          </a:p>
        </p:txBody>
      </p:sp>
      <p:sp>
        <p:nvSpPr>
          <p:cNvPr id="411" name="テキスト ボックス 5"/>
          <p:cNvSpPr/>
          <p:nvPr/>
        </p:nvSpPr>
        <p:spPr>
          <a:xfrm>
            <a:off x="357120" y="642960"/>
            <a:ext cx="821556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entury Schoolbook"/>
              </a:rPr>
              <a:t>市場が成長期にある製品では</a:t>
            </a:r>
            <a:endParaRPr b="0" lang="en-US" sz="3200" spc="-1" strike="noStrike">
              <a:solidFill>
                <a:srgbClr val="6633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entury Schoolbook"/>
              </a:rPr>
              <a:t>　　　　　　　　　競争は主に期待レベルで起こり、</a:t>
            </a:r>
            <a:endParaRPr b="0" lang="en-US" sz="3200" spc="-1" strike="noStrike">
              <a:solidFill>
                <a:srgbClr val="6633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entury Schoolbook"/>
              </a:rPr>
              <a:t>市場が成熟するにつれて</a:t>
            </a:r>
            <a:endParaRPr b="0" lang="en-US" sz="3200" spc="-1" strike="noStrike">
              <a:solidFill>
                <a:srgbClr val="6633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entury Schoolbook"/>
              </a:rPr>
              <a:t>　　　　　　　　　拡大・潜在レベルで競争が起こる。</a:t>
            </a:r>
            <a:endParaRPr b="0" lang="en-US" sz="3200" spc="-1" strike="noStrike">
              <a:solidFill>
                <a:srgbClr val="6633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スライド番号プレースホルダ 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DE7CD-BE9E-4DC2-93DB-F65E13AEDC5D}" type="slidenum">
              <a:rPr b="1" lang="ja-JP" sz="2800" spc="-1" strike="noStrike">
                <a:solidFill>
                  <a:srgbClr val="ffffff"/>
                </a:solidFill>
                <a:latin typeface="Century Schoolbook"/>
              </a:rPr>
              <a:t>&lt;number&gt;</a:t>
            </a:fld>
            <a:endParaRPr b="0" lang="en-US" sz="2800" spc="-1" strike="noStrike">
              <a:solidFill>
                <a:srgbClr val="663300"/>
              </a:solidFill>
              <a:latin typeface="Century Schoolbook"/>
            </a:endParaRPr>
          </a:p>
        </p:txBody>
      </p:sp>
      <p:sp>
        <p:nvSpPr>
          <p:cNvPr id="413" name="正方形/長方形 2"/>
          <p:cNvSpPr/>
          <p:nvPr/>
        </p:nvSpPr>
        <p:spPr>
          <a:xfrm>
            <a:off x="1000080" y="1428840"/>
            <a:ext cx="7143840" cy="3786120"/>
          </a:xfrm>
          <a:prstGeom prst="rect">
            <a:avLst/>
          </a:prstGeom>
          <a:solidFill>
            <a:srgbClr val="ffffff"/>
          </a:solidFill>
          <a:ln w="25560">
            <a:solidFill>
              <a:srgbClr val="bb612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663300"/>
                </a:solidFill>
                <a:latin typeface="Century Schoolbook"/>
              </a:rPr>
              <a:t>成熟期において</a:t>
            </a:r>
            <a:endParaRPr b="0" lang="en-US" sz="24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663300"/>
                </a:solidFill>
                <a:latin typeface="Century Schoolbook"/>
              </a:rPr>
              <a:t>本質的機能での差別化は難しく、</a:t>
            </a:r>
            <a:endParaRPr b="0" lang="en-US" sz="24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663300"/>
                </a:solidFill>
                <a:latin typeface="Century Schoolbook"/>
              </a:rPr>
              <a:t>カラーバリエーションなどの表層的機能で</a:t>
            </a:r>
            <a:endParaRPr b="0" lang="en-US" sz="24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663300"/>
                </a:solidFill>
                <a:latin typeface="Century Schoolbook"/>
              </a:rPr>
              <a:t>差別化を行い</a:t>
            </a:r>
            <a:endParaRPr b="0" lang="en-US" sz="24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663300"/>
                </a:solidFill>
                <a:latin typeface="Century Schoolbook"/>
              </a:rPr>
              <a:t>顧客の満足度を高めることは</a:t>
            </a:r>
            <a:endParaRPr b="0" lang="en-US" sz="2400" spc="-1" strike="noStrike">
              <a:solidFill>
                <a:srgbClr val="6633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663300"/>
                </a:solidFill>
                <a:latin typeface="Century Schoolbook"/>
              </a:rPr>
              <a:t>企業にとってメリットとなる。</a:t>
            </a:r>
            <a:endParaRPr b="0" lang="en-US" sz="2400" spc="-1" strike="noStrike">
              <a:solidFill>
                <a:srgbClr val="6633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2T06:33:04Z</dcterms:created>
  <dc:creator>東洋大学</dc:creator>
  <dc:description/>
  <dc:language>en-US</dc:language>
  <cp:lastModifiedBy> </cp:lastModifiedBy>
  <dcterms:modified xsi:type="dcterms:W3CDTF">2009-12-19T14:30:55Z</dcterms:modified>
  <cp:revision>360</cp:revision>
  <dc:subject/>
  <dc:title>カラーバリエーション（仮）</dc:title>
</cp:coreProperties>
</file>